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760-A91A-472B-AD87-53FDC8C1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FE4-D46B-4837-BFC5-8872968C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8D06-B8D9-4C52-A4FE-25A7F009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257-2CBB-4DD7-8EF4-FC745565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A40-9C44-46CF-BE2F-95A920B1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C194-68DF-4C21-89DD-BACA7A02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0FE-C4E5-4DBF-9A6D-CE0E4E2E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1A1F-29E0-4F97-927B-4DA3706F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1A8B-6BFD-4D92-BC30-02A36936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7749-B560-4833-83D5-2D7F0BFC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48EB-5EB5-4372-A391-6B76460D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CBE-8885-451A-8AA1-7A3E5680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977B-57CB-4C75-900C-88C6E2CB3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ner: How many diagonals does each polygon have?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draw a picture if it will help yo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Oct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Hex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16160" y="1660680"/>
            <a:ext cx="1251000" cy="688680"/>
          </a:xfrm>
          <a:custGeom>
            <a:avLst/>
            <a:gdLst/>
            <a:ahLst/>
            <a:rect l="l" t="t" r="r" b="b"/>
            <a:pathLst>
              <a:path w="3473" h="1911">
                <a:moveTo>
                  <a:pt x="8830" y="5011"/>
                </a:moveTo>
                <a:cubicBezTo>
                  <a:pt x="8830" y="5309"/>
                  <a:pt x="8825" y="5608"/>
                  <a:pt x="8781" y="5904"/>
                </a:cubicBezTo>
                <a:cubicBezTo>
                  <a:pt x="8755" y="6074"/>
                  <a:pt x="8702" y="6237"/>
                  <a:pt x="8657" y="6400"/>
                </a:cubicBezTo>
                <a:cubicBezTo>
                  <a:pt x="8802" y="6391"/>
                  <a:pt x="8929" y="6377"/>
                  <a:pt x="9079" y="6375"/>
                </a:cubicBezTo>
                <a:cubicBezTo>
                  <a:pt x="9335" y="6372"/>
                  <a:pt x="9625" y="6336"/>
                  <a:pt x="9872" y="6424"/>
                </a:cubicBezTo>
                <a:cubicBezTo>
                  <a:pt x="9913" y="6439"/>
                  <a:pt x="9952" y="6436"/>
                  <a:pt x="9996" y="6449"/>
                </a:cubicBezTo>
                <a:cubicBezTo>
                  <a:pt x="10034" y="6460"/>
                  <a:pt x="10053" y="6469"/>
                  <a:pt x="10096" y="6474"/>
                </a:cubicBezTo>
                <a:cubicBezTo>
                  <a:pt x="10137" y="6474"/>
                  <a:pt x="10145" y="6474"/>
                  <a:pt x="10170" y="6474"/>
                </a:cubicBezTo>
                <a:cubicBezTo>
                  <a:pt x="10189" y="6408"/>
                  <a:pt x="10237" y="6231"/>
                  <a:pt x="10244" y="6127"/>
                </a:cubicBezTo>
                <a:cubicBezTo>
                  <a:pt x="10262" y="5862"/>
                  <a:pt x="10291" y="5619"/>
                  <a:pt x="10344" y="5358"/>
                </a:cubicBezTo>
                <a:cubicBezTo>
                  <a:pt x="10366" y="5251"/>
                  <a:pt x="10373" y="5140"/>
                  <a:pt x="10393" y="5035"/>
                </a:cubicBezTo>
                <a:cubicBezTo>
                  <a:pt x="10409" y="4951"/>
                  <a:pt x="10446" y="4869"/>
                  <a:pt x="10468" y="4787"/>
                </a:cubicBezTo>
                <a:cubicBezTo>
                  <a:pt x="10468" y="4779"/>
                  <a:pt x="10468" y="4770"/>
                  <a:pt x="10468" y="4762"/>
                </a:cubicBezTo>
                <a:cubicBezTo>
                  <a:pt x="10354" y="4776"/>
                  <a:pt x="10265" y="4764"/>
                  <a:pt x="10145" y="4762"/>
                </a:cubicBezTo>
                <a:cubicBezTo>
                  <a:pt x="9980" y="4759"/>
                  <a:pt x="9812" y="4764"/>
                  <a:pt x="9649" y="4738"/>
                </a:cubicBezTo>
                <a:cubicBezTo>
                  <a:pt x="9519" y="4717"/>
                  <a:pt x="9411" y="4660"/>
                  <a:pt x="9277" y="4638"/>
                </a:cubicBezTo>
                <a:cubicBezTo>
                  <a:pt x="9158" y="4619"/>
                  <a:pt x="9052" y="4614"/>
                  <a:pt x="8930" y="4614"/>
                </a:cubicBezTo>
                <a:cubicBezTo>
                  <a:pt x="8855" y="4614"/>
                  <a:pt x="8799" y="4628"/>
                  <a:pt x="8731" y="4638"/>
                </a:cubicBezTo>
                <a:cubicBezTo>
                  <a:pt x="8706" y="4638"/>
                  <a:pt x="8698" y="4638"/>
                  <a:pt x="8682" y="4638"/>
                </a:cubicBezTo>
                <a:cubicBezTo>
                  <a:pt x="8706" y="4761"/>
                  <a:pt x="8731" y="4887"/>
                  <a:pt x="8756" y="5011"/>
                </a:cubicBezTo>
                <a:cubicBezTo>
                  <a:pt x="8777" y="5113"/>
                  <a:pt x="8783" y="5211"/>
                  <a:pt x="8806" y="5308"/>
                </a:cubicBezTo>
              </a:path>
              <a:path w="3473" h="1911">
                <a:moveTo>
                  <a:pt x="8731" y="4762"/>
                </a:moveTo>
                <a:cubicBezTo>
                  <a:pt x="8731" y="4738"/>
                  <a:pt x="8731" y="4729"/>
                  <a:pt x="8731" y="4713"/>
                </a:cubicBezTo>
              </a:path>
              <a:path w="3473" h="1911">
                <a:moveTo>
                  <a:pt x="8731" y="4688"/>
                </a:moveTo>
                <a:lnTo>
                  <a:pt x="8731" y="4688"/>
                </a:lnTo>
              </a:path>
              <a:path w="3473" h="1911">
                <a:moveTo>
                  <a:pt x="8731" y="4688"/>
                </a:moveTo>
                <a:lnTo>
                  <a:pt x="8731" y="4688"/>
                </a:lnTo>
              </a:path>
              <a:path w="3473" h="1911">
                <a:moveTo>
                  <a:pt x="8706" y="4688"/>
                </a:moveTo>
                <a:lnTo>
                  <a:pt x="8706" y="4688"/>
                </a:lnTo>
              </a:path>
              <a:path w="3473" h="1911">
                <a:moveTo>
                  <a:pt x="8731" y="4688"/>
                </a:moveTo>
                <a:cubicBezTo>
                  <a:pt x="8731" y="4696"/>
                  <a:pt x="8731" y="4705"/>
                  <a:pt x="8731" y="4713"/>
                </a:cubicBezTo>
                <a:cubicBezTo>
                  <a:pt x="8762" y="4732"/>
                  <a:pt x="8796" y="4764"/>
                  <a:pt x="8830" y="4787"/>
                </a:cubicBezTo>
                <a:cubicBezTo>
                  <a:pt x="8864" y="4810"/>
                  <a:pt x="8899" y="4822"/>
                  <a:pt x="8930" y="4837"/>
                </a:cubicBezTo>
                <a:cubicBezTo>
                  <a:pt x="8946" y="4853"/>
                  <a:pt x="8975" y="4882"/>
                  <a:pt x="9004" y="4911"/>
                </a:cubicBezTo>
                <a:cubicBezTo>
                  <a:pt x="9033" y="4940"/>
                  <a:pt x="9089" y="4992"/>
                  <a:pt x="9103" y="5011"/>
                </a:cubicBezTo>
                <a:cubicBezTo>
                  <a:pt x="9123" y="5051"/>
                  <a:pt x="9122" y="5067"/>
                  <a:pt x="9153" y="5060"/>
                </a:cubicBezTo>
                <a:cubicBezTo>
                  <a:pt x="9174" y="5094"/>
                  <a:pt x="9194" y="5124"/>
                  <a:pt x="9227" y="5159"/>
                </a:cubicBezTo>
                <a:cubicBezTo>
                  <a:pt x="9272" y="5206"/>
                  <a:pt x="9299" y="5268"/>
                  <a:pt x="9351" y="5308"/>
                </a:cubicBezTo>
                <a:cubicBezTo>
                  <a:pt x="9409" y="5352"/>
                  <a:pt x="9477" y="5424"/>
                  <a:pt x="9525" y="5482"/>
                </a:cubicBezTo>
                <a:cubicBezTo>
                  <a:pt x="9559" y="5522"/>
                  <a:pt x="9583" y="5563"/>
                  <a:pt x="9624" y="5606"/>
                </a:cubicBezTo>
                <a:cubicBezTo>
                  <a:pt x="9677" y="5662"/>
                  <a:pt x="9703" y="5736"/>
                  <a:pt x="9748" y="5804"/>
                </a:cubicBezTo>
                <a:cubicBezTo>
                  <a:pt x="9785" y="5859"/>
                  <a:pt x="9834" y="5900"/>
                  <a:pt x="9872" y="5953"/>
                </a:cubicBezTo>
                <a:cubicBezTo>
                  <a:pt x="9904" y="5997"/>
                  <a:pt x="9941" y="6065"/>
                  <a:pt x="9971" y="6102"/>
                </a:cubicBezTo>
                <a:cubicBezTo>
                  <a:pt x="10009" y="6148"/>
                  <a:pt x="10041" y="6173"/>
                  <a:pt x="10071" y="6226"/>
                </a:cubicBezTo>
                <a:cubicBezTo>
                  <a:pt x="10104" y="6285"/>
                  <a:pt x="10163" y="6319"/>
                  <a:pt x="10195" y="6375"/>
                </a:cubicBezTo>
                <a:cubicBezTo>
                  <a:pt x="10216" y="6411"/>
                  <a:pt x="10239" y="6497"/>
                  <a:pt x="10269" y="6524"/>
                </a:cubicBezTo>
                <a:cubicBezTo>
                  <a:pt x="10277" y="6524"/>
                  <a:pt x="10286" y="6524"/>
                  <a:pt x="10294" y="6524"/>
                </a:cubicBezTo>
              </a:path>
              <a:path w="3473" h="1911">
                <a:moveTo>
                  <a:pt x="10393" y="4787"/>
                </a:moveTo>
                <a:cubicBezTo>
                  <a:pt x="10377" y="4820"/>
                  <a:pt x="10384" y="4804"/>
                  <a:pt x="10368" y="4837"/>
                </a:cubicBezTo>
                <a:cubicBezTo>
                  <a:pt x="10348" y="4878"/>
                  <a:pt x="10334" y="4876"/>
                  <a:pt x="10294" y="4936"/>
                </a:cubicBezTo>
                <a:cubicBezTo>
                  <a:pt x="10242" y="5014"/>
                  <a:pt x="10173" y="5081"/>
                  <a:pt x="10120" y="5159"/>
                </a:cubicBezTo>
                <a:cubicBezTo>
                  <a:pt x="10071" y="5231"/>
                  <a:pt x="10032" y="5294"/>
                  <a:pt x="9971" y="5358"/>
                </a:cubicBezTo>
                <a:cubicBezTo>
                  <a:pt x="9937" y="5394"/>
                  <a:pt x="9862" y="5431"/>
                  <a:pt x="9823" y="5482"/>
                </a:cubicBezTo>
                <a:cubicBezTo>
                  <a:pt x="9769" y="5552"/>
                  <a:pt x="9703" y="5574"/>
                  <a:pt x="9649" y="5655"/>
                </a:cubicBezTo>
                <a:cubicBezTo>
                  <a:pt x="9605" y="5720"/>
                  <a:pt x="9548" y="5750"/>
                  <a:pt x="9500" y="5804"/>
                </a:cubicBezTo>
                <a:cubicBezTo>
                  <a:pt x="9427" y="5886"/>
                  <a:pt x="9359" y="5980"/>
                  <a:pt x="9277" y="6052"/>
                </a:cubicBezTo>
                <a:cubicBezTo>
                  <a:pt x="9233" y="6091"/>
                  <a:pt x="9194" y="6141"/>
                  <a:pt x="9153" y="6176"/>
                </a:cubicBezTo>
                <a:cubicBezTo>
                  <a:pt x="9107" y="6216"/>
                  <a:pt x="9056" y="6244"/>
                  <a:pt x="9004" y="6276"/>
                </a:cubicBezTo>
                <a:cubicBezTo>
                  <a:pt x="8940" y="6316"/>
                  <a:pt x="8868" y="6354"/>
                  <a:pt x="8806" y="6400"/>
                </a:cubicBezTo>
                <a:cubicBezTo>
                  <a:pt x="8781" y="6400"/>
                  <a:pt x="8773" y="6400"/>
                  <a:pt x="8781" y="6424"/>
                </a:cubicBezTo>
                <a:cubicBezTo>
                  <a:pt x="8802" y="6395"/>
                  <a:pt x="8798" y="6393"/>
                  <a:pt x="8830" y="6375"/>
                </a:cubicBezTo>
                <a:cubicBezTo>
                  <a:pt x="8853" y="6352"/>
                  <a:pt x="8857" y="6344"/>
                  <a:pt x="8880" y="6350"/>
                </a:cubicBezTo>
              </a:path>
              <a:path w="3473" h="1911">
                <a:moveTo>
                  <a:pt x="11633" y="5531"/>
                </a:moveTo>
                <a:cubicBezTo>
                  <a:pt x="11633" y="5472"/>
                  <a:pt x="11660" y="5466"/>
                  <a:pt x="11708" y="5432"/>
                </a:cubicBezTo>
                <a:cubicBezTo>
                  <a:pt x="11776" y="5384"/>
                  <a:pt x="11816" y="5335"/>
                  <a:pt x="11906" y="5358"/>
                </a:cubicBezTo>
                <a:cubicBezTo>
                  <a:pt x="11969" y="5374"/>
                  <a:pt x="11999" y="5423"/>
                  <a:pt x="12005" y="5482"/>
                </a:cubicBezTo>
                <a:cubicBezTo>
                  <a:pt x="12009" y="5527"/>
                  <a:pt x="11862" y="5701"/>
                  <a:pt x="11832" y="5730"/>
                </a:cubicBezTo>
                <a:cubicBezTo>
                  <a:pt x="11702" y="5856"/>
                  <a:pt x="11592" y="5938"/>
                  <a:pt x="11559" y="6127"/>
                </a:cubicBezTo>
                <a:cubicBezTo>
                  <a:pt x="11559" y="6185"/>
                  <a:pt x="11559" y="6193"/>
                  <a:pt x="11559" y="6226"/>
                </a:cubicBezTo>
                <a:cubicBezTo>
                  <a:pt x="11615" y="6207"/>
                  <a:pt x="11641" y="6063"/>
                  <a:pt x="11683" y="6003"/>
                </a:cubicBezTo>
                <a:cubicBezTo>
                  <a:pt x="11741" y="5920"/>
                  <a:pt x="11795" y="5947"/>
                  <a:pt x="11857" y="6003"/>
                </a:cubicBezTo>
                <a:cubicBezTo>
                  <a:pt x="11940" y="6079"/>
                  <a:pt x="12003" y="6187"/>
                  <a:pt x="12129" y="6102"/>
                </a:cubicBezTo>
                <a:cubicBezTo>
                  <a:pt x="12129" y="6077"/>
                  <a:pt x="12129" y="6069"/>
                  <a:pt x="12129" y="60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60920" y="3633840"/>
            <a:ext cx="662040" cy="563400"/>
          </a:xfrm>
          <a:custGeom>
            <a:avLst/>
            <a:gdLst/>
            <a:ahLst/>
            <a:rect l="l" t="t" r="r" b="b"/>
            <a:pathLst>
              <a:path w="1837" h="1563">
                <a:moveTo>
                  <a:pt x="13171" y="10914"/>
                </a:moveTo>
                <a:cubicBezTo>
                  <a:pt x="13123" y="10806"/>
                  <a:pt x="13114" y="10703"/>
                  <a:pt x="12998" y="10889"/>
                </a:cubicBezTo>
                <a:cubicBezTo>
                  <a:pt x="12953" y="11000"/>
                  <a:pt x="12929" y="11029"/>
                  <a:pt x="12998" y="11088"/>
                </a:cubicBezTo>
                <a:cubicBezTo>
                  <a:pt x="13065" y="11043"/>
                  <a:pt x="13273" y="10714"/>
                  <a:pt x="13072" y="10815"/>
                </a:cubicBezTo>
                <a:cubicBezTo>
                  <a:pt x="13039" y="10848"/>
                  <a:pt x="13006" y="10881"/>
                  <a:pt x="12973" y="10914"/>
                </a:cubicBezTo>
                <a:cubicBezTo>
                  <a:pt x="13025" y="11037"/>
                  <a:pt x="13193" y="11048"/>
                  <a:pt x="13171" y="10864"/>
                </a:cubicBezTo>
                <a:cubicBezTo>
                  <a:pt x="13149" y="10676"/>
                  <a:pt x="12874" y="10964"/>
                  <a:pt x="13022" y="10939"/>
                </a:cubicBezTo>
                <a:cubicBezTo>
                  <a:pt x="13184" y="10912"/>
                  <a:pt x="13165" y="10765"/>
                  <a:pt x="13047" y="10765"/>
                </a:cubicBezTo>
              </a:path>
              <a:path w="1837" h="1563">
                <a:moveTo>
                  <a:pt x="13246" y="10170"/>
                </a:moveTo>
                <a:cubicBezTo>
                  <a:pt x="13364" y="10130"/>
                  <a:pt x="13436" y="10103"/>
                  <a:pt x="13568" y="10120"/>
                </a:cubicBezTo>
                <a:cubicBezTo>
                  <a:pt x="13538" y="10241"/>
                  <a:pt x="13444" y="10293"/>
                  <a:pt x="13444" y="10418"/>
                </a:cubicBezTo>
                <a:cubicBezTo>
                  <a:pt x="13574" y="10353"/>
                  <a:pt x="13769" y="10365"/>
                  <a:pt x="13643" y="10567"/>
                </a:cubicBezTo>
                <a:cubicBezTo>
                  <a:pt x="13562" y="10697"/>
                  <a:pt x="13144" y="10777"/>
                  <a:pt x="13271" y="10691"/>
                </a:cubicBezTo>
                <a:cubicBezTo>
                  <a:pt x="13334" y="10691"/>
                  <a:pt x="13361" y="10698"/>
                  <a:pt x="13395" y="10740"/>
                </a:cubicBezTo>
              </a:path>
              <a:path w="1837" h="1563">
                <a:moveTo>
                  <a:pt x="14461" y="11261"/>
                </a:moveTo>
                <a:cubicBezTo>
                  <a:pt x="14481" y="11397"/>
                  <a:pt x="14500" y="11526"/>
                  <a:pt x="14536" y="11658"/>
                </a:cubicBezTo>
              </a:path>
              <a:path w="1837" h="1563">
                <a:moveTo>
                  <a:pt x="14387" y="11460"/>
                </a:moveTo>
                <a:cubicBezTo>
                  <a:pt x="14514" y="11396"/>
                  <a:pt x="14643" y="11310"/>
                  <a:pt x="14784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00280" y="3017880"/>
            <a:ext cx="544680" cy="411120"/>
          </a:xfrm>
          <a:custGeom>
            <a:avLst/>
            <a:gdLst/>
            <a:ahLst/>
            <a:rect l="l" t="t" r="r" b="b"/>
            <a:pathLst>
              <a:path w="1515" h="1142">
                <a:moveTo>
                  <a:pt x="10120" y="8533"/>
                </a:moveTo>
                <a:cubicBezTo>
                  <a:pt x="10237" y="8450"/>
                  <a:pt x="10463" y="8255"/>
                  <a:pt x="10517" y="8533"/>
                </a:cubicBezTo>
                <a:cubicBezTo>
                  <a:pt x="10564" y="8774"/>
                  <a:pt x="10108" y="9036"/>
                  <a:pt x="9971" y="9178"/>
                </a:cubicBezTo>
                <a:cubicBezTo>
                  <a:pt x="9882" y="9271"/>
                  <a:pt x="9809" y="9380"/>
                  <a:pt x="9723" y="9475"/>
                </a:cubicBezTo>
                <a:cubicBezTo>
                  <a:pt x="9756" y="9414"/>
                  <a:pt x="9826" y="9152"/>
                  <a:pt x="9971" y="9227"/>
                </a:cubicBezTo>
                <a:cubicBezTo>
                  <a:pt x="10075" y="9281"/>
                  <a:pt x="10112" y="9475"/>
                  <a:pt x="10244" y="9475"/>
                </a:cubicBezTo>
                <a:cubicBezTo>
                  <a:pt x="10277" y="9459"/>
                  <a:pt x="10311" y="9442"/>
                  <a:pt x="10344" y="9426"/>
                </a:cubicBezTo>
              </a:path>
              <a:path w="1515" h="1142">
                <a:moveTo>
                  <a:pt x="11063" y="8830"/>
                </a:moveTo>
                <a:cubicBezTo>
                  <a:pt x="11008" y="8798"/>
                  <a:pt x="10958" y="8806"/>
                  <a:pt x="10889" y="8806"/>
                </a:cubicBezTo>
                <a:cubicBezTo>
                  <a:pt x="10764" y="8806"/>
                  <a:pt x="10709" y="8934"/>
                  <a:pt x="10666" y="9029"/>
                </a:cubicBezTo>
                <a:cubicBezTo>
                  <a:pt x="10569" y="9246"/>
                  <a:pt x="10576" y="9308"/>
                  <a:pt x="10666" y="9500"/>
                </a:cubicBezTo>
                <a:cubicBezTo>
                  <a:pt x="10900" y="9512"/>
                  <a:pt x="11054" y="9441"/>
                  <a:pt x="11187" y="9227"/>
                </a:cubicBezTo>
                <a:cubicBezTo>
                  <a:pt x="11315" y="9022"/>
                  <a:pt x="11204" y="8850"/>
                  <a:pt x="10964" y="8880"/>
                </a:cubicBezTo>
                <a:cubicBezTo>
                  <a:pt x="10923" y="8897"/>
                  <a:pt x="10881" y="8913"/>
                  <a:pt x="10840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94120" y="3919680"/>
            <a:ext cx="901800" cy="45720"/>
          </a:xfrm>
          <a:custGeom>
            <a:avLst/>
            <a:gdLst/>
            <a:ahLst/>
            <a:rect l="l" t="t" r="r" b="b"/>
            <a:pathLst>
              <a:path w="2506" h="125">
                <a:moveTo>
                  <a:pt x="10815" y="11013"/>
                </a:moveTo>
                <a:cubicBezTo>
                  <a:pt x="10895" y="11013"/>
                  <a:pt x="10973" y="10995"/>
                  <a:pt x="11038" y="10988"/>
                </a:cubicBezTo>
                <a:cubicBezTo>
                  <a:pt x="11177" y="10972"/>
                  <a:pt x="11322" y="10979"/>
                  <a:pt x="11460" y="10964"/>
                </a:cubicBezTo>
                <a:cubicBezTo>
                  <a:pt x="11532" y="10956"/>
                  <a:pt x="11582" y="10988"/>
                  <a:pt x="11658" y="10988"/>
                </a:cubicBezTo>
                <a:cubicBezTo>
                  <a:pt x="11799" y="10988"/>
                  <a:pt x="11919" y="10951"/>
                  <a:pt x="12055" y="10939"/>
                </a:cubicBezTo>
                <a:cubicBezTo>
                  <a:pt x="12310" y="10917"/>
                  <a:pt x="12568" y="10892"/>
                  <a:pt x="12824" y="10889"/>
                </a:cubicBezTo>
                <a:cubicBezTo>
                  <a:pt x="12989" y="10887"/>
                  <a:pt x="13155" y="10889"/>
                  <a:pt x="13320" y="108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3660840"/>
            <a:ext cx="3205080" cy="2921040"/>
          </a:xfrm>
          <a:custGeom>
            <a:avLst/>
            <a:gdLst/>
            <a:ahLst/>
            <a:rect l="l" t="t" r="r" b="b"/>
            <a:pathLst>
              <a:path w="8906" h="8112">
                <a:moveTo>
                  <a:pt x="10790" y="11038"/>
                </a:moveTo>
                <a:cubicBezTo>
                  <a:pt x="10709" y="11118"/>
                  <a:pt x="10682" y="11130"/>
                  <a:pt x="10616" y="11261"/>
                </a:cubicBezTo>
                <a:cubicBezTo>
                  <a:pt x="10493" y="11502"/>
                  <a:pt x="10334" y="11723"/>
                  <a:pt x="10195" y="11956"/>
                </a:cubicBezTo>
                <a:cubicBezTo>
                  <a:pt x="10099" y="12117"/>
                  <a:pt x="10056" y="12290"/>
                  <a:pt x="9971" y="12452"/>
                </a:cubicBezTo>
                <a:cubicBezTo>
                  <a:pt x="9930" y="12531"/>
                  <a:pt x="9860" y="12638"/>
                  <a:pt x="9798" y="12700"/>
                </a:cubicBezTo>
                <a:cubicBezTo>
                  <a:pt x="9790" y="12700"/>
                  <a:pt x="9781" y="12700"/>
                  <a:pt x="9773" y="12700"/>
                </a:cubicBezTo>
                <a:cubicBezTo>
                  <a:pt x="9818" y="12726"/>
                  <a:pt x="9876" y="12742"/>
                  <a:pt x="9922" y="12774"/>
                </a:cubicBezTo>
                <a:cubicBezTo>
                  <a:pt x="9995" y="12825"/>
                  <a:pt x="10055" y="12886"/>
                  <a:pt x="10120" y="12948"/>
                </a:cubicBezTo>
                <a:cubicBezTo>
                  <a:pt x="10244" y="13067"/>
                  <a:pt x="10341" y="13185"/>
                  <a:pt x="10443" y="13320"/>
                </a:cubicBezTo>
                <a:cubicBezTo>
                  <a:pt x="10581" y="13504"/>
                  <a:pt x="10734" y="13646"/>
                  <a:pt x="10864" y="13841"/>
                </a:cubicBezTo>
                <a:cubicBezTo>
                  <a:pt x="10984" y="14021"/>
                  <a:pt x="11061" y="14228"/>
                  <a:pt x="11162" y="14412"/>
                </a:cubicBezTo>
                <a:cubicBezTo>
                  <a:pt x="11187" y="14412"/>
                  <a:pt x="11195" y="14412"/>
                  <a:pt x="11187" y="14436"/>
                </a:cubicBezTo>
                <a:cubicBezTo>
                  <a:pt x="11295" y="14388"/>
                  <a:pt x="11388" y="14339"/>
                  <a:pt x="11509" y="14312"/>
                </a:cubicBezTo>
                <a:cubicBezTo>
                  <a:pt x="11815" y="14244"/>
                  <a:pt x="12138" y="14169"/>
                  <a:pt x="12452" y="14163"/>
                </a:cubicBezTo>
                <a:cubicBezTo>
                  <a:pt x="12628" y="14160"/>
                  <a:pt x="12800" y="14157"/>
                  <a:pt x="12973" y="14188"/>
                </a:cubicBezTo>
                <a:cubicBezTo>
                  <a:pt x="13147" y="14219"/>
                  <a:pt x="13162" y="14247"/>
                  <a:pt x="13246" y="14139"/>
                </a:cubicBezTo>
                <a:cubicBezTo>
                  <a:pt x="13322" y="14040"/>
                  <a:pt x="13393" y="13878"/>
                  <a:pt x="13469" y="13767"/>
                </a:cubicBezTo>
                <a:cubicBezTo>
                  <a:pt x="13563" y="13631"/>
                  <a:pt x="13670" y="13507"/>
                  <a:pt x="13767" y="13370"/>
                </a:cubicBezTo>
                <a:cubicBezTo>
                  <a:pt x="13874" y="13219"/>
                  <a:pt x="13971" y="13089"/>
                  <a:pt x="14089" y="12948"/>
                </a:cubicBezTo>
                <a:cubicBezTo>
                  <a:pt x="14118" y="12914"/>
                  <a:pt x="14131" y="12886"/>
                  <a:pt x="14163" y="12849"/>
                </a:cubicBezTo>
                <a:cubicBezTo>
                  <a:pt x="14171" y="12841"/>
                  <a:pt x="14180" y="12832"/>
                  <a:pt x="14188" y="12824"/>
                </a:cubicBezTo>
                <a:cubicBezTo>
                  <a:pt x="14152" y="12796"/>
                  <a:pt x="14187" y="12791"/>
                  <a:pt x="14114" y="12750"/>
                </a:cubicBezTo>
                <a:cubicBezTo>
                  <a:pt x="14044" y="12711"/>
                  <a:pt x="14033" y="12695"/>
                  <a:pt x="13990" y="12650"/>
                </a:cubicBezTo>
                <a:cubicBezTo>
                  <a:pt x="13909" y="12566"/>
                  <a:pt x="13821" y="12456"/>
                  <a:pt x="13767" y="12353"/>
                </a:cubicBezTo>
                <a:cubicBezTo>
                  <a:pt x="13719" y="12263"/>
                  <a:pt x="13689" y="12172"/>
                  <a:pt x="13643" y="12080"/>
                </a:cubicBezTo>
                <a:cubicBezTo>
                  <a:pt x="13607" y="12009"/>
                  <a:pt x="13565" y="11911"/>
                  <a:pt x="13519" y="11832"/>
                </a:cubicBezTo>
                <a:cubicBezTo>
                  <a:pt x="13453" y="11718"/>
                  <a:pt x="13414" y="11633"/>
                  <a:pt x="13370" y="11509"/>
                </a:cubicBezTo>
                <a:cubicBezTo>
                  <a:pt x="13296" y="11300"/>
                  <a:pt x="13258" y="11068"/>
                  <a:pt x="13171" y="10864"/>
                </a:cubicBezTo>
                <a:cubicBezTo>
                  <a:pt x="13157" y="10832"/>
                  <a:pt x="13135" y="10822"/>
                  <a:pt x="13122" y="10790"/>
                </a:cubicBezTo>
              </a:path>
              <a:path w="8906" h="8112">
                <a:moveTo>
                  <a:pt x="10641" y="10964"/>
                </a:moveTo>
                <a:cubicBezTo>
                  <a:pt x="10648" y="10936"/>
                  <a:pt x="10693" y="10876"/>
                  <a:pt x="10666" y="10914"/>
                </a:cubicBezTo>
                <a:cubicBezTo>
                  <a:pt x="10658" y="10922"/>
                  <a:pt x="10649" y="10931"/>
                  <a:pt x="10641" y="10939"/>
                </a:cubicBezTo>
                <a:cubicBezTo>
                  <a:pt x="10660" y="11107"/>
                  <a:pt x="10739" y="11242"/>
                  <a:pt x="10864" y="11013"/>
                </a:cubicBezTo>
                <a:cubicBezTo>
                  <a:pt x="10979" y="10803"/>
                  <a:pt x="10712" y="10824"/>
                  <a:pt x="10616" y="10939"/>
                </a:cubicBezTo>
                <a:cubicBezTo>
                  <a:pt x="10472" y="11111"/>
                  <a:pt x="10603" y="11241"/>
                  <a:pt x="10765" y="11063"/>
                </a:cubicBezTo>
                <a:cubicBezTo>
                  <a:pt x="10782" y="11030"/>
                  <a:pt x="10798" y="10997"/>
                  <a:pt x="10815" y="10964"/>
                </a:cubicBezTo>
                <a:cubicBezTo>
                  <a:pt x="10798" y="10939"/>
                  <a:pt x="10782" y="10914"/>
                  <a:pt x="10765" y="10889"/>
                </a:cubicBezTo>
                <a:cubicBezTo>
                  <a:pt x="10742" y="10904"/>
                  <a:pt x="10543" y="11077"/>
                  <a:pt x="10666" y="11088"/>
                </a:cubicBezTo>
                <a:cubicBezTo>
                  <a:pt x="10867" y="11106"/>
                  <a:pt x="10828" y="10820"/>
                  <a:pt x="10691" y="10939"/>
                </a:cubicBezTo>
                <a:cubicBezTo>
                  <a:pt x="10563" y="11050"/>
                  <a:pt x="10691" y="11206"/>
                  <a:pt x="10765" y="11063"/>
                </a:cubicBezTo>
                <a:cubicBezTo>
                  <a:pt x="10879" y="10843"/>
                  <a:pt x="10715" y="10947"/>
                  <a:pt x="10666" y="11063"/>
                </a:cubicBezTo>
                <a:cubicBezTo>
                  <a:pt x="10644" y="11115"/>
                  <a:pt x="10730" y="11033"/>
                  <a:pt x="10765" y="10988"/>
                </a:cubicBezTo>
              </a:path>
              <a:path w="8906" h="8112">
                <a:moveTo>
                  <a:pt x="10914" y="11137"/>
                </a:moveTo>
                <a:cubicBezTo>
                  <a:pt x="10977" y="11214"/>
                  <a:pt x="11014" y="11293"/>
                  <a:pt x="11088" y="11361"/>
                </a:cubicBezTo>
                <a:cubicBezTo>
                  <a:pt x="11268" y="11526"/>
                  <a:pt x="11453" y="11607"/>
                  <a:pt x="11683" y="11683"/>
                </a:cubicBezTo>
                <a:cubicBezTo>
                  <a:pt x="11958" y="11774"/>
                  <a:pt x="12225" y="11859"/>
                  <a:pt x="12477" y="12005"/>
                </a:cubicBezTo>
                <a:cubicBezTo>
                  <a:pt x="12709" y="12140"/>
                  <a:pt x="12943" y="12286"/>
                  <a:pt x="13171" y="12427"/>
                </a:cubicBezTo>
                <a:cubicBezTo>
                  <a:pt x="13272" y="12490"/>
                  <a:pt x="13364" y="12568"/>
                  <a:pt x="13469" y="12626"/>
                </a:cubicBezTo>
                <a:cubicBezTo>
                  <a:pt x="13577" y="12686"/>
                  <a:pt x="13902" y="12829"/>
                  <a:pt x="13791" y="12774"/>
                </a:cubicBezTo>
                <a:cubicBezTo>
                  <a:pt x="13766" y="12758"/>
                  <a:pt x="13742" y="12741"/>
                  <a:pt x="13717" y="12725"/>
                </a:cubicBezTo>
              </a:path>
              <a:path w="8906" h="8112">
                <a:moveTo>
                  <a:pt x="10616" y="10914"/>
                </a:moveTo>
                <a:cubicBezTo>
                  <a:pt x="10763" y="11074"/>
                  <a:pt x="10880" y="11198"/>
                  <a:pt x="11013" y="11385"/>
                </a:cubicBezTo>
                <a:cubicBezTo>
                  <a:pt x="11209" y="11661"/>
                  <a:pt x="11406" y="11951"/>
                  <a:pt x="11559" y="12254"/>
                </a:cubicBezTo>
                <a:cubicBezTo>
                  <a:pt x="11691" y="12515"/>
                  <a:pt x="11796" y="12788"/>
                  <a:pt x="11931" y="13047"/>
                </a:cubicBezTo>
                <a:cubicBezTo>
                  <a:pt x="12054" y="13282"/>
                  <a:pt x="12244" y="13525"/>
                  <a:pt x="12427" y="13717"/>
                </a:cubicBezTo>
                <a:cubicBezTo>
                  <a:pt x="12578" y="13876"/>
                  <a:pt x="12759" y="13995"/>
                  <a:pt x="12923" y="14139"/>
                </a:cubicBezTo>
                <a:cubicBezTo>
                  <a:pt x="12991" y="14198"/>
                  <a:pt x="13007" y="14245"/>
                  <a:pt x="13047" y="14312"/>
                </a:cubicBezTo>
              </a:path>
              <a:path w="8906" h="8112">
                <a:moveTo>
                  <a:pt x="10641" y="10864"/>
                </a:moveTo>
                <a:cubicBezTo>
                  <a:pt x="10641" y="10823"/>
                  <a:pt x="10649" y="10807"/>
                  <a:pt x="10616" y="10815"/>
                </a:cubicBezTo>
                <a:cubicBezTo>
                  <a:pt x="10679" y="11019"/>
                  <a:pt x="10734" y="11239"/>
                  <a:pt x="10765" y="11460"/>
                </a:cubicBezTo>
                <a:cubicBezTo>
                  <a:pt x="10808" y="11771"/>
                  <a:pt x="10835" y="12088"/>
                  <a:pt x="10840" y="12402"/>
                </a:cubicBezTo>
                <a:cubicBezTo>
                  <a:pt x="10843" y="12568"/>
                  <a:pt x="10856" y="12712"/>
                  <a:pt x="10840" y="12874"/>
                </a:cubicBezTo>
                <a:cubicBezTo>
                  <a:pt x="10820" y="13072"/>
                  <a:pt x="10854" y="13273"/>
                  <a:pt x="10864" y="13469"/>
                </a:cubicBezTo>
                <a:cubicBezTo>
                  <a:pt x="10874" y="13671"/>
                  <a:pt x="10855" y="13864"/>
                  <a:pt x="10889" y="14064"/>
                </a:cubicBezTo>
                <a:cubicBezTo>
                  <a:pt x="10908" y="14176"/>
                  <a:pt x="10932" y="14274"/>
                  <a:pt x="10939" y="14387"/>
                </a:cubicBezTo>
                <a:cubicBezTo>
                  <a:pt x="10939" y="14436"/>
                  <a:pt x="10939" y="14452"/>
                  <a:pt x="10939" y="14387"/>
                </a:cubicBezTo>
              </a:path>
              <a:path w="8906" h="8112">
                <a:moveTo>
                  <a:pt x="10021" y="10468"/>
                </a:moveTo>
                <a:cubicBezTo>
                  <a:pt x="10062" y="10344"/>
                  <a:pt x="10127" y="10333"/>
                  <a:pt x="10244" y="10294"/>
                </a:cubicBezTo>
                <a:cubicBezTo>
                  <a:pt x="10385" y="10462"/>
                  <a:pt x="10343" y="10565"/>
                  <a:pt x="10170" y="10716"/>
                </a:cubicBezTo>
                <a:cubicBezTo>
                  <a:pt x="10153" y="10724"/>
                  <a:pt x="10137" y="10732"/>
                  <a:pt x="10120" y="10740"/>
                </a:cubicBezTo>
                <a:cubicBezTo>
                  <a:pt x="10194" y="10667"/>
                  <a:pt x="10399" y="10622"/>
                  <a:pt x="10344" y="10815"/>
                </a:cubicBezTo>
                <a:cubicBezTo>
                  <a:pt x="10301" y="10965"/>
                  <a:pt x="10063" y="11096"/>
                  <a:pt x="9922" y="11013"/>
                </a:cubicBezTo>
                <a:cubicBezTo>
                  <a:pt x="9922" y="10955"/>
                  <a:pt x="9942" y="10920"/>
                  <a:pt x="9996" y="10889"/>
                </a:cubicBezTo>
              </a:path>
              <a:path w="8906" h="8112">
                <a:moveTo>
                  <a:pt x="12898" y="10716"/>
                </a:moveTo>
                <a:cubicBezTo>
                  <a:pt x="12916" y="10746"/>
                  <a:pt x="12939" y="10776"/>
                  <a:pt x="12948" y="10790"/>
                </a:cubicBezTo>
                <a:cubicBezTo>
                  <a:pt x="13030" y="10918"/>
                  <a:pt x="13054" y="11066"/>
                  <a:pt x="13097" y="11212"/>
                </a:cubicBezTo>
                <a:cubicBezTo>
                  <a:pt x="13171" y="11465"/>
                  <a:pt x="13183" y="11766"/>
                  <a:pt x="13171" y="12030"/>
                </a:cubicBezTo>
                <a:cubicBezTo>
                  <a:pt x="13158" y="12310"/>
                  <a:pt x="13152" y="12571"/>
                  <a:pt x="13171" y="12849"/>
                </a:cubicBezTo>
                <a:cubicBezTo>
                  <a:pt x="13191" y="13152"/>
                  <a:pt x="13206" y="13491"/>
                  <a:pt x="13196" y="13791"/>
                </a:cubicBezTo>
                <a:cubicBezTo>
                  <a:pt x="13192" y="13905"/>
                  <a:pt x="13124" y="14101"/>
                  <a:pt x="13146" y="14213"/>
                </a:cubicBezTo>
                <a:cubicBezTo>
                  <a:pt x="13178" y="14372"/>
                  <a:pt x="13191" y="14218"/>
                  <a:pt x="13196" y="14163"/>
                </a:cubicBezTo>
              </a:path>
              <a:path w="8906" h="8112">
                <a:moveTo>
                  <a:pt x="13022" y="10864"/>
                </a:moveTo>
                <a:cubicBezTo>
                  <a:pt x="12997" y="10986"/>
                  <a:pt x="12962" y="11070"/>
                  <a:pt x="12923" y="11187"/>
                </a:cubicBezTo>
                <a:cubicBezTo>
                  <a:pt x="12821" y="11495"/>
                  <a:pt x="12694" y="11749"/>
                  <a:pt x="12526" y="12030"/>
                </a:cubicBezTo>
                <a:cubicBezTo>
                  <a:pt x="12379" y="12275"/>
                  <a:pt x="12254" y="12531"/>
                  <a:pt x="12105" y="12774"/>
                </a:cubicBezTo>
                <a:cubicBezTo>
                  <a:pt x="12007" y="12935"/>
                  <a:pt x="11933" y="13113"/>
                  <a:pt x="11832" y="13271"/>
                </a:cubicBezTo>
                <a:cubicBezTo>
                  <a:pt x="11728" y="13434"/>
                  <a:pt x="11596" y="13583"/>
                  <a:pt x="11485" y="13742"/>
                </a:cubicBezTo>
                <a:cubicBezTo>
                  <a:pt x="11352" y="13932"/>
                  <a:pt x="11264" y="14130"/>
                  <a:pt x="11162" y="14337"/>
                </a:cubicBezTo>
                <a:cubicBezTo>
                  <a:pt x="11106" y="14451"/>
                  <a:pt x="11163" y="14305"/>
                  <a:pt x="11212" y="14188"/>
                </a:cubicBezTo>
              </a:path>
              <a:path w="8906" h="8112">
                <a:moveTo>
                  <a:pt x="13122" y="10964"/>
                </a:moveTo>
                <a:cubicBezTo>
                  <a:pt x="13030" y="11013"/>
                  <a:pt x="12919" y="11068"/>
                  <a:pt x="12824" y="11137"/>
                </a:cubicBezTo>
                <a:cubicBezTo>
                  <a:pt x="12595" y="11304"/>
                  <a:pt x="12362" y="11508"/>
                  <a:pt x="12105" y="11633"/>
                </a:cubicBezTo>
                <a:cubicBezTo>
                  <a:pt x="11848" y="11758"/>
                  <a:pt x="11573" y="11842"/>
                  <a:pt x="11311" y="11956"/>
                </a:cubicBezTo>
                <a:cubicBezTo>
                  <a:pt x="11099" y="12048"/>
                  <a:pt x="10911" y="12156"/>
                  <a:pt x="10691" y="12229"/>
                </a:cubicBezTo>
                <a:cubicBezTo>
                  <a:pt x="10483" y="12298"/>
                  <a:pt x="10275" y="12360"/>
                  <a:pt x="10071" y="12427"/>
                </a:cubicBezTo>
                <a:cubicBezTo>
                  <a:pt x="9943" y="12469"/>
                  <a:pt x="9795" y="12527"/>
                  <a:pt x="9699" y="12626"/>
                </a:cubicBezTo>
                <a:cubicBezTo>
                  <a:pt x="9677" y="12649"/>
                  <a:pt x="9602" y="12717"/>
                  <a:pt x="9599" y="12725"/>
                </a:cubicBezTo>
                <a:cubicBezTo>
                  <a:pt x="9599" y="12750"/>
                  <a:pt x="9599" y="12758"/>
                  <a:pt x="9624" y="12750"/>
                </a:cubicBezTo>
              </a:path>
              <a:path w="8906" h="8112">
                <a:moveTo>
                  <a:pt x="14288" y="12824"/>
                </a:moveTo>
                <a:cubicBezTo>
                  <a:pt x="14274" y="12769"/>
                  <a:pt x="14205" y="12720"/>
                  <a:pt x="14139" y="12750"/>
                </a:cubicBezTo>
                <a:cubicBezTo>
                  <a:pt x="14045" y="12820"/>
                  <a:pt x="14013" y="12837"/>
                  <a:pt x="14015" y="12923"/>
                </a:cubicBezTo>
                <a:cubicBezTo>
                  <a:pt x="14152" y="12969"/>
                  <a:pt x="14422" y="12946"/>
                  <a:pt x="14263" y="12725"/>
                </a:cubicBezTo>
                <a:cubicBezTo>
                  <a:pt x="14151" y="12569"/>
                  <a:pt x="13916" y="12718"/>
                  <a:pt x="14015" y="12874"/>
                </a:cubicBezTo>
                <a:cubicBezTo>
                  <a:pt x="14139" y="13068"/>
                  <a:pt x="14204" y="12744"/>
                  <a:pt x="14163" y="12650"/>
                </a:cubicBezTo>
                <a:cubicBezTo>
                  <a:pt x="14113" y="12696"/>
                  <a:pt x="13961" y="12997"/>
                  <a:pt x="14163" y="12874"/>
                </a:cubicBezTo>
                <a:cubicBezTo>
                  <a:pt x="14188" y="12841"/>
                  <a:pt x="14213" y="12807"/>
                  <a:pt x="14238" y="12774"/>
                </a:cubicBezTo>
              </a:path>
              <a:path w="8906" h="8112">
                <a:moveTo>
                  <a:pt x="14114" y="12898"/>
                </a:moveTo>
                <a:cubicBezTo>
                  <a:pt x="14084" y="12920"/>
                  <a:pt x="14001" y="13001"/>
                  <a:pt x="13940" y="13022"/>
                </a:cubicBezTo>
                <a:cubicBezTo>
                  <a:pt x="13736" y="13093"/>
                  <a:pt x="13543" y="13152"/>
                  <a:pt x="13345" y="13246"/>
                </a:cubicBezTo>
                <a:cubicBezTo>
                  <a:pt x="13115" y="13355"/>
                  <a:pt x="12884" y="13424"/>
                  <a:pt x="12650" y="13519"/>
                </a:cubicBezTo>
                <a:cubicBezTo>
                  <a:pt x="12390" y="13625"/>
                  <a:pt x="12128" y="13732"/>
                  <a:pt x="11881" y="13866"/>
                </a:cubicBezTo>
                <a:cubicBezTo>
                  <a:pt x="11649" y="13992"/>
                  <a:pt x="11402" y="14111"/>
                  <a:pt x="11187" y="14263"/>
                </a:cubicBezTo>
                <a:cubicBezTo>
                  <a:pt x="11151" y="14289"/>
                  <a:pt x="10915" y="14475"/>
                  <a:pt x="10939" y="14461"/>
                </a:cubicBezTo>
                <a:cubicBezTo>
                  <a:pt x="10989" y="14428"/>
                  <a:pt x="11038" y="14395"/>
                  <a:pt x="11088" y="14362"/>
                </a:cubicBezTo>
              </a:path>
              <a:path w="8906" h="8112">
                <a:moveTo>
                  <a:pt x="13841" y="12874"/>
                </a:moveTo>
                <a:cubicBezTo>
                  <a:pt x="13913" y="12898"/>
                  <a:pt x="13963" y="12917"/>
                  <a:pt x="14039" y="12923"/>
                </a:cubicBezTo>
                <a:cubicBezTo>
                  <a:pt x="13837" y="12916"/>
                  <a:pt x="13646" y="12896"/>
                  <a:pt x="13444" y="12874"/>
                </a:cubicBezTo>
                <a:cubicBezTo>
                  <a:pt x="13087" y="12836"/>
                  <a:pt x="12736" y="12784"/>
                  <a:pt x="12378" y="12750"/>
                </a:cubicBezTo>
                <a:cubicBezTo>
                  <a:pt x="12090" y="12723"/>
                  <a:pt x="11798" y="12694"/>
                  <a:pt x="11509" y="12675"/>
                </a:cubicBezTo>
                <a:cubicBezTo>
                  <a:pt x="11234" y="12657"/>
                  <a:pt x="10968" y="12626"/>
                  <a:pt x="10691" y="12626"/>
                </a:cubicBezTo>
                <a:cubicBezTo>
                  <a:pt x="10461" y="12626"/>
                  <a:pt x="10223" y="12640"/>
                  <a:pt x="9996" y="12675"/>
                </a:cubicBezTo>
                <a:cubicBezTo>
                  <a:pt x="9897" y="12690"/>
                  <a:pt x="9797" y="12710"/>
                  <a:pt x="9699" y="12725"/>
                </a:cubicBezTo>
              </a:path>
              <a:path w="8906" h="8112">
                <a:moveTo>
                  <a:pt x="14808" y="12626"/>
                </a:moveTo>
                <a:cubicBezTo>
                  <a:pt x="14771" y="12568"/>
                  <a:pt x="14892" y="12429"/>
                  <a:pt x="14982" y="12402"/>
                </a:cubicBezTo>
                <a:cubicBezTo>
                  <a:pt x="15094" y="12402"/>
                  <a:pt x="15126" y="12396"/>
                  <a:pt x="15180" y="12452"/>
                </a:cubicBezTo>
                <a:cubicBezTo>
                  <a:pt x="15193" y="12665"/>
                  <a:pt x="15091" y="12814"/>
                  <a:pt x="14932" y="12973"/>
                </a:cubicBezTo>
                <a:cubicBezTo>
                  <a:pt x="14837" y="13067"/>
                  <a:pt x="14726" y="13128"/>
                  <a:pt x="14660" y="13246"/>
                </a:cubicBezTo>
                <a:cubicBezTo>
                  <a:pt x="14687" y="13134"/>
                  <a:pt x="14806" y="13025"/>
                  <a:pt x="14932" y="13022"/>
                </a:cubicBezTo>
                <a:cubicBezTo>
                  <a:pt x="15173" y="13017"/>
                  <a:pt x="15142" y="13154"/>
                  <a:pt x="15404" y="13022"/>
                </a:cubicBezTo>
              </a:path>
              <a:path w="8906" h="8112">
                <a:moveTo>
                  <a:pt x="13271" y="14238"/>
                </a:moveTo>
                <a:cubicBezTo>
                  <a:pt x="13263" y="14205"/>
                  <a:pt x="13202" y="14108"/>
                  <a:pt x="13146" y="14139"/>
                </a:cubicBezTo>
                <a:cubicBezTo>
                  <a:pt x="13051" y="14191"/>
                  <a:pt x="12965" y="14567"/>
                  <a:pt x="13171" y="14486"/>
                </a:cubicBezTo>
                <a:cubicBezTo>
                  <a:pt x="13212" y="14453"/>
                  <a:pt x="13254" y="14420"/>
                  <a:pt x="13295" y="14387"/>
                </a:cubicBezTo>
                <a:cubicBezTo>
                  <a:pt x="13272" y="14202"/>
                  <a:pt x="13181" y="14089"/>
                  <a:pt x="13072" y="14337"/>
                </a:cubicBezTo>
                <a:cubicBezTo>
                  <a:pt x="13048" y="14454"/>
                  <a:pt x="13035" y="14491"/>
                  <a:pt x="13122" y="14536"/>
                </a:cubicBezTo>
                <a:cubicBezTo>
                  <a:pt x="13190" y="14480"/>
                  <a:pt x="13269" y="14199"/>
                  <a:pt x="13146" y="14288"/>
                </a:cubicBezTo>
                <a:cubicBezTo>
                  <a:pt x="13000" y="14394"/>
                  <a:pt x="13069" y="14670"/>
                  <a:pt x="13196" y="14461"/>
                </a:cubicBezTo>
                <a:cubicBezTo>
                  <a:pt x="13334" y="14234"/>
                  <a:pt x="12989" y="14282"/>
                  <a:pt x="13047" y="14461"/>
                </a:cubicBezTo>
                <a:cubicBezTo>
                  <a:pt x="13100" y="14625"/>
                  <a:pt x="13204" y="14418"/>
                  <a:pt x="13221" y="14387"/>
                </a:cubicBezTo>
              </a:path>
              <a:path w="8906" h="8112">
                <a:moveTo>
                  <a:pt x="13246" y="14387"/>
                </a:moveTo>
                <a:cubicBezTo>
                  <a:pt x="13268" y="14365"/>
                  <a:pt x="13273" y="14356"/>
                  <a:pt x="13295" y="14362"/>
                </a:cubicBezTo>
                <a:cubicBezTo>
                  <a:pt x="13254" y="14314"/>
                  <a:pt x="13225" y="14262"/>
                  <a:pt x="13146" y="14213"/>
                </a:cubicBezTo>
                <a:cubicBezTo>
                  <a:pt x="12996" y="14120"/>
                  <a:pt x="12834" y="14017"/>
                  <a:pt x="12675" y="13940"/>
                </a:cubicBezTo>
                <a:cubicBezTo>
                  <a:pt x="12538" y="13873"/>
                  <a:pt x="12393" y="13825"/>
                  <a:pt x="12254" y="13767"/>
                </a:cubicBezTo>
                <a:cubicBezTo>
                  <a:pt x="12128" y="13715"/>
                  <a:pt x="12006" y="13639"/>
                  <a:pt x="11881" y="13593"/>
                </a:cubicBezTo>
                <a:cubicBezTo>
                  <a:pt x="11632" y="13502"/>
                  <a:pt x="11438" y="13385"/>
                  <a:pt x="11212" y="13246"/>
                </a:cubicBezTo>
                <a:cubicBezTo>
                  <a:pt x="11028" y="13133"/>
                  <a:pt x="10865" y="13012"/>
                  <a:pt x="10666" y="12923"/>
                </a:cubicBezTo>
                <a:cubicBezTo>
                  <a:pt x="10515" y="12855"/>
                  <a:pt x="10367" y="12790"/>
                  <a:pt x="10220" y="12725"/>
                </a:cubicBezTo>
                <a:cubicBezTo>
                  <a:pt x="10116" y="12679"/>
                  <a:pt x="10028" y="12654"/>
                  <a:pt x="9922" y="12626"/>
                </a:cubicBezTo>
                <a:cubicBezTo>
                  <a:pt x="9876" y="12614"/>
                  <a:pt x="9790" y="12614"/>
                  <a:pt x="9823" y="12601"/>
                </a:cubicBezTo>
                <a:cubicBezTo>
                  <a:pt x="9864" y="12593"/>
                  <a:pt x="9906" y="12584"/>
                  <a:pt x="9947" y="12576"/>
                </a:cubicBezTo>
              </a:path>
              <a:path w="8906" h="8112">
                <a:moveTo>
                  <a:pt x="13419" y="14957"/>
                </a:moveTo>
                <a:cubicBezTo>
                  <a:pt x="13419" y="14908"/>
                  <a:pt x="13419" y="14891"/>
                  <a:pt x="13419" y="14858"/>
                </a:cubicBezTo>
                <a:cubicBezTo>
                  <a:pt x="13419" y="15059"/>
                  <a:pt x="13385" y="15253"/>
                  <a:pt x="13370" y="15453"/>
                </a:cubicBezTo>
                <a:cubicBezTo>
                  <a:pt x="13370" y="15528"/>
                  <a:pt x="13370" y="15586"/>
                  <a:pt x="13370" y="15528"/>
                </a:cubicBezTo>
              </a:path>
              <a:path w="8906" h="8112">
                <a:moveTo>
                  <a:pt x="11832" y="10170"/>
                </a:moveTo>
                <a:cubicBezTo>
                  <a:pt x="11844" y="10311"/>
                  <a:pt x="11874" y="10450"/>
                  <a:pt x="11881" y="10592"/>
                </a:cubicBezTo>
                <a:cubicBezTo>
                  <a:pt x="11881" y="10626"/>
                  <a:pt x="11877" y="10625"/>
                  <a:pt x="11857" y="10567"/>
                </a:cubicBezTo>
              </a:path>
              <a:path w="8906" h="8112">
                <a:moveTo>
                  <a:pt x="11584" y="10368"/>
                </a:moveTo>
                <a:cubicBezTo>
                  <a:pt x="11772" y="10336"/>
                  <a:pt x="12093" y="10186"/>
                  <a:pt x="12278" y="10244"/>
                </a:cubicBezTo>
                <a:cubicBezTo>
                  <a:pt x="12278" y="10252"/>
                  <a:pt x="12278" y="10261"/>
                  <a:pt x="12278" y="10269"/>
                </a:cubicBezTo>
              </a:path>
              <a:path w="8906" h="8112">
                <a:moveTo>
                  <a:pt x="14387" y="13990"/>
                </a:moveTo>
                <a:cubicBezTo>
                  <a:pt x="14370" y="14106"/>
                  <a:pt x="14342" y="14219"/>
                  <a:pt x="14337" y="14337"/>
                </a:cubicBezTo>
                <a:cubicBezTo>
                  <a:pt x="14337" y="14379"/>
                  <a:pt x="14337" y="14404"/>
                  <a:pt x="14337" y="14362"/>
                </a:cubicBezTo>
              </a:path>
              <a:path w="8906" h="8112">
                <a:moveTo>
                  <a:pt x="14213" y="14213"/>
                </a:moveTo>
                <a:cubicBezTo>
                  <a:pt x="14315" y="14155"/>
                  <a:pt x="14519" y="14002"/>
                  <a:pt x="14635" y="14015"/>
                </a:cubicBezTo>
                <a:cubicBezTo>
                  <a:pt x="14635" y="14023"/>
                  <a:pt x="14635" y="14031"/>
                  <a:pt x="14635" y="14039"/>
                </a:cubicBezTo>
              </a:path>
              <a:path w="8906" h="8112">
                <a:moveTo>
                  <a:pt x="7615" y="13221"/>
                </a:moveTo>
                <a:cubicBezTo>
                  <a:pt x="7615" y="13123"/>
                  <a:pt x="7560" y="12994"/>
                  <a:pt x="7441" y="12973"/>
                </a:cubicBezTo>
                <a:cubicBezTo>
                  <a:pt x="7156" y="12924"/>
                  <a:pt x="7068" y="13384"/>
                  <a:pt x="7169" y="13568"/>
                </a:cubicBezTo>
                <a:cubicBezTo>
                  <a:pt x="7202" y="13585"/>
                  <a:pt x="7235" y="13601"/>
                  <a:pt x="7268" y="13618"/>
                </a:cubicBezTo>
                <a:cubicBezTo>
                  <a:pt x="7459" y="13496"/>
                  <a:pt x="7560" y="13411"/>
                  <a:pt x="7590" y="13171"/>
                </a:cubicBezTo>
                <a:cubicBezTo>
                  <a:pt x="7590" y="13097"/>
                  <a:pt x="7590" y="13088"/>
                  <a:pt x="7590" y="13047"/>
                </a:cubicBezTo>
                <a:cubicBezTo>
                  <a:pt x="7618" y="13333"/>
                  <a:pt x="7642" y="13606"/>
                  <a:pt x="7689" y="13891"/>
                </a:cubicBezTo>
                <a:cubicBezTo>
                  <a:pt x="7689" y="13919"/>
                  <a:pt x="7692" y="13929"/>
                  <a:pt x="7714" y="13940"/>
                </a:cubicBezTo>
              </a:path>
              <a:path w="8906" h="8112">
                <a:moveTo>
                  <a:pt x="7789" y="15726"/>
                </a:moveTo>
                <a:cubicBezTo>
                  <a:pt x="7736" y="15710"/>
                  <a:pt x="7699" y="15696"/>
                  <a:pt x="7640" y="15677"/>
                </a:cubicBezTo>
                <a:cubicBezTo>
                  <a:pt x="7468" y="15621"/>
                  <a:pt x="7358" y="15627"/>
                  <a:pt x="7193" y="15701"/>
                </a:cubicBezTo>
                <a:cubicBezTo>
                  <a:pt x="7033" y="15773"/>
                  <a:pt x="6847" y="15925"/>
                  <a:pt x="6747" y="16073"/>
                </a:cubicBezTo>
                <a:cubicBezTo>
                  <a:pt x="6626" y="16252"/>
                  <a:pt x="6562" y="16460"/>
                  <a:pt x="6524" y="16669"/>
                </a:cubicBezTo>
                <a:cubicBezTo>
                  <a:pt x="6486" y="16874"/>
                  <a:pt x="6499" y="17081"/>
                  <a:pt x="6499" y="17289"/>
                </a:cubicBezTo>
                <a:cubicBezTo>
                  <a:pt x="6499" y="17462"/>
                  <a:pt x="6528" y="17523"/>
                  <a:pt x="6598" y="17661"/>
                </a:cubicBezTo>
                <a:cubicBezTo>
                  <a:pt x="6682" y="17827"/>
                  <a:pt x="6782" y="17909"/>
                  <a:pt x="6921" y="18033"/>
                </a:cubicBezTo>
                <a:cubicBezTo>
                  <a:pt x="7024" y="18126"/>
                  <a:pt x="7121" y="18252"/>
                  <a:pt x="7268" y="18281"/>
                </a:cubicBezTo>
                <a:cubicBezTo>
                  <a:pt x="7455" y="18318"/>
                  <a:pt x="7702" y="18286"/>
                  <a:pt x="7888" y="18256"/>
                </a:cubicBezTo>
                <a:cubicBezTo>
                  <a:pt x="8078" y="18225"/>
                  <a:pt x="8251" y="18181"/>
                  <a:pt x="8434" y="18132"/>
                </a:cubicBezTo>
                <a:cubicBezTo>
                  <a:pt x="8580" y="18093"/>
                  <a:pt x="8765" y="18042"/>
                  <a:pt x="8880" y="17934"/>
                </a:cubicBezTo>
                <a:cubicBezTo>
                  <a:pt x="8983" y="17838"/>
                  <a:pt x="9085" y="17730"/>
                  <a:pt x="9153" y="17611"/>
                </a:cubicBezTo>
                <a:cubicBezTo>
                  <a:pt x="9216" y="17501"/>
                  <a:pt x="9240" y="17387"/>
                  <a:pt x="9252" y="17264"/>
                </a:cubicBezTo>
                <a:cubicBezTo>
                  <a:pt x="9264" y="17138"/>
                  <a:pt x="9218" y="17060"/>
                  <a:pt x="9203" y="16942"/>
                </a:cubicBezTo>
                <a:cubicBezTo>
                  <a:pt x="9185" y="16807"/>
                  <a:pt x="9165" y="16758"/>
                  <a:pt x="9103" y="16644"/>
                </a:cubicBezTo>
                <a:cubicBezTo>
                  <a:pt x="9052" y="16550"/>
                  <a:pt x="8962" y="16484"/>
                  <a:pt x="8905" y="16396"/>
                </a:cubicBezTo>
                <a:cubicBezTo>
                  <a:pt x="8867" y="16338"/>
                  <a:pt x="8837" y="16235"/>
                  <a:pt x="8781" y="16173"/>
                </a:cubicBezTo>
                <a:cubicBezTo>
                  <a:pt x="8723" y="16109"/>
                  <a:pt x="8622" y="16080"/>
                  <a:pt x="8558" y="16024"/>
                </a:cubicBezTo>
                <a:cubicBezTo>
                  <a:pt x="8500" y="15973"/>
                  <a:pt x="8459" y="15924"/>
                  <a:pt x="8384" y="15900"/>
                </a:cubicBezTo>
                <a:cubicBezTo>
                  <a:pt x="8296" y="15872"/>
                  <a:pt x="8197" y="15854"/>
                  <a:pt x="8111" y="15825"/>
                </a:cubicBezTo>
                <a:cubicBezTo>
                  <a:pt x="8045" y="15802"/>
                  <a:pt x="7972" y="15768"/>
                  <a:pt x="7913" y="15751"/>
                </a:cubicBezTo>
                <a:cubicBezTo>
                  <a:pt x="7866" y="15737"/>
                  <a:pt x="7811" y="15738"/>
                  <a:pt x="7764" y="15726"/>
                </a:cubicBezTo>
                <a:cubicBezTo>
                  <a:pt x="7720" y="15715"/>
                  <a:pt x="7684" y="15710"/>
                  <a:pt x="7640" y="15701"/>
                </a:cubicBezTo>
              </a:path>
              <a:path w="8906" h="8112">
                <a:moveTo>
                  <a:pt x="10244" y="17016"/>
                </a:moveTo>
                <a:cubicBezTo>
                  <a:pt x="10212" y="17027"/>
                  <a:pt x="10181" y="17079"/>
                  <a:pt x="10145" y="17115"/>
                </a:cubicBezTo>
                <a:cubicBezTo>
                  <a:pt x="10073" y="17188"/>
                  <a:pt x="10096" y="17263"/>
                  <a:pt x="10096" y="17363"/>
                </a:cubicBezTo>
                <a:cubicBezTo>
                  <a:pt x="10096" y="17453"/>
                  <a:pt x="10100" y="17521"/>
                  <a:pt x="10195" y="17537"/>
                </a:cubicBezTo>
                <a:cubicBezTo>
                  <a:pt x="10302" y="17555"/>
                  <a:pt x="10461" y="17475"/>
                  <a:pt x="10492" y="17363"/>
                </a:cubicBezTo>
                <a:cubicBezTo>
                  <a:pt x="10522" y="17254"/>
                  <a:pt x="10470" y="17239"/>
                  <a:pt x="10418" y="17165"/>
                </a:cubicBezTo>
                <a:cubicBezTo>
                  <a:pt x="10383" y="17115"/>
                  <a:pt x="10403" y="17085"/>
                  <a:pt x="10344" y="17066"/>
                </a:cubicBezTo>
                <a:cubicBezTo>
                  <a:pt x="10325" y="17060"/>
                  <a:pt x="10289" y="17066"/>
                  <a:pt x="10269" y="170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75040" y="5537160"/>
            <a:ext cx="206280" cy="231840"/>
          </a:xfrm>
          <a:custGeom>
            <a:avLst/>
            <a:gdLst/>
            <a:ahLst/>
            <a:rect l="l" t="t" r="r" b="b"/>
            <a:pathLst>
              <a:path w="572" h="646">
                <a:moveTo>
                  <a:pt x="11013" y="15404"/>
                </a:moveTo>
                <a:cubicBezTo>
                  <a:pt x="10934" y="15377"/>
                  <a:pt x="10786" y="15657"/>
                  <a:pt x="10765" y="15751"/>
                </a:cubicBezTo>
                <a:cubicBezTo>
                  <a:pt x="10765" y="15918"/>
                  <a:pt x="10743" y="15963"/>
                  <a:pt x="10840" y="16024"/>
                </a:cubicBezTo>
                <a:cubicBezTo>
                  <a:pt x="11097" y="15954"/>
                  <a:pt x="11380" y="15845"/>
                  <a:pt x="11336" y="15503"/>
                </a:cubicBezTo>
                <a:cubicBezTo>
                  <a:pt x="11308" y="15286"/>
                  <a:pt x="11127" y="15394"/>
                  <a:pt x="11013" y="154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38760" y="5116680"/>
            <a:ext cx="88560" cy="161640"/>
          </a:xfrm>
          <a:custGeom>
            <a:avLst/>
            <a:gdLst/>
            <a:ahLst/>
            <a:rect l="l" t="t" r="r" b="b"/>
            <a:pathLst>
              <a:path w="249" h="448">
                <a:moveTo>
                  <a:pt x="11112" y="14436"/>
                </a:moveTo>
                <a:cubicBezTo>
                  <a:pt x="11164" y="14352"/>
                  <a:pt x="11110" y="14295"/>
                  <a:pt x="11063" y="14213"/>
                </a:cubicBezTo>
                <a:cubicBezTo>
                  <a:pt x="11040" y="14269"/>
                  <a:pt x="10884" y="14560"/>
                  <a:pt x="11013" y="14585"/>
                </a:cubicBezTo>
                <a:cubicBezTo>
                  <a:pt x="11204" y="14623"/>
                  <a:pt x="11240" y="14304"/>
                  <a:pt x="11137" y="14312"/>
                </a:cubicBezTo>
                <a:cubicBezTo>
                  <a:pt x="10949" y="14327"/>
                  <a:pt x="10940" y="14571"/>
                  <a:pt x="10988" y="14660"/>
                </a:cubicBezTo>
                <a:cubicBezTo>
                  <a:pt x="11054" y="14622"/>
                  <a:pt x="11250" y="14310"/>
                  <a:pt x="11063" y="14387"/>
                </a:cubicBezTo>
                <a:cubicBezTo>
                  <a:pt x="10989" y="14460"/>
                  <a:pt x="10964" y="14484"/>
                  <a:pt x="10964" y="14560"/>
                </a:cubicBezTo>
                <a:cubicBezTo>
                  <a:pt x="11059" y="14603"/>
                  <a:pt x="11216" y="14412"/>
                  <a:pt x="11112" y="14412"/>
                </a:cubicBezTo>
                <a:cubicBezTo>
                  <a:pt x="11040" y="14412"/>
                  <a:pt x="11062" y="14483"/>
                  <a:pt x="11013" y="145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14800" y="4527720"/>
            <a:ext cx="393480" cy="330120"/>
          </a:xfrm>
          <a:custGeom>
            <a:avLst/>
            <a:gdLst/>
            <a:ahLst/>
            <a:rect l="l" t="t" r="r" b="b"/>
            <a:pathLst>
              <a:path w="1092" h="919">
                <a:moveTo>
                  <a:pt x="9922" y="12601"/>
                </a:moveTo>
                <a:cubicBezTo>
                  <a:pt x="9803" y="12648"/>
                  <a:pt x="9784" y="12780"/>
                  <a:pt x="9823" y="12898"/>
                </a:cubicBezTo>
                <a:cubicBezTo>
                  <a:pt x="9841" y="12952"/>
                  <a:pt x="9996" y="12701"/>
                  <a:pt x="9971" y="12601"/>
                </a:cubicBezTo>
                <a:cubicBezTo>
                  <a:pt x="9865" y="12601"/>
                  <a:pt x="9649" y="12724"/>
                  <a:pt x="9798" y="12874"/>
                </a:cubicBezTo>
                <a:cubicBezTo>
                  <a:pt x="9823" y="12874"/>
                  <a:pt x="9847" y="12874"/>
                  <a:pt x="9872" y="12874"/>
                </a:cubicBezTo>
                <a:cubicBezTo>
                  <a:pt x="9966" y="12752"/>
                  <a:pt x="9927" y="12528"/>
                  <a:pt x="9798" y="12700"/>
                </a:cubicBezTo>
                <a:cubicBezTo>
                  <a:pt x="9776" y="12789"/>
                  <a:pt x="9760" y="12814"/>
                  <a:pt x="9823" y="12849"/>
                </a:cubicBezTo>
              </a:path>
              <a:path w="1092" h="919">
                <a:moveTo>
                  <a:pt x="9153" y="12700"/>
                </a:moveTo>
                <a:cubicBezTo>
                  <a:pt x="8975" y="12730"/>
                  <a:pt x="8976" y="12941"/>
                  <a:pt x="8954" y="13097"/>
                </a:cubicBezTo>
                <a:cubicBezTo>
                  <a:pt x="8934" y="13327"/>
                  <a:pt x="8904" y="13381"/>
                  <a:pt x="9004" y="13494"/>
                </a:cubicBezTo>
                <a:cubicBezTo>
                  <a:pt x="9283" y="13438"/>
                  <a:pt x="9506" y="13293"/>
                  <a:pt x="9451" y="12948"/>
                </a:cubicBezTo>
                <a:cubicBezTo>
                  <a:pt x="9449" y="12934"/>
                  <a:pt x="9225" y="12598"/>
                  <a:pt x="9178" y="12700"/>
                </a:cubicBezTo>
                <a:cubicBezTo>
                  <a:pt x="9170" y="12741"/>
                  <a:pt x="9161" y="12783"/>
                  <a:pt x="9153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78800" y="3687840"/>
            <a:ext cx="563400" cy="384120"/>
          </a:xfrm>
          <a:custGeom>
            <a:avLst/>
            <a:gdLst/>
            <a:ahLst/>
            <a:rect l="l" t="t" r="r" b="b"/>
            <a:pathLst>
              <a:path w="1564" h="1068">
                <a:moveTo>
                  <a:pt x="21506" y="10666"/>
                </a:moveTo>
                <a:cubicBezTo>
                  <a:pt x="21518" y="10602"/>
                  <a:pt x="21543" y="10524"/>
                  <a:pt x="21580" y="10468"/>
                </a:cubicBezTo>
                <a:cubicBezTo>
                  <a:pt x="21624" y="10401"/>
                  <a:pt x="21684" y="10393"/>
                  <a:pt x="21754" y="10393"/>
                </a:cubicBezTo>
                <a:cubicBezTo>
                  <a:pt x="21841" y="10393"/>
                  <a:pt x="21858" y="10463"/>
                  <a:pt x="21878" y="10542"/>
                </a:cubicBezTo>
                <a:cubicBezTo>
                  <a:pt x="21893" y="10603"/>
                  <a:pt x="21804" y="10665"/>
                  <a:pt x="21779" y="10691"/>
                </a:cubicBezTo>
                <a:cubicBezTo>
                  <a:pt x="21709" y="10765"/>
                  <a:pt x="21629" y="10821"/>
                  <a:pt x="21555" y="10889"/>
                </a:cubicBezTo>
                <a:cubicBezTo>
                  <a:pt x="21467" y="10970"/>
                  <a:pt x="21431" y="11083"/>
                  <a:pt x="21382" y="11187"/>
                </a:cubicBezTo>
                <a:cubicBezTo>
                  <a:pt x="21345" y="11260"/>
                  <a:pt x="21328" y="11265"/>
                  <a:pt x="21332" y="11311"/>
                </a:cubicBezTo>
                <a:cubicBezTo>
                  <a:pt x="21381" y="11196"/>
                  <a:pt x="21469" y="11084"/>
                  <a:pt x="21555" y="10988"/>
                </a:cubicBezTo>
                <a:cubicBezTo>
                  <a:pt x="21563" y="10980"/>
                  <a:pt x="21572" y="10972"/>
                  <a:pt x="21580" y="10964"/>
                </a:cubicBezTo>
                <a:cubicBezTo>
                  <a:pt x="21665" y="10988"/>
                  <a:pt x="21705" y="11072"/>
                  <a:pt x="21754" y="11162"/>
                </a:cubicBezTo>
                <a:cubicBezTo>
                  <a:pt x="21830" y="11300"/>
                  <a:pt x="21950" y="11179"/>
                  <a:pt x="22051" y="11112"/>
                </a:cubicBezTo>
                <a:cubicBezTo>
                  <a:pt x="22101" y="11079"/>
                  <a:pt x="22065" y="11036"/>
                  <a:pt x="22051" y="10988"/>
                </a:cubicBezTo>
              </a:path>
              <a:path w="1564" h="1068">
                <a:moveTo>
                  <a:pt x="22622" y="10244"/>
                </a:moveTo>
                <a:cubicBezTo>
                  <a:pt x="22592" y="10363"/>
                  <a:pt x="22579" y="10512"/>
                  <a:pt x="22547" y="10641"/>
                </a:cubicBezTo>
                <a:cubicBezTo>
                  <a:pt x="22527" y="10682"/>
                  <a:pt x="22519" y="10688"/>
                  <a:pt x="22523" y="10716"/>
                </a:cubicBezTo>
              </a:path>
              <a:path w="1564" h="1068">
                <a:moveTo>
                  <a:pt x="22399" y="10542"/>
                </a:moveTo>
                <a:cubicBezTo>
                  <a:pt x="22526" y="10472"/>
                  <a:pt x="22740" y="10353"/>
                  <a:pt x="22895" y="10344"/>
                </a:cubicBezTo>
                <a:cubicBezTo>
                  <a:pt x="22895" y="10352"/>
                  <a:pt x="22895" y="10360"/>
                  <a:pt x="22895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45200" y="3894120"/>
            <a:ext cx="125640" cy="169920"/>
          </a:xfrm>
          <a:custGeom>
            <a:avLst/>
            <a:gdLst/>
            <a:ahLst/>
            <a:rect l="l" t="t" r="r" b="b"/>
            <a:pathLst>
              <a:path w="348" h="472">
                <a:moveTo>
                  <a:pt x="19769" y="10840"/>
                </a:moveTo>
                <a:cubicBezTo>
                  <a:pt x="19777" y="10832"/>
                  <a:pt x="19786" y="10823"/>
                  <a:pt x="19794" y="10815"/>
                </a:cubicBezTo>
                <a:cubicBezTo>
                  <a:pt x="19774" y="10955"/>
                  <a:pt x="19738" y="11096"/>
                  <a:pt x="19720" y="11237"/>
                </a:cubicBezTo>
                <a:cubicBezTo>
                  <a:pt x="19720" y="11253"/>
                  <a:pt x="19720" y="11270"/>
                  <a:pt x="19720" y="11286"/>
                </a:cubicBezTo>
              </a:path>
              <a:path w="348" h="472">
                <a:moveTo>
                  <a:pt x="19571" y="11137"/>
                </a:moveTo>
                <a:cubicBezTo>
                  <a:pt x="19684" y="11087"/>
                  <a:pt x="19796" y="11033"/>
                  <a:pt x="19918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48200" y="2500200"/>
            <a:ext cx="858960" cy="1660680"/>
          </a:xfrm>
          <a:custGeom>
            <a:avLst/>
            <a:gdLst/>
            <a:ahLst/>
            <a:rect l="l" t="t" r="r" b="b"/>
            <a:pathLst>
              <a:path w="2382" h="4615">
                <a:moveTo>
                  <a:pt x="18405" y="10021"/>
                </a:moveTo>
                <a:cubicBezTo>
                  <a:pt x="18433" y="10021"/>
                  <a:pt x="18569" y="10040"/>
                  <a:pt x="18504" y="9996"/>
                </a:cubicBezTo>
                <a:cubicBezTo>
                  <a:pt x="18355" y="9895"/>
                  <a:pt x="18323" y="10183"/>
                  <a:pt x="18331" y="10269"/>
                </a:cubicBezTo>
                <a:cubicBezTo>
                  <a:pt x="18346" y="10424"/>
                  <a:pt x="18568" y="10162"/>
                  <a:pt x="18579" y="10096"/>
                </a:cubicBezTo>
                <a:cubicBezTo>
                  <a:pt x="18596" y="9993"/>
                  <a:pt x="18464" y="9988"/>
                  <a:pt x="18405" y="9971"/>
                </a:cubicBezTo>
                <a:cubicBezTo>
                  <a:pt x="18311" y="10058"/>
                  <a:pt x="18188" y="10229"/>
                  <a:pt x="18430" y="10244"/>
                </a:cubicBezTo>
                <a:cubicBezTo>
                  <a:pt x="18637" y="10257"/>
                  <a:pt x="18620" y="10037"/>
                  <a:pt x="18579" y="9922"/>
                </a:cubicBezTo>
                <a:cubicBezTo>
                  <a:pt x="18465" y="9941"/>
                  <a:pt x="18304" y="10038"/>
                  <a:pt x="18380" y="10195"/>
                </a:cubicBezTo>
                <a:cubicBezTo>
                  <a:pt x="18458" y="10356"/>
                  <a:pt x="18641" y="10046"/>
                  <a:pt x="18604" y="9947"/>
                </a:cubicBezTo>
                <a:cubicBezTo>
                  <a:pt x="18587" y="9947"/>
                  <a:pt x="18571" y="9947"/>
                  <a:pt x="18554" y="9947"/>
                </a:cubicBezTo>
                <a:cubicBezTo>
                  <a:pt x="18524" y="9969"/>
                  <a:pt x="18282" y="10260"/>
                  <a:pt x="18455" y="10269"/>
                </a:cubicBezTo>
                <a:cubicBezTo>
                  <a:pt x="18607" y="10277"/>
                  <a:pt x="18615" y="9910"/>
                  <a:pt x="18504" y="9971"/>
                </a:cubicBezTo>
                <a:cubicBezTo>
                  <a:pt x="18430" y="10072"/>
                  <a:pt x="18405" y="10106"/>
                  <a:pt x="18405" y="10195"/>
                </a:cubicBezTo>
              </a:path>
              <a:path w="2382" h="4615">
                <a:moveTo>
                  <a:pt x="18306" y="9996"/>
                </a:moveTo>
                <a:cubicBezTo>
                  <a:pt x="18353" y="10023"/>
                  <a:pt x="18333" y="10005"/>
                  <a:pt x="18380" y="10046"/>
                </a:cubicBezTo>
                <a:cubicBezTo>
                  <a:pt x="18341" y="9929"/>
                  <a:pt x="18285" y="9814"/>
                  <a:pt x="18231" y="9699"/>
                </a:cubicBezTo>
                <a:cubicBezTo>
                  <a:pt x="18198" y="9629"/>
                  <a:pt x="18164" y="9569"/>
                  <a:pt x="18132" y="9500"/>
                </a:cubicBezTo>
                <a:cubicBezTo>
                  <a:pt x="18086" y="9402"/>
                  <a:pt x="18043" y="9305"/>
                  <a:pt x="18008" y="9203"/>
                </a:cubicBezTo>
                <a:cubicBezTo>
                  <a:pt x="17987" y="9144"/>
                  <a:pt x="17955" y="9071"/>
                  <a:pt x="17934" y="9004"/>
                </a:cubicBezTo>
                <a:cubicBezTo>
                  <a:pt x="17917" y="8950"/>
                  <a:pt x="17898" y="8879"/>
                  <a:pt x="17884" y="8830"/>
                </a:cubicBezTo>
                <a:cubicBezTo>
                  <a:pt x="17853" y="8716"/>
                  <a:pt x="17799" y="8610"/>
                  <a:pt x="17735" y="8508"/>
                </a:cubicBezTo>
                <a:cubicBezTo>
                  <a:pt x="17676" y="8415"/>
                  <a:pt x="17622" y="8326"/>
                  <a:pt x="17562" y="8235"/>
                </a:cubicBezTo>
                <a:cubicBezTo>
                  <a:pt x="17514" y="8162"/>
                  <a:pt x="17493" y="8050"/>
                  <a:pt x="17438" y="7987"/>
                </a:cubicBezTo>
                <a:cubicBezTo>
                  <a:pt x="17365" y="7903"/>
                  <a:pt x="17262" y="7846"/>
                  <a:pt x="17190" y="7764"/>
                </a:cubicBezTo>
                <a:cubicBezTo>
                  <a:pt x="17084" y="7642"/>
                  <a:pt x="17014" y="7485"/>
                  <a:pt x="16942" y="7342"/>
                </a:cubicBezTo>
                <a:cubicBezTo>
                  <a:pt x="16902" y="7262"/>
                  <a:pt x="16849" y="7176"/>
                  <a:pt x="16818" y="7094"/>
                </a:cubicBezTo>
                <a:cubicBezTo>
                  <a:pt x="16802" y="7052"/>
                  <a:pt x="16784" y="7011"/>
                  <a:pt x="16768" y="6970"/>
                </a:cubicBezTo>
                <a:cubicBezTo>
                  <a:pt x="16768" y="6945"/>
                  <a:pt x="16768" y="6937"/>
                  <a:pt x="16768" y="6970"/>
                </a:cubicBezTo>
              </a:path>
              <a:path w="2382" h="4615">
                <a:moveTo>
                  <a:pt x="18479" y="10691"/>
                </a:moveTo>
                <a:cubicBezTo>
                  <a:pt x="18479" y="10630"/>
                  <a:pt x="18463" y="10754"/>
                  <a:pt x="18455" y="10815"/>
                </a:cubicBezTo>
                <a:cubicBezTo>
                  <a:pt x="18424" y="11060"/>
                  <a:pt x="18382" y="11293"/>
                  <a:pt x="18331" y="11534"/>
                </a:cubicBezTo>
                <a:cubicBezTo>
                  <a:pt x="18324" y="11567"/>
                  <a:pt x="18316" y="11538"/>
                  <a:pt x="18306" y="11509"/>
                </a:cubicBezTo>
              </a:path>
              <a:path w="2382" h="4615">
                <a:moveTo>
                  <a:pt x="17041" y="8830"/>
                </a:moveTo>
                <a:cubicBezTo>
                  <a:pt x="17092" y="8830"/>
                  <a:pt x="17090" y="8832"/>
                  <a:pt x="17090" y="8781"/>
                </a:cubicBezTo>
                <a:cubicBezTo>
                  <a:pt x="17090" y="8727"/>
                  <a:pt x="17102" y="8670"/>
                  <a:pt x="17041" y="8657"/>
                </a:cubicBezTo>
                <a:cubicBezTo>
                  <a:pt x="16960" y="8639"/>
                  <a:pt x="16950" y="8746"/>
                  <a:pt x="16966" y="8806"/>
                </a:cubicBezTo>
                <a:cubicBezTo>
                  <a:pt x="17001" y="8839"/>
                  <a:pt x="17022" y="8847"/>
                  <a:pt x="17066" y="8830"/>
                </a:cubicBezTo>
                <a:cubicBezTo>
                  <a:pt x="17097" y="8793"/>
                  <a:pt x="17254" y="8626"/>
                  <a:pt x="17115" y="8582"/>
                </a:cubicBezTo>
                <a:cubicBezTo>
                  <a:pt x="16964" y="8534"/>
                  <a:pt x="16913" y="8785"/>
                  <a:pt x="16942" y="8880"/>
                </a:cubicBezTo>
                <a:cubicBezTo>
                  <a:pt x="16972" y="8977"/>
                  <a:pt x="17095" y="8805"/>
                  <a:pt x="17165" y="8731"/>
                </a:cubicBezTo>
                <a:cubicBezTo>
                  <a:pt x="17197" y="8661"/>
                  <a:pt x="17171" y="8456"/>
                  <a:pt x="17041" y="8582"/>
                </a:cubicBezTo>
                <a:cubicBezTo>
                  <a:pt x="16996" y="8625"/>
                  <a:pt x="16873" y="9045"/>
                  <a:pt x="16991" y="8954"/>
                </a:cubicBezTo>
                <a:cubicBezTo>
                  <a:pt x="17102" y="8869"/>
                  <a:pt x="17131" y="8706"/>
                  <a:pt x="17016" y="8657"/>
                </a:cubicBezTo>
                <a:cubicBezTo>
                  <a:pt x="16979" y="8715"/>
                  <a:pt x="16858" y="9174"/>
                  <a:pt x="17090" y="9004"/>
                </a:cubicBezTo>
                <a:cubicBezTo>
                  <a:pt x="17227" y="8904"/>
                  <a:pt x="17160" y="8768"/>
                  <a:pt x="17115" y="8657"/>
                </a:cubicBezTo>
                <a:cubicBezTo>
                  <a:pt x="17021" y="8695"/>
                  <a:pt x="16942" y="8814"/>
                  <a:pt x="17066" y="8905"/>
                </a:cubicBezTo>
                <a:cubicBezTo>
                  <a:pt x="17108" y="8905"/>
                  <a:pt x="17122" y="8888"/>
                  <a:pt x="17115" y="8830"/>
                </a:cubicBezTo>
              </a:path>
              <a:path w="2382" h="4615">
                <a:moveTo>
                  <a:pt x="17909" y="8136"/>
                </a:moveTo>
                <a:cubicBezTo>
                  <a:pt x="18008" y="8037"/>
                  <a:pt x="18108" y="7937"/>
                  <a:pt x="18207" y="7838"/>
                </a:cubicBezTo>
              </a:path>
              <a:path w="2382" h="4615">
                <a:moveTo>
                  <a:pt x="16396" y="9079"/>
                </a:moveTo>
                <a:cubicBezTo>
                  <a:pt x="16347" y="9039"/>
                  <a:pt x="16348" y="9033"/>
                  <a:pt x="16297" y="9054"/>
                </a:cubicBezTo>
                <a:cubicBezTo>
                  <a:pt x="16246" y="9171"/>
                  <a:pt x="16196" y="9391"/>
                  <a:pt x="16321" y="9500"/>
                </a:cubicBezTo>
                <a:cubicBezTo>
                  <a:pt x="16489" y="9646"/>
                  <a:pt x="16663" y="9466"/>
                  <a:pt x="16743" y="9327"/>
                </a:cubicBezTo>
                <a:cubicBezTo>
                  <a:pt x="16791" y="9244"/>
                  <a:pt x="16834" y="9047"/>
                  <a:pt x="16743" y="8979"/>
                </a:cubicBezTo>
                <a:cubicBezTo>
                  <a:pt x="16664" y="8920"/>
                  <a:pt x="16482" y="8902"/>
                  <a:pt x="16396" y="8954"/>
                </a:cubicBezTo>
                <a:cubicBezTo>
                  <a:pt x="16368" y="8971"/>
                  <a:pt x="16388" y="9021"/>
                  <a:pt x="16396" y="90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40760" y="1758960"/>
            <a:ext cx="1179360" cy="1751040"/>
          </a:xfrm>
          <a:custGeom>
            <a:avLst/>
            <a:gdLst/>
            <a:ahLst/>
            <a:rect l="l" t="t" r="r" b="b"/>
            <a:pathLst>
              <a:path w="3276" h="4862">
                <a:moveTo>
                  <a:pt x="20563" y="5035"/>
                </a:moveTo>
                <a:cubicBezTo>
                  <a:pt x="20577" y="5030"/>
                  <a:pt x="20626" y="5011"/>
                  <a:pt x="20613" y="4986"/>
                </a:cubicBezTo>
                <a:cubicBezTo>
                  <a:pt x="20595" y="4950"/>
                  <a:pt x="20546" y="4880"/>
                  <a:pt x="20513" y="4936"/>
                </a:cubicBezTo>
                <a:cubicBezTo>
                  <a:pt x="20487" y="4980"/>
                  <a:pt x="20412" y="5275"/>
                  <a:pt x="20588" y="5085"/>
                </a:cubicBezTo>
                <a:cubicBezTo>
                  <a:pt x="20623" y="5047"/>
                  <a:pt x="20679" y="4789"/>
                  <a:pt x="20538" y="4887"/>
                </a:cubicBezTo>
                <a:cubicBezTo>
                  <a:pt x="20487" y="4965"/>
                  <a:pt x="20469" y="4994"/>
                  <a:pt x="20464" y="5060"/>
                </a:cubicBezTo>
                <a:cubicBezTo>
                  <a:pt x="20501" y="5077"/>
                  <a:pt x="20784" y="5084"/>
                  <a:pt x="20687" y="4986"/>
                </a:cubicBezTo>
                <a:cubicBezTo>
                  <a:pt x="20619" y="4918"/>
                  <a:pt x="20505" y="5032"/>
                  <a:pt x="20464" y="5060"/>
                </a:cubicBezTo>
                <a:cubicBezTo>
                  <a:pt x="20476" y="5209"/>
                  <a:pt x="20562" y="5253"/>
                  <a:pt x="20638" y="5085"/>
                </a:cubicBezTo>
                <a:cubicBezTo>
                  <a:pt x="20667" y="5021"/>
                  <a:pt x="20554" y="5057"/>
                  <a:pt x="20489" y="5085"/>
                </a:cubicBezTo>
                <a:cubicBezTo>
                  <a:pt x="20426" y="5211"/>
                  <a:pt x="20370" y="5448"/>
                  <a:pt x="20638" y="5209"/>
                </a:cubicBezTo>
                <a:cubicBezTo>
                  <a:pt x="20836" y="5032"/>
                  <a:pt x="20627" y="4914"/>
                  <a:pt x="20464" y="5060"/>
                </a:cubicBezTo>
                <a:cubicBezTo>
                  <a:pt x="20302" y="5206"/>
                  <a:pt x="20469" y="5308"/>
                  <a:pt x="20588" y="5184"/>
                </a:cubicBezTo>
                <a:cubicBezTo>
                  <a:pt x="20605" y="5151"/>
                  <a:pt x="20621" y="5118"/>
                  <a:pt x="20638" y="5085"/>
                </a:cubicBezTo>
                <a:cubicBezTo>
                  <a:pt x="20534" y="4947"/>
                  <a:pt x="20488" y="5134"/>
                  <a:pt x="20489" y="5135"/>
                </a:cubicBezTo>
                <a:cubicBezTo>
                  <a:pt x="20533" y="5135"/>
                  <a:pt x="20547" y="5138"/>
                  <a:pt x="20563" y="5110"/>
                </a:cubicBezTo>
              </a:path>
              <a:path w="3276" h="4862">
                <a:moveTo>
                  <a:pt x="20538" y="5110"/>
                </a:moveTo>
                <a:cubicBezTo>
                  <a:pt x="20565" y="5158"/>
                  <a:pt x="20559" y="5162"/>
                  <a:pt x="20588" y="5209"/>
                </a:cubicBezTo>
                <a:cubicBezTo>
                  <a:pt x="20668" y="5338"/>
                  <a:pt x="20741" y="5467"/>
                  <a:pt x="20811" y="5606"/>
                </a:cubicBezTo>
                <a:cubicBezTo>
                  <a:pt x="20865" y="5714"/>
                  <a:pt x="20915" y="5829"/>
                  <a:pt x="20985" y="5928"/>
                </a:cubicBezTo>
                <a:cubicBezTo>
                  <a:pt x="21058" y="6031"/>
                  <a:pt x="21135" y="6124"/>
                  <a:pt x="21208" y="6226"/>
                </a:cubicBezTo>
                <a:cubicBezTo>
                  <a:pt x="21266" y="6307"/>
                  <a:pt x="21338" y="6379"/>
                  <a:pt x="21406" y="6449"/>
                </a:cubicBezTo>
                <a:cubicBezTo>
                  <a:pt x="21510" y="6556"/>
                  <a:pt x="21577" y="6684"/>
                  <a:pt x="21679" y="6796"/>
                </a:cubicBezTo>
                <a:cubicBezTo>
                  <a:pt x="21768" y="6893"/>
                  <a:pt x="21846" y="6994"/>
                  <a:pt x="21927" y="7094"/>
                </a:cubicBezTo>
                <a:cubicBezTo>
                  <a:pt x="22005" y="7191"/>
                  <a:pt x="22092" y="7285"/>
                  <a:pt x="22175" y="7392"/>
                </a:cubicBezTo>
                <a:cubicBezTo>
                  <a:pt x="22281" y="7529"/>
                  <a:pt x="22366" y="7678"/>
                  <a:pt x="22473" y="7813"/>
                </a:cubicBezTo>
                <a:cubicBezTo>
                  <a:pt x="22522" y="7876"/>
                  <a:pt x="22558" y="7949"/>
                  <a:pt x="22597" y="8012"/>
                </a:cubicBezTo>
                <a:cubicBezTo>
                  <a:pt x="22622" y="8053"/>
                  <a:pt x="22668" y="8084"/>
                  <a:pt x="22696" y="8136"/>
                </a:cubicBezTo>
                <a:cubicBezTo>
                  <a:pt x="22730" y="8199"/>
                  <a:pt x="22743" y="8277"/>
                  <a:pt x="22771" y="8334"/>
                </a:cubicBezTo>
                <a:cubicBezTo>
                  <a:pt x="22810" y="8415"/>
                  <a:pt x="22858" y="8494"/>
                  <a:pt x="22895" y="8582"/>
                </a:cubicBezTo>
                <a:cubicBezTo>
                  <a:pt x="22914" y="8628"/>
                  <a:pt x="22922" y="8716"/>
                  <a:pt x="22944" y="8756"/>
                </a:cubicBezTo>
                <a:cubicBezTo>
                  <a:pt x="22956" y="8778"/>
                  <a:pt x="22957" y="8734"/>
                  <a:pt x="22969" y="8756"/>
                </a:cubicBezTo>
              </a:path>
              <a:path w="3276" h="4862">
                <a:moveTo>
                  <a:pt x="20687" y="6276"/>
                </a:moveTo>
                <a:cubicBezTo>
                  <a:pt x="20670" y="6173"/>
                  <a:pt x="20640" y="6085"/>
                  <a:pt x="20638" y="5978"/>
                </a:cubicBezTo>
                <a:cubicBezTo>
                  <a:pt x="20634" y="5766"/>
                  <a:pt x="20571" y="5563"/>
                  <a:pt x="20513" y="5358"/>
                </a:cubicBezTo>
              </a:path>
              <a:path w="3276" h="4862">
                <a:moveTo>
                  <a:pt x="23217" y="9029"/>
                </a:moveTo>
                <a:cubicBezTo>
                  <a:pt x="23185" y="9018"/>
                  <a:pt x="23198" y="8974"/>
                  <a:pt x="23242" y="8930"/>
                </a:cubicBezTo>
                <a:cubicBezTo>
                  <a:pt x="23352" y="8819"/>
                  <a:pt x="23427" y="8823"/>
                  <a:pt x="23564" y="8830"/>
                </a:cubicBezTo>
                <a:cubicBezTo>
                  <a:pt x="23634" y="9011"/>
                  <a:pt x="23555" y="9070"/>
                  <a:pt x="23416" y="9203"/>
                </a:cubicBezTo>
                <a:cubicBezTo>
                  <a:pt x="23370" y="9247"/>
                  <a:pt x="23358" y="9278"/>
                  <a:pt x="23341" y="9227"/>
                </a:cubicBezTo>
                <a:cubicBezTo>
                  <a:pt x="23440" y="9158"/>
                  <a:pt x="23609" y="9069"/>
                  <a:pt x="23664" y="9252"/>
                </a:cubicBezTo>
                <a:cubicBezTo>
                  <a:pt x="23739" y="9503"/>
                  <a:pt x="23528" y="9732"/>
                  <a:pt x="23292" y="9748"/>
                </a:cubicBezTo>
                <a:cubicBezTo>
                  <a:pt x="23259" y="9740"/>
                  <a:pt x="23225" y="9731"/>
                  <a:pt x="23192" y="9723"/>
                </a:cubicBezTo>
                <a:cubicBezTo>
                  <a:pt x="23244" y="9646"/>
                  <a:pt x="23315" y="9667"/>
                  <a:pt x="23416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97760" y="1509840"/>
            <a:ext cx="366480" cy="419040"/>
          </a:xfrm>
          <a:custGeom>
            <a:avLst/>
            <a:gdLst/>
            <a:ahLst/>
            <a:rect l="l" t="t" r="r" b="b"/>
            <a:pathLst>
              <a:path w="1018" h="1167">
                <a:moveTo>
                  <a:pt x="18231" y="5184"/>
                </a:moveTo>
                <a:cubicBezTo>
                  <a:pt x="18124" y="5184"/>
                  <a:pt x="18071" y="5160"/>
                  <a:pt x="18008" y="5259"/>
                </a:cubicBezTo>
                <a:cubicBezTo>
                  <a:pt x="17939" y="5367"/>
                  <a:pt x="18038" y="5359"/>
                  <a:pt x="18107" y="5333"/>
                </a:cubicBezTo>
                <a:cubicBezTo>
                  <a:pt x="18149" y="5279"/>
                  <a:pt x="18235" y="5189"/>
                  <a:pt x="18132" y="5135"/>
                </a:cubicBezTo>
                <a:cubicBezTo>
                  <a:pt x="18050" y="5092"/>
                  <a:pt x="17917" y="5075"/>
                  <a:pt x="17909" y="5184"/>
                </a:cubicBezTo>
                <a:cubicBezTo>
                  <a:pt x="17909" y="5217"/>
                  <a:pt x="17909" y="5250"/>
                  <a:pt x="17909" y="5283"/>
                </a:cubicBezTo>
                <a:cubicBezTo>
                  <a:pt x="18015" y="5366"/>
                  <a:pt x="18122" y="5377"/>
                  <a:pt x="18182" y="5209"/>
                </a:cubicBezTo>
                <a:cubicBezTo>
                  <a:pt x="18182" y="5117"/>
                  <a:pt x="18184" y="5090"/>
                  <a:pt x="18157" y="5035"/>
                </a:cubicBezTo>
                <a:cubicBezTo>
                  <a:pt x="18065" y="5020"/>
                  <a:pt x="17897" y="5040"/>
                  <a:pt x="17934" y="5209"/>
                </a:cubicBezTo>
                <a:cubicBezTo>
                  <a:pt x="17972" y="5385"/>
                  <a:pt x="18248" y="5326"/>
                  <a:pt x="18231" y="5159"/>
                </a:cubicBezTo>
                <a:cubicBezTo>
                  <a:pt x="18215" y="5134"/>
                  <a:pt x="18198" y="5110"/>
                  <a:pt x="18182" y="5085"/>
                </a:cubicBezTo>
                <a:cubicBezTo>
                  <a:pt x="18053" y="5073"/>
                  <a:pt x="18008" y="5259"/>
                  <a:pt x="18058" y="5259"/>
                </a:cubicBezTo>
                <a:cubicBezTo>
                  <a:pt x="18066" y="5242"/>
                  <a:pt x="18075" y="5226"/>
                  <a:pt x="18083" y="5209"/>
                </a:cubicBezTo>
              </a:path>
              <a:path w="1018" h="1167">
                <a:moveTo>
                  <a:pt x="17810" y="4192"/>
                </a:moveTo>
                <a:cubicBezTo>
                  <a:pt x="17638" y="4235"/>
                  <a:pt x="17497" y="4261"/>
                  <a:pt x="17314" y="4266"/>
                </a:cubicBezTo>
                <a:cubicBezTo>
                  <a:pt x="17184" y="4269"/>
                  <a:pt x="17239" y="4416"/>
                  <a:pt x="17239" y="4514"/>
                </a:cubicBezTo>
                <a:cubicBezTo>
                  <a:pt x="17239" y="4522"/>
                  <a:pt x="17239" y="4531"/>
                  <a:pt x="17239" y="4539"/>
                </a:cubicBezTo>
                <a:cubicBezTo>
                  <a:pt x="17239" y="4547"/>
                  <a:pt x="17239" y="4556"/>
                  <a:pt x="17239" y="4564"/>
                </a:cubicBezTo>
                <a:cubicBezTo>
                  <a:pt x="17354" y="4541"/>
                  <a:pt x="17401" y="4465"/>
                  <a:pt x="17537" y="4465"/>
                </a:cubicBezTo>
                <a:cubicBezTo>
                  <a:pt x="17762" y="4465"/>
                  <a:pt x="17788" y="4707"/>
                  <a:pt x="17636" y="4837"/>
                </a:cubicBezTo>
                <a:cubicBezTo>
                  <a:pt x="17521" y="4936"/>
                  <a:pt x="17345" y="4903"/>
                  <a:pt x="17214" y="48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86720" y="1509840"/>
            <a:ext cx="223560" cy="204840"/>
          </a:xfrm>
          <a:custGeom>
            <a:avLst/>
            <a:gdLst/>
            <a:ahLst/>
            <a:rect l="l" t="t" r="r" b="b"/>
            <a:pathLst>
              <a:path w="621" h="571">
                <a:moveTo>
                  <a:pt x="19100" y="4242"/>
                </a:moveTo>
                <a:cubicBezTo>
                  <a:pt x="19100" y="4234"/>
                  <a:pt x="19100" y="4150"/>
                  <a:pt x="19100" y="4217"/>
                </a:cubicBezTo>
                <a:cubicBezTo>
                  <a:pt x="19106" y="4400"/>
                  <a:pt x="19124" y="4579"/>
                  <a:pt x="19124" y="4762"/>
                </a:cubicBezTo>
              </a:path>
              <a:path w="621" h="571">
                <a:moveTo>
                  <a:pt x="18852" y="4415"/>
                </a:moveTo>
                <a:cubicBezTo>
                  <a:pt x="18989" y="4331"/>
                  <a:pt x="19193" y="4385"/>
                  <a:pt x="19348" y="4390"/>
                </a:cubicBezTo>
                <a:cubicBezTo>
                  <a:pt x="19426" y="4390"/>
                  <a:pt x="19444" y="4375"/>
                  <a:pt x="19472" y="44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20960" y="2857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7838" y="7938"/>
                </a:moveTo>
                <a:lnTo>
                  <a:pt x="7838" y="793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26080" y="2374920"/>
            <a:ext cx="214200" cy="241200"/>
          </a:xfrm>
          <a:custGeom>
            <a:avLst/>
            <a:gdLst/>
            <a:ahLst/>
            <a:rect l="l" t="t" r="r" b="b"/>
            <a:pathLst>
              <a:path w="596" h="671">
                <a:moveTo>
                  <a:pt x="15850" y="6648"/>
                </a:moveTo>
                <a:cubicBezTo>
                  <a:pt x="15834" y="6601"/>
                  <a:pt x="15753" y="6654"/>
                  <a:pt x="15726" y="6697"/>
                </a:cubicBezTo>
                <a:cubicBezTo>
                  <a:pt x="15620" y="6868"/>
                  <a:pt x="15602" y="7010"/>
                  <a:pt x="15726" y="7169"/>
                </a:cubicBezTo>
                <a:cubicBezTo>
                  <a:pt x="15839" y="7313"/>
                  <a:pt x="16012" y="7276"/>
                  <a:pt x="16123" y="7144"/>
                </a:cubicBezTo>
                <a:cubicBezTo>
                  <a:pt x="16255" y="6988"/>
                  <a:pt x="16219" y="6863"/>
                  <a:pt x="16098" y="6722"/>
                </a:cubicBezTo>
                <a:cubicBezTo>
                  <a:pt x="16081" y="6702"/>
                  <a:pt x="15852" y="6505"/>
                  <a:pt x="15801" y="6598"/>
                </a:cubicBezTo>
                <a:cubicBezTo>
                  <a:pt x="15793" y="6631"/>
                  <a:pt x="15784" y="6664"/>
                  <a:pt x="15776" y="66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56200" y="2401920"/>
            <a:ext cx="108000" cy="187200"/>
          </a:xfrm>
          <a:custGeom>
            <a:avLst/>
            <a:gdLst/>
            <a:ahLst/>
            <a:rect l="l" t="t" r="r" b="b"/>
            <a:pathLst>
              <a:path w="298" h="522">
                <a:moveTo>
                  <a:pt x="16842" y="6995"/>
                </a:moveTo>
                <a:cubicBezTo>
                  <a:pt x="16830" y="6976"/>
                  <a:pt x="16743" y="6867"/>
                  <a:pt x="16694" y="6896"/>
                </a:cubicBezTo>
                <a:cubicBezTo>
                  <a:pt x="16550" y="6981"/>
                  <a:pt x="16624" y="7123"/>
                  <a:pt x="16718" y="7193"/>
                </a:cubicBezTo>
                <a:cubicBezTo>
                  <a:pt x="16781" y="7106"/>
                  <a:pt x="16971" y="6820"/>
                  <a:pt x="16718" y="6796"/>
                </a:cubicBezTo>
                <a:cubicBezTo>
                  <a:pt x="16478" y="6773"/>
                  <a:pt x="16555" y="7052"/>
                  <a:pt x="16594" y="7169"/>
                </a:cubicBezTo>
                <a:cubicBezTo>
                  <a:pt x="16727" y="7134"/>
                  <a:pt x="16896" y="6974"/>
                  <a:pt x="16718" y="6821"/>
                </a:cubicBezTo>
                <a:cubicBezTo>
                  <a:pt x="16574" y="6697"/>
                  <a:pt x="16618" y="7054"/>
                  <a:pt x="16619" y="7069"/>
                </a:cubicBezTo>
                <a:cubicBezTo>
                  <a:pt x="16793" y="7123"/>
                  <a:pt x="16943" y="6949"/>
                  <a:pt x="16818" y="6747"/>
                </a:cubicBezTo>
                <a:cubicBezTo>
                  <a:pt x="16661" y="6491"/>
                  <a:pt x="16489" y="6972"/>
                  <a:pt x="16619" y="7119"/>
                </a:cubicBezTo>
                <a:cubicBezTo>
                  <a:pt x="16733" y="7247"/>
                  <a:pt x="16796" y="7011"/>
                  <a:pt x="16694" y="6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82840" y="4464000"/>
            <a:ext cx="392040" cy="366840"/>
          </a:xfrm>
          <a:custGeom>
            <a:avLst/>
            <a:gdLst/>
            <a:ahLst/>
            <a:rect l="l" t="t" r="r" b="b"/>
            <a:pathLst>
              <a:path w="1092" h="1018">
                <a:moveTo>
                  <a:pt x="4738" y="12452"/>
                </a:moveTo>
                <a:cubicBezTo>
                  <a:pt x="4760" y="12385"/>
                  <a:pt x="4921" y="12404"/>
                  <a:pt x="4986" y="12402"/>
                </a:cubicBezTo>
                <a:cubicBezTo>
                  <a:pt x="5265" y="12395"/>
                  <a:pt x="4811" y="12496"/>
                  <a:pt x="4762" y="12502"/>
                </a:cubicBezTo>
                <a:cubicBezTo>
                  <a:pt x="4541" y="12527"/>
                  <a:pt x="4726" y="12488"/>
                  <a:pt x="4762" y="12477"/>
                </a:cubicBezTo>
                <a:cubicBezTo>
                  <a:pt x="4791" y="12477"/>
                  <a:pt x="5110" y="12477"/>
                  <a:pt x="5035" y="12477"/>
                </a:cubicBezTo>
                <a:cubicBezTo>
                  <a:pt x="4924" y="12477"/>
                  <a:pt x="4801" y="12457"/>
                  <a:pt x="4688" y="12452"/>
                </a:cubicBezTo>
                <a:cubicBezTo>
                  <a:pt x="4790" y="12467"/>
                  <a:pt x="4882" y="12477"/>
                  <a:pt x="4986" y="12477"/>
                </a:cubicBezTo>
                <a:cubicBezTo>
                  <a:pt x="5086" y="12477"/>
                  <a:pt x="4788" y="12459"/>
                  <a:pt x="4688" y="12452"/>
                </a:cubicBezTo>
                <a:cubicBezTo>
                  <a:pt x="4769" y="12512"/>
                  <a:pt x="4911" y="12477"/>
                  <a:pt x="5011" y="12477"/>
                </a:cubicBezTo>
                <a:cubicBezTo>
                  <a:pt x="5087" y="12477"/>
                  <a:pt x="4761" y="12452"/>
                  <a:pt x="4837" y="12452"/>
                </a:cubicBezTo>
                <a:cubicBezTo>
                  <a:pt x="4854" y="12452"/>
                  <a:pt x="5108" y="12452"/>
                  <a:pt x="5035" y="12452"/>
                </a:cubicBezTo>
                <a:cubicBezTo>
                  <a:pt x="4941" y="12452"/>
                  <a:pt x="4915" y="12406"/>
                  <a:pt x="4986" y="12477"/>
                </a:cubicBezTo>
              </a:path>
              <a:path w="1092" h="1018">
                <a:moveTo>
                  <a:pt x="4415" y="12700"/>
                </a:moveTo>
                <a:cubicBezTo>
                  <a:pt x="4341" y="12700"/>
                  <a:pt x="4187" y="12705"/>
                  <a:pt x="4142" y="12774"/>
                </a:cubicBezTo>
                <a:cubicBezTo>
                  <a:pt x="4121" y="12881"/>
                  <a:pt x="4113" y="12905"/>
                  <a:pt x="4118" y="12973"/>
                </a:cubicBezTo>
                <a:cubicBezTo>
                  <a:pt x="4210" y="13014"/>
                  <a:pt x="4461" y="13010"/>
                  <a:pt x="4465" y="13171"/>
                </a:cubicBezTo>
                <a:cubicBezTo>
                  <a:pt x="4468" y="13299"/>
                  <a:pt x="4156" y="13562"/>
                  <a:pt x="4118" y="13395"/>
                </a:cubicBezTo>
                <a:cubicBezTo>
                  <a:pt x="4134" y="13370"/>
                  <a:pt x="4151" y="13345"/>
                  <a:pt x="4167" y="13320"/>
                </a:cubicBezTo>
              </a:path>
              <a:path w="1092" h="1018">
                <a:moveTo>
                  <a:pt x="4638" y="12973"/>
                </a:moveTo>
                <a:cubicBezTo>
                  <a:pt x="4641" y="12979"/>
                  <a:pt x="4784" y="13214"/>
                  <a:pt x="4762" y="13221"/>
                </a:cubicBezTo>
                <a:cubicBezTo>
                  <a:pt x="4729" y="13213"/>
                  <a:pt x="4696" y="13204"/>
                  <a:pt x="4663" y="13196"/>
                </a:cubicBezTo>
              </a:path>
              <a:path w="1092" h="1018">
                <a:moveTo>
                  <a:pt x="4539" y="12874"/>
                </a:moveTo>
                <a:cubicBezTo>
                  <a:pt x="4547" y="12874"/>
                  <a:pt x="4556" y="12874"/>
                  <a:pt x="4564" y="12874"/>
                </a:cubicBezTo>
              </a:path>
              <a:path w="1092" h="1018">
                <a:moveTo>
                  <a:pt x="4564" y="12874"/>
                </a:moveTo>
                <a:lnTo>
                  <a:pt x="4564" y="12874"/>
                </a:lnTo>
              </a:path>
              <a:path w="1092" h="1018">
                <a:moveTo>
                  <a:pt x="4887" y="12799"/>
                </a:moveTo>
                <a:cubicBezTo>
                  <a:pt x="4946" y="12918"/>
                  <a:pt x="5068" y="12960"/>
                  <a:pt x="5159" y="13047"/>
                </a:cubicBezTo>
                <a:cubicBezTo>
                  <a:pt x="5181" y="13091"/>
                  <a:pt x="5184" y="13112"/>
                  <a:pt x="5209" y="13072"/>
                </a:cubicBezTo>
              </a:path>
              <a:path w="1092" h="1018">
                <a:moveTo>
                  <a:pt x="5060" y="12774"/>
                </a:moveTo>
                <a:cubicBezTo>
                  <a:pt x="4991" y="12940"/>
                  <a:pt x="4961" y="13040"/>
                  <a:pt x="4961" y="13221"/>
                </a:cubicBezTo>
                <a:cubicBezTo>
                  <a:pt x="4961" y="13213"/>
                  <a:pt x="4961" y="13204"/>
                  <a:pt x="4961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0240" y="1812960"/>
            <a:ext cx="911160" cy="44280"/>
          </a:xfrm>
          <a:custGeom>
            <a:avLst/>
            <a:gdLst/>
            <a:ahLst/>
            <a:rect l="l" t="t" r="r" b="b"/>
            <a:pathLst>
              <a:path w="2531" h="125">
                <a:moveTo>
                  <a:pt x="18107" y="5159"/>
                </a:moveTo>
                <a:cubicBezTo>
                  <a:pt x="18083" y="5159"/>
                  <a:pt x="18075" y="5159"/>
                  <a:pt x="18083" y="5135"/>
                </a:cubicBezTo>
                <a:cubicBezTo>
                  <a:pt x="18143" y="5153"/>
                  <a:pt x="18155" y="5156"/>
                  <a:pt x="18231" y="5159"/>
                </a:cubicBezTo>
                <a:cubicBezTo>
                  <a:pt x="18309" y="5163"/>
                  <a:pt x="18378" y="5139"/>
                  <a:pt x="18455" y="5135"/>
                </a:cubicBezTo>
                <a:cubicBezTo>
                  <a:pt x="18599" y="5128"/>
                  <a:pt x="18735" y="5129"/>
                  <a:pt x="18876" y="5110"/>
                </a:cubicBezTo>
                <a:cubicBezTo>
                  <a:pt x="18973" y="5097"/>
                  <a:pt x="19077" y="5089"/>
                  <a:pt x="19174" y="5085"/>
                </a:cubicBezTo>
                <a:cubicBezTo>
                  <a:pt x="19538" y="5071"/>
                  <a:pt x="19908" y="5109"/>
                  <a:pt x="20265" y="5060"/>
                </a:cubicBezTo>
                <a:cubicBezTo>
                  <a:pt x="20386" y="5043"/>
                  <a:pt x="20499" y="5078"/>
                  <a:pt x="20613" y="50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27840" y="1839960"/>
            <a:ext cx="2197080" cy="1795320"/>
          </a:xfrm>
          <a:custGeom>
            <a:avLst/>
            <a:gdLst/>
            <a:ahLst/>
            <a:rect l="l" t="t" r="r" b="b"/>
            <a:pathLst>
              <a:path w="6103" h="4987">
                <a:moveTo>
                  <a:pt x="18058" y="5209"/>
                </a:moveTo>
                <a:cubicBezTo>
                  <a:pt x="18030" y="5237"/>
                  <a:pt x="17973" y="5294"/>
                  <a:pt x="17934" y="5333"/>
                </a:cubicBezTo>
                <a:cubicBezTo>
                  <a:pt x="17900" y="5367"/>
                  <a:pt x="17848" y="5410"/>
                  <a:pt x="17810" y="5457"/>
                </a:cubicBezTo>
                <a:cubicBezTo>
                  <a:pt x="17754" y="5526"/>
                  <a:pt x="17713" y="5609"/>
                  <a:pt x="17661" y="5680"/>
                </a:cubicBezTo>
                <a:cubicBezTo>
                  <a:pt x="17592" y="5775"/>
                  <a:pt x="17513" y="5861"/>
                  <a:pt x="17438" y="5953"/>
                </a:cubicBezTo>
                <a:cubicBezTo>
                  <a:pt x="17317" y="6101"/>
                  <a:pt x="17198" y="6244"/>
                  <a:pt x="17090" y="6400"/>
                </a:cubicBezTo>
                <a:cubicBezTo>
                  <a:pt x="17059" y="6446"/>
                  <a:pt x="16988" y="6517"/>
                  <a:pt x="16966" y="6548"/>
                </a:cubicBezTo>
                <a:cubicBezTo>
                  <a:pt x="16949" y="6572"/>
                  <a:pt x="16961" y="6595"/>
                  <a:pt x="16942" y="6623"/>
                </a:cubicBezTo>
                <a:cubicBezTo>
                  <a:pt x="16917" y="6661"/>
                  <a:pt x="16892" y="6687"/>
                  <a:pt x="16867" y="6722"/>
                </a:cubicBezTo>
                <a:cubicBezTo>
                  <a:pt x="16852" y="6743"/>
                  <a:pt x="16830" y="6794"/>
                  <a:pt x="16818" y="6821"/>
                </a:cubicBezTo>
                <a:cubicBezTo>
                  <a:pt x="16803" y="6854"/>
                  <a:pt x="16747" y="6834"/>
                  <a:pt x="16743" y="6871"/>
                </a:cubicBezTo>
                <a:cubicBezTo>
                  <a:pt x="16737" y="6931"/>
                  <a:pt x="16782" y="7010"/>
                  <a:pt x="16793" y="7069"/>
                </a:cubicBezTo>
                <a:cubicBezTo>
                  <a:pt x="16806" y="7141"/>
                  <a:pt x="16822" y="7222"/>
                  <a:pt x="16842" y="7293"/>
                </a:cubicBezTo>
                <a:cubicBezTo>
                  <a:pt x="16912" y="7550"/>
                  <a:pt x="16982" y="7802"/>
                  <a:pt x="17016" y="8062"/>
                </a:cubicBezTo>
                <a:cubicBezTo>
                  <a:pt x="17030" y="8168"/>
                  <a:pt x="17036" y="8277"/>
                  <a:pt x="17041" y="8384"/>
                </a:cubicBezTo>
                <a:cubicBezTo>
                  <a:pt x="17044" y="8443"/>
                  <a:pt x="17006" y="8620"/>
                  <a:pt x="17016" y="8657"/>
                </a:cubicBezTo>
                <a:cubicBezTo>
                  <a:pt x="17030" y="8710"/>
                  <a:pt x="17034" y="8727"/>
                  <a:pt x="17066" y="8781"/>
                </a:cubicBezTo>
                <a:cubicBezTo>
                  <a:pt x="17159" y="8940"/>
                  <a:pt x="17384" y="9121"/>
                  <a:pt x="17512" y="9252"/>
                </a:cubicBezTo>
                <a:cubicBezTo>
                  <a:pt x="17546" y="9287"/>
                  <a:pt x="17613" y="9349"/>
                  <a:pt x="17636" y="9376"/>
                </a:cubicBezTo>
                <a:cubicBezTo>
                  <a:pt x="17687" y="9436"/>
                  <a:pt x="17754" y="9532"/>
                  <a:pt x="17810" y="9599"/>
                </a:cubicBezTo>
                <a:cubicBezTo>
                  <a:pt x="17843" y="9638"/>
                  <a:pt x="17888" y="9679"/>
                  <a:pt x="17909" y="9699"/>
                </a:cubicBezTo>
                <a:cubicBezTo>
                  <a:pt x="17953" y="9741"/>
                  <a:pt x="18021" y="9802"/>
                  <a:pt x="18083" y="9847"/>
                </a:cubicBezTo>
                <a:cubicBezTo>
                  <a:pt x="18133" y="9884"/>
                  <a:pt x="18187" y="9911"/>
                  <a:pt x="18231" y="9947"/>
                </a:cubicBezTo>
                <a:cubicBezTo>
                  <a:pt x="18257" y="9969"/>
                  <a:pt x="18244" y="9991"/>
                  <a:pt x="18281" y="10021"/>
                </a:cubicBezTo>
                <a:cubicBezTo>
                  <a:pt x="18291" y="10029"/>
                  <a:pt x="18325" y="10068"/>
                  <a:pt x="18331" y="10071"/>
                </a:cubicBezTo>
                <a:cubicBezTo>
                  <a:pt x="18356" y="10084"/>
                  <a:pt x="18386" y="10093"/>
                  <a:pt x="18405" y="10096"/>
                </a:cubicBezTo>
                <a:cubicBezTo>
                  <a:pt x="18465" y="10105"/>
                  <a:pt x="18522" y="10081"/>
                  <a:pt x="18579" y="10071"/>
                </a:cubicBezTo>
                <a:cubicBezTo>
                  <a:pt x="18627" y="10063"/>
                  <a:pt x="18697" y="10032"/>
                  <a:pt x="18752" y="10021"/>
                </a:cubicBezTo>
                <a:cubicBezTo>
                  <a:pt x="18817" y="10009"/>
                  <a:pt x="18886" y="10009"/>
                  <a:pt x="18951" y="9996"/>
                </a:cubicBezTo>
                <a:cubicBezTo>
                  <a:pt x="19026" y="9981"/>
                  <a:pt x="19084" y="9953"/>
                  <a:pt x="19174" y="9947"/>
                </a:cubicBezTo>
                <a:cubicBezTo>
                  <a:pt x="19330" y="9936"/>
                  <a:pt x="19491" y="9956"/>
                  <a:pt x="19645" y="9971"/>
                </a:cubicBezTo>
                <a:cubicBezTo>
                  <a:pt x="19771" y="9983"/>
                  <a:pt x="19893" y="10006"/>
                  <a:pt x="20017" y="10021"/>
                </a:cubicBezTo>
                <a:cubicBezTo>
                  <a:pt x="20171" y="10040"/>
                  <a:pt x="20313" y="10016"/>
                  <a:pt x="20464" y="10021"/>
                </a:cubicBezTo>
                <a:cubicBezTo>
                  <a:pt x="20608" y="10025"/>
                  <a:pt x="20760" y="10046"/>
                  <a:pt x="20910" y="10046"/>
                </a:cubicBezTo>
                <a:cubicBezTo>
                  <a:pt x="21005" y="10046"/>
                  <a:pt x="21149" y="10060"/>
                  <a:pt x="21233" y="10021"/>
                </a:cubicBezTo>
                <a:cubicBezTo>
                  <a:pt x="21264" y="10007"/>
                  <a:pt x="21268" y="9977"/>
                  <a:pt x="21307" y="9947"/>
                </a:cubicBezTo>
                <a:cubicBezTo>
                  <a:pt x="21368" y="9901"/>
                  <a:pt x="21429" y="9825"/>
                  <a:pt x="21481" y="9773"/>
                </a:cubicBezTo>
                <a:cubicBezTo>
                  <a:pt x="21574" y="9680"/>
                  <a:pt x="21659" y="9586"/>
                  <a:pt x="21754" y="9500"/>
                </a:cubicBezTo>
                <a:cubicBezTo>
                  <a:pt x="21850" y="9413"/>
                  <a:pt x="21932" y="9336"/>
                  <a:pt x="22027" y="9252"/>
                </a:cubicBezTo>
                <a:cubicBezTo>
                  <a:pt x="22206" y="9093"/>
                  <a:pt x="22381" y="8925"/>
                  <a:pt x="22572" y="8781"/>
                </a:cubicBezTo>
                <a:cubicBezTo>
                  <a:pt x="22615" y="8749"/>
                  <a:pt x="22745" y="8693"/>
                  <a:pt x="22771" y="8657"/>
                </a:cubicBezTo>
                <a:cubicBezTo>
                  <a:pt x="22789" y="8633"/>
                  <a:pt x="22807" y="8645"/>
                  <a:pt x="22820" y="8607"/>
                </a:cubicBezTo>
                <a:cubicBezTo>
                  <a:pt x="22833" y="8569"/>
                  <a:pt x="22799" y="8439"/>
                  <a:pt x="22796" y="8384"/>
                </a:cubicBezTo>
                <a:cubicBezTo>
                  <a:pt x="22788" y="8211"/>
                  <a:pt x="22776" y="8063"/>
                  <a:pt x="22796" y="7888"/>
                </a:cubicBezTo>
                <a:cubicBezTo>
                  <a:pt x="22807" y="7795"/>
                  <a:pt x="22814" y="7709"/>
                  <a:pt x="22820" y="7615"/>
                </a:cubicBezTo>
                <a:cubicBezTo>
                  <a:pt x="22830" y="7446"/>
                  <a:pt x="22850" y="7258"/>
                  <a:pt x="22845" y="7094"/>
                </a:cubicBezTo>
                <a:cubicBezTo>
                  <a:pt x="22843" y="7034"/>
                  <a:pt x="22833" y="6999"/>
                  <a:pt x="22820" y="6970"/>
                </a:cubicBezTo>
                <a:cubicBezTo>
                  <a:pt x="22804" y="6935"/>
                  <a:pt x="22791" y="6945"/>
                  <a:pt x="22771" y="6921"/>
                </a:cubicBezTo>
                <a:cubicBezTo>
                  <a:pt x="22710" y="6849"/>
                  <a:pt x="22622" y="6800"/>
                  <a:pt x="22547" y="6747"/>
                </a:cubicBezTo>
                <a:cubicBezTo>
                  <a:pt x="22466" y="6689"/>
                  <a:pt x="22351" y="6590"/>
                  <a:pt x="22275" y="6548"/>
                </a:cubicBezTo>
                <a:cubicBezTo>
                  <a:pt x="22186" y="6499"/>
                  <a:pt x="22072" y="6463"/>
                  <a:pt x="21977" y="6400"/>
                </a:cubicBezTo>
                <a:cubicBezTo>
                  <a:pt x="21920" y="6362"/>
                  <a:pt x="21842" y="6280"/>
                  <a:pt x="21803" y="6251"/>
                </a:cubicBezTo>
                <a:cubicBezTo>
                  <a:pt x="21736" y="6201"/>
                  <a:pt x="21692" y="6183"/>
                  <a:pt x="21630" y="6127"/>
                </a:cubicBezTo>
                <a:cubicBezTo>
                  <a:pt x="21568" y="6072"/>
                  <a:pt x="21520" y="6023"/>
                  <a:pt x="21456" y="5978"/>
                </a:cubicBezTo>
                <a:cubicBezTo>
                  <a:pt x="21411" y="5946"/>
                  <a:pt x="21349" y="5915"/>
                  <a:pt x="21307" y="5879"/>
                </a:cubicBezTo>
                <a:cubicBezTo>
                  <a:pt x="21228" y="5810"/>
                  <a:pt x="21163" y="5729"/>
                  <a:pt x="21084" y="5655"/>
                </a:cubicBezTo>
                <a:cubicBezTo>
                  <a:pt x="21012" y="5587"/>
                  <a:pt x="20960" y="5524"/>
                  <a:pt x="20886" y="5457"/>
                </a:cubicBezTo>
                <a:cubicBezTo>
                  <a:pt x="20813" y="5391"/>
                  <a:pt x="20740" y="5319"/>
                  <a:pt x="20662" y="5259"/>
                </a:cubicBezTo>
                <a:cubicBezTo>
                  <a:pt x="20604" y="5215"/>
                  <a:pt x="20542" y="5176"/>
                  <a:pt x="20489" y="5135"/>
                </a:cubicBezTo>
                <a:cubicBezTo>
                  <a:pt x="20464" y="5135"/>
                  <a:pt x="20456" y="5135"/>
                  <a:pt x="20464" y="51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45160" y="1893960"/>
            <a:ext cx="1687680" cy="598320"/>
          </a:xfrm>
          <a:custGeom>
            <a:avLst/>
            <a:gdLst/>
            <a:ahLst/>
            <a:rect l="l" t="t" r="r" b="b"/>
            <a:pathLst>
              <a:path w="4689" h="1663">
                <a:moveTo>
                  <a:pt x="18231" y="5259"/>
                </a:moveTo>
                <a:cubicBezTo>
                  <a:pt x="18207" y="5259"/>
                  <a:pt x="18198" y="5259"/>
                  <a:pt x="18182" y="5259"/>
                </a:cubicBezTo>
                <a:cubicBezTo>
                  <a:pt x="18221" y="5279"/>
                  <a:pt x="18266" y="5311"/>
                  <a:pt x="18331" y="5333"/>
                </a:cubicBezTo>
                <a:cubicBezTo>
                  <a:pt x="18403" y="5357"/>
                  <a:pt x="18479" y="5368"/>
                  <a:pt x="18554" y="5383"/>
                </a:cubicBezTo>
                <a:cubicBezTo>
                  <a:pt x="18636" y="5400"/>
                  <a:pt x="18678" y="5437"/>
                  <a:pt x="18752" y="5457"/>
                </a:cubicBezTo>
                <a:cubicBezTo>
                  <a:pt x="18794" y="5469"/>
                  <a:pt x="18837" y="5465"/>
                  <a:pt x="18876" y="5482"/>
                </a:cubicBezTo>
                <a:cubicBezTo>
                  <a:pt x="18963" y="5520"/>
                  <a:pt x="19014" y="5570"/>
                  <a:pt x="19100" y="5631"/>
                </a:cubicBezTo>
                <a:cubicBezTo>
                  <a:pt x="19215" y="5713"/>
                  <a:pt x="19348" y="5767"/>
                  <a:pt x="19472" y="5829"/>
                </a:cubicBezTo>
                <a:cubicBezTo>
                  <a:pt x="19527" y="5857"/>
                  <a:pt x="19583" y="5871"/>
                  <a:pt x="19645" y="5904"/>
                </a:cubicBezTo>
                <a:cubicBezTo>
                  <a:pt x="19743" y="5957"/>
                  <a:pt x="19831" y="5990"/>
                  <a:pt x="19943" y="6028"/>
                </a:cubicBezTo>
                <a:cubicBezTo>
                  <a:pt x="20240" y="6128"/>
                  <a:pt x="20540" y="6193"/>
                  <a:pt x="20836" y="6276"/>
                </a:cubicBezTo>
                <a:cubicBezTo>
                  <a:pt x="20924" y="6301"/>
                  <a:pt x="21000" y="6344"/>
                  <a:pt x="21084" y="6375"/>
                </a:cubicBezTo>
                <a:cubicBezTo>
                  <a:pt x="21163" y="6405"/>
                  <a:pt x="21260" y="6432"/>
                  <a:pt x="21332" y="6449"/>
                </a:cubicBezTo>
                <a:cubicBezTo>
                  <a:pt x="21405" y="6466"/>
                  <a:pt x="21481" y="6486"/>
                  <a:pt x="21555" y="6499"/>
                </a:cubicBezTo>
                <a:cubicBezTo>
                  <a:pt x="21686" y="6522"/>
                  <a:pt x="21797" y="6562"/>
                  <a:pt x="21927" y="6598"/>
                </a:cubicBezTo>
                <a:cubicBezTo>
                  <a:pt x="22022" y="6624"/>
                  <a:pt x="22135" y="6637"/>
                  <a:pt x="22225" y="6672"/>
                </a:cubicBezTo>
                <a:cubicBezTo>
                  <a:pt x="22290" y="6697"/>
                  <a:pt x="22331" y="6722"/>
                  <a:pt x="22399" y="6747"/>
                </a:cubicBezTo>
                <a:cubicBezTo>
                  <a:pt x="22483" y="6778"/>
                  <a:pt x="22564" y="6811"/>
                  <a:pt x="22647" y="6846"/>
                </a:cubicBezTo>
                <a:cubicBezTo>
                  <a:pt x="22698" y="6867"/>
                  <a:pt x="22760" y="6903"/>
                  <a:pt x="22820" y="6921"/>
                </a:cubicBezTo>
                <a:cubicBezTo>
                  <a:pt x="22845" y="6921"/>
                  <a:pt x="22853" y="6921"/>
                  <a:pt x="22870" y="6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35800" y="1884240"/>
            <a:ext cx="1697040" cy="1241640"/>
          </a:xfrm>
          <a:custGeom>
            <a:avLst/>
            <a:gdLst/>
            <a:ahLst/>
            <a:rect l="l" t="t" r="r" b="b"/>
            <a:pathLst>
              <a:path w="4714" h="3449">
                <a:moveTo>
                  <a:pt x="18157" y="5234"/>
                </a:moveTo>
                <a:cubicBezTo>
                  <a:pt x="18221" y="5310"/>
                  <a:pt x="18290" y="5381"/>
                  <a:pt x="18355" y="5457"/>
                </a:cubicBezTo>
                <a:cubicBezTo>
                  <a:pt x="18531" y="5662"/>
                  <a:pt x="18747" y="5847"/>
                  <a:pt x="18951" y="6028"/>
                </a:cubicBezTo>
                <a:cubicBezTo>
                  <a:pt x="19171" y="6223"/>
                  <a:pt x="19422" y="6392"/>
                  <a:pt x="19670" y="6548"/>
                </a:cubicBezTo>
                <a:cubicBezTo>
                  <a:pt x="19794" y="6626"/>
                  <a:pt x="19901" y="6708"/>
                  <a:pt x="20017" y="6796"/>
                </a:cubicBezTo>
                <a:cubicBezTo>
                  <a:pt x="20137" y="6887"/>
                  <a:pt x="20267" y="6957"/>
                  <a:pt x="20389" y="7045"/>
                </a:cubicBezTo>
                <a:cubicBezTo>
                  <a:pt x="20627" y="7217"/>
                  <a:pt x="20878" y="7356"/>
                  <a:pt x="21109" y="7541"/>
                </a:cubicBezTo>
                <a:cubicBezTo>
                  <a:pt x="21260" y="7662"/>
                  <a:pt x="21423" y="7756"/>
                  <a:pt x="21580" y="7863"/>
                </a:cubicBezTo>
                <a:cubicBezTo>
                  <a:pt x="21681" y="7932"/>
                  <a:pt x="21783" y="7993"/>
                  <a:pt x="21878" y="8062"/>
                </a:cubicBezTo>
                <a:cubicBezTo>
                  <a:pt x="21974" y="8132"/>
                  <a:pt x="22069" y="8226"/>
                  <a:pt x="22175" y="8285"/>
                </a:cubicBezTo>
                <a:cubicBezTo>
                  <a:pt x="22308" y="8359"/>
                  <a:pt x="22442" y="8425"/>
                  <a:pt x="22572" y="8508"/>
                </a:cubicBezTo>
                <a:cubicBezTo>
                  <a:pt x="22647" y="8556"/>
                  <a:pt x="22722" y="8611"/>
                  <a:pt x="22796" y="8657"/>
                </a:cubicBezTo>
                <a:cubicBezTo>
                  <a:pt x="22827" y="8676"/>
                  <a:pt x="22814" y="8662"/>
                  <a:pt x="22845" y="86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0240" y="1884240"/>
            <a:ext cx="1177920" cy="1741680"/>
          </a:xfrm>
          <a:custGeom>
            <a:avLst/>
            <a:gdLst/>
            <a:ahLst/>
            <a:rect l="l" t="t" r="r" b="b"/>
            <a:pathLst>
              <a:path w="3275" h="4838">
                <a:moveTo>
                  <a:pt x="18083" y="5259"/>
                </a:moveTo>
                <a:cubicBezTo>
                  <a:pt x="18116" y="5323"/>
                  <a:pt x="18122" y="5344"/>
                  <a:pt x="18157" y="5407"/>
                </a:cubicBezTo>
                <a:cubicBezTo>
                  <a:pt x="18297" y="5659"/>
                  <a:pt x="18462" y="5861"/>
                  <a:pt x="18653" y="6077"/>
                </a:cubicBezTo>
                <a:cubicBezTo>
                  <a:pt x="19108" y="6591"/>
                  <a:pt x="19546" y="7092"/>
                  <a:pt x="19918" y="7665"/>
                </a:cubicBezTo>
                <a:cubicBezTo>
                  <a:pt x="20004" y="7798"/>
                  <a:pt x="20102" y="7932"/>
                  <a:pt x="20191" y="8062"/>
                </a:cubicBezTo>
                <a:cubicBezTo>
                  <a:pt x="20306" y="8230"/>
                  <a:pt x="20414" y="8379"/>
                  <a:pt x="20513" y="8558"/>
                </a:cubicBezTo>
                <a:cubicBezTo>
                  <a:pt x="20647" y="8800"/>
                  <a:pt x="20813" y="9028"/>
                  <a:pt x="20935" y="9277"/>
                </a:cubicBezTo>
                <a:cubicBezTo>
                  <a:pt x="21016" y="9443"/>
                  <a:pt x="21094" y="9609"/>
                  <a:pt x="21183" y="9773"/>
                </a:cubicBezTo>
                <a:cubicBezTo>
                  <a:pt x="21238" y="9874"/>
                  <a:pt x="21300" y="9972"/>
                  <a:pt x="21357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18160" y="1866960"/>
            <a:ext cx="54000" cy="1722240"/>
          </a:xfrm>
          <a:custGeom>
            <a:avLst/>
            <a:gdLst/>
            <a:ahLst/>
            <a:rect l="l" t="t" r="r" b="b"/>
            <a:pathLst>
              <a:path w="150" h="4788">
                <a:moveTo>
                  <a:pt x="18256" y="5209"/>
                </a:moveTo>
                <a:cubicBezTo>
                  <a:pt x="18231" y="5274"/>
                  <a:pt x="18232" y="5288"/>
                  <a:pt x="18231" y="5358"/>
                </a:cubicBezTo>
                <a:cubicBezTo>
                  <a:pt x="18221" y="5838"/>
                  <a:pt x="18223" y="6317"/>
                  <a:pt x="18207" y="6796"/>
                </a:cubicBezTo>
                <a:cubicBezTo>
                  <a:pt x="18198" y="7053"/>
                  <a:pt x="18194" y="7309"/>
                  <a:pt x="18182" y="7565"/>
                </a:cubicBezTo>
                <a:cubicBezTo>
                  <a:pt x="18173" y="7750"/>
                  <a:pt x="18147" y="7929"/>
                  <a:pt x="18132" y="8111"/>
                </a:cubicBezTo>
                <a:cubicBezTo>
                  <a:pt x="18119" y="8269"/>
                  <a:pt x="18107" y="8422"/>
                  <a:pt x="18107" y="8582"/>
                </a:cubicBezTo>
                <a:cubicBezTo>
                  <a:pt x="18107" y="8750"/>
                  <a:pt x="18128" y="8912"/>
                  <a:pt x="18132" y="9079"/>
                </a:cubicBezTo>
                <a:cubicBezTo>
                  <a:pt x="18136" y="9234"/>
                  <a:pt x="18146" y="9399"/>
                  <a:pt x="18182" y="9550"/>
                </a:cubicBezTo>
                <a:cubicBezTo>
                  <a:pt x="18204" y="9644"/>
                  <a:pt x="18243" y="9754"/>
                  <a:pt x="18256" y="9847"/>
                </a:cubicBezTo>
                <a:cubicBezTo>
                  <a:pt x="18266" y="9918"/>
                  <a:pt x="18249" y="9947"/>
                  <a:pt x="18256" y="9947"/>
                </a:cubicBezTo>
                <a:cubicBezTo>
                  <a:pt x="18256" y="9930"/>
                  <a:pt x="18256" y="9914"/>
                  <a:pt x="18256" y="98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61040" y="1901880"/>
            <a:ext cx="322200" cy="1312920"/>
          </a:xfrm>
          <a:custGeom>
            <a:avLst/>
            <a:gdLst/>
            <a:ahLst/>
            <a:rect l="l" t="t" r="r" b="b"/>
            <a:pathLst>
              <a:path w="894" h="3648">
                <a:moveTo>
                  <a:pt x="18008" y="5283"/>
                </a:moveTo>
                <a:cubicBezTo>
                  <a:pt x="17992" y="5380"/>
                  <a:pt x="17985" y="5485"/>
                  <a:pt x="17959" y="5581"/>
                </a:cubicBezTo>
                <a:cubicBezTo>
                  <a:pt x="17915" y="5746"/>
                  <a:pt x="17877" y="5947"/>
                  <a:pt x="17810" y="6102"/>
                </a:cubicBezTo>
                <a:cubicBezTo>
                  <a:pt x="17751" y="6238"/>
                  <a:pt x="17678" y="6378"/>
                  <a:pt x="17636" y="6524"/>
                </a:cubicBezTo>
                <a:cubicBezTo>
                  <a:pt x="17590" y="6681"/>
                  <a:pt x="17513" y="6815"/>
                  <a:pt x="17462" y="6970"/>
                </a:cubicBezTo>
                <a:cubicBezTo>
                  <a:pt x="17430" y="7066"/>
                  <a:pt x="17388" y="7170"/>
                  <a:pt x="17363" y="7268"/>
                </a:cubicBezTo>
                <a:cubicBezTo>
                  <a:pt x="17337" y="7368"/>
                  <a:pt x="17301" y="7484"/>
                  <a:pt x="17289" y="7590"/>
                </a:cubicBezTo>
                <a:cubicBezTo>
                  <a:pt x="17274" y="7725"/>
                  <a:pt x="17231" y="7853"/>
                  <a:pt x="17214" y="7987"/>
                </a:cubicBezTo>
                <a:cubicBezTo>
                  <a:pt x="17198" y="8110"/>
                  <a:pt x="17177" y="8236"/>
                  <a:pt x="17165" y="8359"/>
                </a:cubicBezTo>
                <a:cubicBezTo>
                  <a:pt x="17154" y="8474"/>
                  <a:pt x="17143" y="8591"/>
                  <a:pt x="17140" y="8706"/>
                </a:cubicBezTo>
                <a:cubicBezTo>
                  <a:pt x="17138" y="8790"/>
                  <a:pt x="17123" y="8850"/>
                  <a:pt x="17115" y="8930"/>
                </a:cubicBezTo>
                <a:cubicBezTo>
                  <a:pt x="17115" y="8922"/>
                  <a:pt x="17115" y="8913"/>
                  <a:pt x="17115" y="89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58040" y="1847880"/>
            <a:ext cx="322200" cy="1822320"/>
          </a:xfrm>
          <a:custGeom>
            <a:avLst/>
            <a:gdLst/>
            <a:ahLst/>
            <a:rect l="l" t="t" r="r" b="b"/>
            <a:pathLst>
              <a:path w="894" h="5061">
                <a:moveTo>
                  <a:pt x="20439" y="5159"/>
                </a:moveTo>
                <a:cubicBezTo>
                  <a:pt x="20444" y="5242"/>
                  <a:pt x="20448" y="5276"/>
                  <a:pt x="20464" y="5358"/>
                </a:cubicBezTo>
                <a:cubicBezTo>
                  <a:pt x="20523" y="5658"/>
                  <a:pt x="20614" y="5950"/>
                  <a:pt x="20662" y="6251"/>
                </a:cubicBezTo>
                <a:cubicBezTo>
                  <a:pt x="20696" y="6463"/>
                  <a:pt x="20735" y="6663"/>
                  <a:pt x="20786" y="6871"/>
                </a:cubicBezTo>
                <a:cubicBezTo>
                  <a:pt x="20825" y="7031"/>
                  <a:pt x="20880" y="7180"/>
                  <a:pt x="20910" y="7342"/>
                </a:cubicBezTo>
                <a:cubicBezTo>
                  <a:pt x="20982" y="7728"/>
                  <a:pt x="21024" y="8123"/>
                  <a:pt x="21084" y="8508"/>
                </a:cubicBezTo>
                <a:cubicBezTo>
                  <a:pt x="21140" y="8872"/>
                  <a:pt x="21209" y="9236"/>
                  <a:pt x="21258" y="9599"/>
                </a:cubicBezTo>
                <a:cubicBezTo>
                  <a:pt x="21277" y="9738"/>
                  <a:pt x="21284" y="9883"/>
                  <a:pt x="21307" y="10021"/>
                </a:cubicBezTo>
                <a:cubicBezTo>
                  <a:pt x="21318" y="10087"/>
                  <a:pt x="21325" y="10103"/>
                  <a:pt x="21332" y="101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53160" y="1812960"/>
            <a:ext cx="758880" cy="1847880"/>
          </a:xfrm>
          <a:custGeom>
            <a:avLst/>
            <a:gdLst/>
            <a:ahLst/>
            <a:rect l="l" t="t" r="r" b="b"/>
            <a:pathLst>
              <a:path w="2110" h="5136">
                <a:moveTo>
                  <a:pt x="20563" y="5035"/>
                </a:moveTo>
                <a:cubicBezTo>
                  <a:pt x="20519" y="5113"/>
                  <a:pt x="20347" y="5397"/>
                  <a:pt x="20290" y="5507"/>
                </a:cubicBezTo>
                <a:cubicBezTo>
                  <a:pt x="20103" y="5870"/>
                  <a:pt x="19973" y="6274"/>
                  <a:pt x="19769" y="6623"/>
                </a:cubicBezTo>
                <a:cubicBezTo>
                  <a:pt x="19634" y="6853"/>
                  <a:pt x="19509" y="7088"/>
                  <a:pt x="19372" y="7317"/>
                </a:cubicBezTo>
                <a:cubicBezTo>
                  <a:pt x="19273" y="7482"/>
                  <a:pt x="19210" y="7656"/>
                  <a:pt x="19149" y="7838"/>
                </a:cubicBezTo>
                <a:cubicBezTo>
                  <a:pt x="19086" y="8026"/>
                  <a:pt x="19024" y="8217"/>
                  <a:pt x="18976" y="8409"/>
                </a:cubicBezTo>
                <a:cubicBezTo>
                  <a:pt x="18933" y="8583"/>
                  <a:pt x="18892" y="8756"/>
                  <a:pt x="18852" y="8930"/>
                </a:cubicBezTo>
                <a:cubicBezTo>
                  <a:pt x="18815" y="9089"/>
                  <a:pt x="18775" y="9246"/>
                  <a:pt x="18728" y="9401"/>
                </a:cubicBezTo>
                <a:cubicBezTo>
                  <a:pt x="18668" y="9601"/>
                  <a:pt x="18585" y="9796"/>
                  <a:pt x="18529" y="9996"/>
                </a:cubicBezTo>
                <a:cubicBezTo>
                  <a:pt x="18511" y="10060"/>
                  <a:pt x="18496" y="10114"/>
                  <a:pt x="18479" y="101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88040" y="1768320"/>
            <a:ext cx="1189080" cy="1438560"/>
          </a:xfrm>
          <a:custGeom>
            <a:avLst/>
            <a:gdLst/>
            <a:ahLst/>
            <a:rect l="l" t="t" r="r" b="b"/>
            <a:pathLst>
              <a:path w="3300" h="3995">
                <a:moveTo>
                  <a:pt x="20489" y="4911"/>
                </a:moveTo>
                <a:cubicBezTo>
                  <a:pt x="20397" y="5052"/>
                  <a:pt x="20290" y="5214"/>
                  <a:pt x="20191" y="5358"/>
                </a:cubicBezTo>
                <a:cubicBezTo>
                  <a:pt x="19976" y="5673"/>
                  <a:pt x="19746" y="5941"/>
                  <a:pt x="19496" y="6226"/>
                </a:cubicBezTo>
                <a:cubicBezTo>
                  <a:pt x="19344" y="6399"/>
                  <a:pt x="19189" y="6563"/>
                  <a:pt x="19050" y="6747"/>
                </a:cubicBezTo>
                <a:cubicBezTo>
                  <a:pt x="18960" y="6866"/>
                  <a:pt x="18876" y="6984"/>
                  <a:pt x="18777" y="7094"/>
                </a:cubicBezTo>
                <a:cubicBezTo>
                  <a:pt x="18630" y="7256"/>
                  <a:pt x="18464" y="7416"/>
                  <a:pt x="18306" y="7565"/>
                </a:cubicBezTo>
                <a:cubicBezTo>
                  <a:pt x="18049" y="7807"/>
                  <a:pt x="17837" y="8084"/>
                  <a:pt x="17587" y="8334"/>
                </a:cubicBezTo>
                <a:cubicBezTo>
                  <a:pt x="17484" y="8437"/>
                  <a:pt x="17278" y="8582"/>
                  <a:pt x="17239" y="8731"/>
                </a:cubicBezTo>
                <a:cubicBezTo>
                  <a:pt x="17220" y="8802"/>
                  <a:pt x="17207" y="8857"/>
                  <a:pt x="17190" y="8905"/>
                </a:cubicBezTo>
                <a:cubicBezTo>
                  <a:pt x="17198" y="8888"/>
                  <a:pt x="17206" y="8872"/>
                  <a:pt x="17214" y="88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62760" y="1812960"/>
            <a:ext cx="1384200" cy="723960"/>
          </a:xfrm>
          <a:custGeom>
            <a:avLst/>
            <a:gdLst/>
            <a:ahLst/>
            <a:rect l="l" t="t" r="r" b="b"/>
            <a:pathLst>
              <a:path w="3846" h="2011">
                <a:moveTo>
                  <a:pt x="20687" y="5035"/>
                </a:moveTo>
                <a:cubicBezTo>
                  <a:pt x="20641" y="5060"/>
                  <a:pt x="20634" y="5055"/>
                  <a:pt x="20588" y="5085"/>
                </a:cubicBezTo>
                <a:cubicBezTo>
                  <a:pt x="20534" y="5120"/>
                  <a:pt x="20426" y="5189"/>
                  <a:pt x="20389" y="5209"/>
                </a:cubicBezTo>
                <a:cubicBezTo>
                  <a:pt x="20329" y="5242"/>
                  <a:pt x="20253" y="5268"/>
                  <a:pt x="20191" y="5308"/>
                </a:cubicBezTo>
                <a:cubicBezTo>
                  <a:pt x="20100" y="5366"/>
                  <a:pt x="20000" y="5414"/>
                  <a:pt x="19918" y="5482"/>
                </a:cubicBezTo>
                <a:cubicBezTo>
                  <a:pt x="19804" y="5578"/>
                  <a:pt x="19725" y="5634"/>
                  <a:pt x="19596" y="5705"/>
                </a:cubicBezTo>
                <a:cubicBezTo>
                  <a:pt x="19422" y="5802"/>
                  <a:pt x="19252" y="5888"/>
                  <a:pt x="19075" y="5978"/>
                </a:cubicBezTo>
                <a:cubicBezTo>
                  <a:pt x="18898" y="6068"/>
                  <a:pt x="18718" y="6188"/>
                  <a:pt x="18529" y="6251"/>
                </a:cubicBezTo>
                <a:cubicBezTo>
                  <a:pt x="18295" y="6329"/>
                  <a:pt x="18102" y="6409"/>
                  <a:pt x="17884" y="6524"/>
                </a:cubicBezTo>
                <a:cubicBezTo>
                  <a:pt x="17733" y="6604"/>
                  <a:pt x="17572" y="6663"/>
                  <a:pt x="17413" y="6722"/>
                </a:cubicBezTo>
                <a:cubicBezTo>
                  <a:pt x="17264" y="6778"/>
                  <a:pt x="17133" y="6849"/>
                  <a:pt x="16991" y="6921"/>
                </a:cubicBezTo>
                <a:cubicBezTo>
                  <a:pt x="16937" y="6948"/>
                  <a:pt x="16879" y="6986"/>
                  <a:pt x="16842" y="7020"/>
                </a:cubicBezTo>
                <a:cubicBezTo>
                  <a:pt x="16842" y="7028"/>
                  <a:pt x="16842" y="7037"/>
                  <a:pt x="16842" y="70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66040" y="1527120"/>
            <a:ext cx="98280" cy="169920"/>
          </a:xfrm>
          <a:custGeom>
            <a:avLst/>
            <a:gdLst/>
            <a:ahLst/>
            <a:rect l="l" t="t" r="r" b="b"/>
            <a:pathLst>
              <a:path w="274" h="472">
                <a:moveTo>
                  <a:pt x="20737" y="4415"/>
                </a:moveTo>
                <a:cubicBezTo>
                  <a:pt x="20737" y="4339"/>
                  <a:pt x="20756" y="4363"/>
                  <a:pt x="20762" y="4316"/>
                </a:cubicBezTo>
                <a:cubicBezTo>
                  <a:pt x="20762" y="4283"/>
                  <a:pt x="20762" y="4267"/>
                  <a:pt x="20762" y="4242"/>
                </a:cubicBezTo>
                <a:cubicBezTo>
                  <a:pt x="20797" y="4375"/>
                  <a:pt x="20725" y="4506"/>
                  <a:pt x="20836" y="4390"/>
                </a:cubicBezTo>
                <a:cubicBezTo>
                  <a:pt x="20897" y="4329"/>
                  <a:pt x="20904" y="4304"/>
                  <a:pt x="20960" y="4316"/>
                </a:cubicBezTo>
                <a:cubicBezTo>
                  <a:pt x="21032" y="4441"/>
                  <a:pt x="20986" y="4551"/>
                  <a:pt x="20886" y="4663"/>
                </a:cubicBezTo>
                <a:cubicBezTo>
                  <a:pt x="20832" y="4723"/>
                  <a:pt x="20803" y="4713"/>
                  <a:pt x="20737" y="47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73960" y="1411200"/>
            <a:ext cx="108000" cy="71640"/>
          </a:xfrm>
          <a:custGeom>
            <a:avLst/>
            <a:gdLst/>
            <a:ahLst/>
            <a:rect l="l" t="t" r="r" b="b"/>
            <a:pathLst>
              <a:path w="298" h="200">
                <a:moveTo>
                  <a:pt x="20762" y="4118"/>
                </a:moveTo>
                <a:cubicBezTo>
                  <a:pt x="20816" y="4036"/>
                  <a:pt x="20931" y="3958"/>
                  <a:pt x="21034" y="3919"/>
                </a:cubicBezTo>
                <a:cubicBezTo>
                  <a:pt x="21042" y="3919"/>
                  <a:pt x="21051" y="3919"/>
                  <a:pt x="21059" y="39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197920" y="2438280"/>
            <a:ext cx="88920" cy="125640"/>
          </a:xfrm>
          <a:custGeom>
            <a:avLst/>
            <a:gdLst/>
            <a:ahLst/>
            <a:rect l="l" t="t" r="r" b="b"/>
            <a:pathLst>
              <a:path w="249" h="348">
                <a:moveTo>
                  <a:pt x="22944" y="7020"/>
                </a:moveTo>
                <a:cubicBezTo>
                  <a:pt x="22900" y="7005"/>
                  <a:pt x="22892" y="6979"/>
                  <a:pt x="22845" y="6945"/>
                </a:cubicBezTo>
                <a:cubicBezTo>
                  <a:pt x="22741" y="6869"/>
                  <a:pt x="22754" y="7110"/>
                  <a:pt x="22820" y="7119"/>
                </a:cubicBezTo>
                <a:cubicBezTo>
                  <a:pt x="22955" y="7139"/>
                  <a:pt x="22903" y="6926"/>
                  <a:pt x="22895" y="6871"/>
                </a:cubicBezTo>
                <a:cubicBezTo>
                  <a:pt x="22801" y="6899"/>
                  <a:pt x="22741" y="6967"/>
                  <a:pt x="22845" y="7020"/>
                </a:cubicBezTo>
                <a:cubicBezTo>
                  <a:pt x="22862" y="7003"/>
                  <a:pt x="23006" y="6740"/>
                  <a:pt x="22895" y="6796"/>
                </a:cubicBezTo>
                <a:cubicBezTo>
                  <a:pt x="22714" y="6887"/>
                  <a:pt x="22857" y="6995"/>
                  <a:pt x="22969" y="6995"/>
                </a:cubicBezTo>
                <a:cubicBezTo>
                  <a:pt x="23008" y="6895"/>
                  <a:pt x="22934" y="6637"/>
                  <a:pt x="22820" y="6821"/>
                </a:cubicBezTo>
                <a:cubicBezTo>
                  <a:pt x="22716" y="6989"/>
                  <a:pt x="22867" y="7018"/>
                  <a:pt x="22969" y="70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15160" y="2463840"/>
            <a:ext cx="527040" cy="1260360"/>
          </a:xfrm>
          <a:custGeom>
            <a:avLst/>
            <a:gdLst/>
            <a:ahLst/>
            <a:rect l="l" t="t" r="r" b="b"/>
            <a:pathLst>
              <a:path w="1465" h="3499">
                <a:moveTo>
                  <a:pt x="22895" y="6871"/>
                </a:moveTo>
                <a:cubicBezTo>
                  <a:pt x="22836" y="6991"/>
                  <a:pt x="22783" y="7051"/>
                  <a:pt x="22721" y="7169"/>
                </a:cubicBezTo>
                <a:cubicBezTo>
                  <a:pt x="22613" y="7373"/>
                  <a:pt x="22545" y="7583"/>
                  <a:pt x="22448" y="7789"/>
                </a:cubicBezTo>
                <a:cubicBezTo>
                  <a:pt x="22366" y="7964"/>
                  <a:pt x="22311" y="8129"/>
                  <a:pt x="22250" y="8310"/>
                </a:cubicBezTo>
                <a:cubicBezTo>
                  <a:pt x="22195" y="8474"/>
                  <a:pt x="22108" y="8654"/>
                  <a:pt x="22027" y="8806"/>
                </a:cubicBezTo>
                <a:cubicBezTo>
                  <a:pt x="21953" y="8945"/>
                  <a:pt x="21878" y="9077"/>
                  <a:pt x="21828" y="9227"/>
                </a:cubicBezTo>
                <a:cubicBezTo>
                  <a:pt x="21766" y="9411"/>
                  <a:pt x="21689" y="9588"/>
                  <a:pt x="21630" y="9773"/>
                </a:cubicBezTo>
                <a:cubicBezTo>
                  <a:pt x="21602" y="9862"/>
                  <a:pt x="21581" y="9966"/>
                  <a:pt x="21555" y="10046"/>
                </a:cubicBezTo>
                <a:cubicBezTo>
                  <a:pt x="21534" y="10110"/>
                  <a:pt x="21507" y="10166"/>
                  <a:pt x="21481" y="10220"/>
                </a:cubicBezTo>
                <a:cubicBezTo>
                  <a:pt x="21472" y="10238"/>
                  <a:pt x="21422" y="10383"/>
                  <a:pt x="21431" y="10319"/>
                </a:cubicBezTo>
                <a:cubicBezTo>
                  <a:pt x="21448" y="10269"/>
                  <a:pt x="21464" y="10220"/>
                  <a:pt x="21481" y="101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50000" y="2500200"/>
            <a:ext cx="1430280" cy="1214640"/>
          </a:xfrm>
          <a:custGeom>
            <a:avLst/>
            <a:gdLst/>
            <a:ahLst/>
            <a:rect l="l" t="t" r="r" b="b"/>
            <a:pathLst>
              <a:path w="3970" h="3375">
                <a:moveTo>
                  <a:pt x="22721" y="6945"/>
                </a:moveTo>
                <a:cubicBezTo>
                  <a:pt x="22677" y="7001"/>
                  <a:pt x="22654" y="7076"/>
                  <a:pt x="22597" y="7119"/>
                </a:cubicBezTo>
                <a:cubicBezTo>
                  <a:pt x="22558" y="7148"/>
                  <a:pt x="22524" y="7149"/>
                  <a:pt x="22448" y="7193"/>
                </a:cubicBezTo>
                <a:cubicBezTo>
                  <a:pt x="22204" y="7336"/>
                  <a:pt x="22006" y="7497"/>
                  <a:pt x="21779" y="7665"/>
                </a:cubicBezTo>
                <a:cubicBezTo>
                  <a:pt x="21402" y="7943"/>
                  <a:pt x="21036" y="8219"/>
                  <a:pt x="20687" y="8533"/>
                </a:cubicBezTo>
                <a:cubicBezTo>
                  <a:pt x="20484" y="8715"/>
                  <a:pt x="20301" y="8847"/>
                  <a:pt x="20067" y="8979"/>
                </a:cubicBezTo>
                <a:cubicBezTo>
                  <a:pt x="19812" y="9123"/>
                  <a:pt x="19562" y="9327"/>
                  <a:pt x="19348" y="9525"/>
                </a:cubicBezTo>
                <a:cubicBezTo>
                  <a:pt x="19148" y="9710"/>
                  <a:pt x="18954" y="9928"/>
                  <a:pt x="18827" y="10170"/>
                </a:cubicBezTo>
                <a:cubicBezTo>
                  <a:pt x="18804" y="10214"/>
                  <a:pt x="18778" y="10273"/>
                  <a:pt x="18752" y="103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6760" y="2473200"/>
            <a:ext cx="2063520" cy="785880"/>
          </a:xfrm>
          <a:custGeom>
            <a:avLst/>
            <a:gdLst/>
            <a:ahLst/>
            <a:rect l="l" t="t" r="r" b="b"/>
            <a:pathLst>
              <a:path w="5731" h="2184">
                <a:moveTo>
                  <a:pt x="22696" y="6871"/>
                </a:moveTo>
                <a:cubicBezTo>
                  <a:pt x="22554" y="6975"/>
                  <a:pt x="23083" y="6913"/>
                  <a:pt x="22572" y="7020"/>
                </a:cubicBezTo>
                <a:cubicBezTo>
                  <a:pt x="21847" y="7172"/>
                  <a:pt x="21093" y="7146"/>
                  <a:pt x="20389" y="7417"/>
                </a:cubicBezTo>
                <a:cubicBezTo>
                  <a:pt x="20051" y="7547"/>
                  <a:pt x="19751" y="7746"/>
                  <a:pt x="19422" y="7888"/>
                </a:cubicBezTo>
                <a:cubicBezTo>
                  <a:pt x="19101" y="8027"/>
                  <a:pt x="18749" y="8090"/>
                  <a:pt x="18430" y="8235"/>
                </a:cubicBezTo>
                <a:cubicBezTo>
                  <a:pt x="18136" y="8368"/>
                  <a:pt x="17896" y="8587"/>
                  <a:pt x="17611" y="8731"/>
                </a:cubicBezTo>
                <a:cubicBezTo>
                  <a:pt x="17436" y="8819"/>
                  <a:pt x="17210" y="8900"/>
                  <a:pt x="17066" y="9004"/>
                </a:cubicBezTo>
                <a:cubicBezTo>
                  <a:pt x="17033" y="9027"/>
                  <a:pt x="17047" y="9029"/>
                  <a:pt x="17016" y="90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54840" y="2536920"/>
            <a:ext cx="2143080" cy="61920"/>
          </a:xfrm>
          <a:custGeom>
            <a:avLst/>
            <a:gdLst/>
            <a:ahLst/>
            <a:rect l="l" t="t" r="r" b="b"/>
            <a:pathLst>
              <a:path w="5954" h="174">
                <a:moveTo>
                  <a:pt x="22771" y="7193"/>
                </a:moveTo>
                <a:cubicBezTo>
                  <a:pt x="22730" y="7177"/>
                  <a:pt x="22693" y="7163"/>
                  <a:pt x="22647" y="7144"/>
                </a:cubicBezTo>
                <a:cubicBezTo>
                  <a:pt x="22473" y="7071"/>
                  <a:pt x="22264" y="7076"/>
                  <a:pt x="22076" y="7069"/>
                </a:cubicBezTo>
                <a:cubicBezTo>
                  <a:pt x="21688" y="7055"/>
                  <a:pt x="21297" y="7057"/>
                  <a:pt x="20910" y="7045"/>
                </a:cubicBezTo>
                <a:cubicBezTo>
                  <a:pt x="20535" y="7033"/>
                  <a:pt x="20188" y="7069"/>
                  <a:pt x="19819" y="7119"/>
                </a:cubicBezTo>
                <a:cubicBezTo>
                  <a:pt x="19540" y="7157"/>
                  <a:pt x="19257" y="7188"/>
                  <a:pt x="18976" y="7193"/>
                </a:cubicBezTo>
                <a:cubicBezTo>
                  <a:pt x="18787" y="7196"/>
                  <a:pt x="18619" y="7196"/>
                  <a:pt x="18430" y="7193"/>
                </a:cubicBezTo>
                <a:cubicBezTo>
                  <a:pt x="18147" y="7188"/>
                  <a:pt x="17868" y="7207"/>
                  <a:pt x="17587" y="7218"/>
                </a:cubicBezTo>
                <a:cubicBezTo>
                  <a:pt x="17389" y="7226"/>
                  <a:pt x="17209" y="7182"/>
                  <a:pt x="17016" y="7169"/>
                </a:cubicBezTo>
                <a:cubicBezTo>
                  <a:pt x="16948" y="7164"/>
                  <a:pt x="16916" y="7162"/>
                  <a:pt x="16842" y="7169"/>
                </a:cubicBezTo>
                <a:cubicBezTo>
                  <a:pt x="16834" y="7169"/>
                  <a:pt x="16826" y="7169"/>
                  <a:pt x="16818" y="71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58120" y="2357280"/>
            <a:ext cx="162000" cy="135000"/>
          </a:xfrm>
          <a:custGeom>
            <a:avLst/>
            <a:gdLst/>
            <a:ahLst/>
            <a:rect l="l" t="t" r="r" b="b"/>
            <a:pathLst>
              <a:path w="448" h="374">
                <a:moveTo>
                  <a:pt x="23366" y="6548"/>
                </a:moveTo>
                <a:cubicBezTo>
                  <a:pt x="23344" y="6659"/>
                  <a:pt x="23273" y="6763"/>
                  <a:pt x="23242" y="6871"/>
                </a:cubicBezTo>
                <a:cubicBezTo>
                  <a:pt x="23242" y="6913"/>
                  <a:pt x="23250" y="6929"/>
                  <a:pt x="23217" y="6921"/>
                </a:cubicBezTo>
                <a:cubicBezTo>
                  <a:pt x="23351" y="6910"/>
                  <a:pt x="23480" y="6878"/>
                  <a:pt x="23614" y="6871"/>
                </a:cubicBezTo>
                <a:cubicBezTo>
                  <a:pt x="23639" y="6871"/>
                  <a:pt x="23647" y="6871"/>
                  <a:pt x="23664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501040" y="2259000"/>
            <a:ext cx="9720" cy="393840"/>
          </a:xfrm>
          <a:custGeom>
            <a:avLst/>
            <a:gdLst/>
            <a:ahLst/>
            <a:rect l="l" t="t" r="r" b="b"/>
            <a:pathLst>
              <a:path w="26" h="1092">
                <a:moveTo>
                  <a:pt x="23639" y="6276"/>
                </a:moveTo>
                <a:cubicBezTo>
                  <a:pt x="23606" y="6437"/>
                  <a:pt x="23614" y="6602"/>
                  <a:pt x="23614" y="6772"/>
                </a:cubicBezTo>
                <a:cubicBezTo>
                  <a:pt x="23614" y="6970"/>
                  <a:pt x="23614" y="7169"/>
                  <a:pt x="23614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170920" y="3089160"/>
            <a:ext cx="142920" cy="108000"/>
          </a:xfrm>
          <a:custGeom>
            <a:avLst/>
            <a:gdLst/>
            <a:ahLst/>
            <a:rect l="l" t="t" r="r" b="b"/>
            <a:pathLst>
              <a:path w="398" h="299">
                <a:moveTo>
                  <a:pt x="22944" y="8582"/>
                </a:moveTo>
                <a:cubicBezTo>
                  <a:pt x="22970" y="8582"/>
                  <a:pt x="22831" y="8724"/>
                  <a:pt x="22820" y="8806"/>
                </a:cubicBezTo>
                <a:cubicBezTo>
                  <a:pt x="22794" y="8992"/>
                  <a:pt x="23086" y="8691"/>
                  <a:pt x="23093" y="8682"/>
                </a:cubicBezTo>
                <a:cubicBezTo>
                  <a:pt x="23002" y="8529"/>
                  <a:pt x="22924" y="8580"/>
                  <a:pt x="22820" y="8731"/>
                </a:cubicBezTo>
                <a:cubicBezTo>
                  <a:pt x="22725" y="8868"/>
                  <a:pt x="22756" y="8861"/>
                  <a:pt x="22870" y="8880"/>
                </a:cubicBezTo>
                <a:cubicBezTo>
                  <a:pt x="22901" y="8844"/>
                  <a:pt x="23191" y="8425"/>
                  <a:pt x="22870" y="8582"/>
                </a:cubicBezTo>
                <a:cubicBezTo>
                  <a:pt x="22646" y="8692"/>
                  <a:pt x="22810" y="8908"/>
                  <a:pt x="22895" y="8756"/>
                </a:cubicBezTo>
                <a:cubicBezTo>
                  <a:pt x="22961" y="8639"/>
                  <a:pt x="22859" y="8601"/>
                  <a:pt x="22796" y="8582"/>
                </a:cubicBezTo>
                <a:cubicBezTo>
                  <a:pt x="22785" y="8599"/>
                  <a:pt x="22640" y="8950"/>
                  <a:pt x="22796" y="8781"/>
                </a:cubicBezTo>
                <a:cubicBezTo>
                  <a:pt x="22977" y="8585"/>
                  <a:pt x="22827" y="8641"/>
                  <a:pt x="22746" y="87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43800" y="3143160"/>
            <a:ext cx="1571400" cy="509760"/>
          </a:xfrm>
          <a:custGeom>
            <a:avLst/>
            <a:gdLst/>
            <a:ahLst/>
            <a:rect l="l" t="t" r="r" b="b"/>
            <a:pathLst>
              <a:path w="4366" h="1415">
                <a:moveTo>
                  <a:pt x="22796" y="8781"/>
                </a:moveTo>
                <a:cubicBezTo>
                  <a:pt x="22700" y="8756"/>
                  <a:pt x="22669" y="8737"/>
                  <a:pt x="22572" y="8756"/>
                </a:cubicBezTo>
                <a:cubicBezTo>
                  <a:pt x="22396" y="8790"/>
                  <a:pt x="22225" y="8837"/>
                  <a:pt x="22051" y="8880"/>
                </a:cubicBezTo>
                <a:cubicBezTo>
                  <a:pt x="21901" y="8917"/>
                  <a:pt x="21752" y="8916"/>
                  <a:pt x="21605" y="8954"/>
                </a:cubicBezTo>
                <a:cubicBezTo>
                  <a:pt x="21382" y="9012"/>
                  <a:pt x="21157" y="9059"/>
                  <a:pt x="20935" y="9128"/>
                </a:cubicBezTo>
                <a:cubicBezTo>
                  <a:pt x="20735" y="9190"/>
                  <a:pt x="20527" y="9256"/>
                  <a:pt x="20340" y="9351"/>
                </a:cubicBezTo>
                <a:cubicBezTo>
                  <a:pt x="20088" y="9479"/>
                  <a:pt x="19812" y="9603"/>
                  <a:pt x="19571" y="9748"/>
                </a:cubicBezTo>
                <a:cubicBezTo>
                  <a:pt x="19405" y="9848"/>
                  <a:pt x="19255" y="9881"/>
                  <a:pt x="19075" y="9947"/>
                </a:cubicBezTo>
                <a:cubicBezTo>
                  <a:pt x="18931" y="10000"/>
                  <a:pt x="18803" y="10083"/>
                  <a:pt x="18653" y="10120"/>
                </a:cubicBezTo>
                <a:cubicBezTo>
                  <a:pt x="18595" y="10134"/>
                  <a:pt x="18428" y="10177"/>
                  <a:pt x="18479" y="10145"/>
                </a:cubicBezTo>
                <a:cubicBezTo>
                  <a:pt x="18587" y="10076"/>
                  <a:pt x="18665" y="10057"/>
                  <a:pt x="18777" y="99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43760" y="3071880"/>
            <a:ext cx="2081160" cy="63360"/>
          </a:xfrm>
          <a:custGeom>
            <a:avLst/>
            <a:gdLst/>
            <a:ahLst/>
            <a:rect l="l" t="t" r="r" b="b"/>
            <a:pathLst>
              <a:path w="5780" h="174">
                <a:moveTo>
                  <a:pt x="22845" y="8706"/>
                </a:moveTo>
                <a:cubicBezTo>
                  <a:pt x="22812" y="8673"/>
                  <a:pt x="22880" y="8648"/>
                  <a:pt x="22820" y="8632"/>
                </a:cubicBezTo>
                <a:cubicBezTo>
                  <a:pt x="22685" y="8595"/>
                  <a:pt x="22462" y="8589"/>
                  <a:pt x="22324" y="8582"/>
                </a:cubicBezTo>
                <a:cubicBezTo>
                  <a:pt x="22052" y="8567"/>
                  <a:pt x="21778" y="8545"/>
                  <a:pt x="21506" y="8533"/>
                </a:cubicBezTo>
                <a:cubicBezTo>
                  <a:pt x="21247" y="8521"/>
                  <a:pt x="20993" y="8547"/>
                  <a:pt x="20737" y="8558"/>
                </a:cubicBezTo>
                <a:cubicBezTo>
                  <a:pt x="20436" y="8571"/>
                  <a:pt x="20144" y="8572"/>
                  <a:pt x="19844" y="8607"/>
                </a:cubicBezTo>
                <a:cubicBezTo>
                  <a:pt x="19583" y="8637"/>
                  <a:pt x="19359" y="8574"/>
                  <a:pt x="19100" y="8558"/>
                </a:cubicBezTo>
                <a:cubicBezTo>
                  <a:pt x="18789" y="8539"/>
                  <a:pt x="18488" y="8569"/>
                  <a:pt x="18182" y="8607"/>
                </a:cubicBezTo>
                <a:cubicBezTo>
                  <a:pt x="17865" y="8646"/>
                  <a:pt x="17580" y="8646"/>
                  <a:pt x="17264" y="8632"/>
                </a:cubicBezTo>
                <a:cubicBezTo>
                  <a:pt x="17190" y="8629"/>
                  <a:pt x="17164" y="8634"/>
                  <a:pt x="17090" y="86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02200" y="2527200"/>
            <a:ext cx="2482920" cy="608040"/>
          </a:xfrm>
          <a:custGeom>
            <a:avLst/>
            <a:gdLst/>
            <a:ahLst/>
            <a:rect l="l" t="t" r="r" b="b"/>
            <a:pathLst>
              <a:path w="6897" h="1687">
                <a:moveTo>
                  <a:pt x="23292" y="8706"/>
                </a:moveTo>
                <a:cubicBezTo>
                  <a:pt x="23283" y="8703"/>
                  <a:pt x="23205" y="8663"/>
                  <a:pt x="23168" y="8657"/>
                </a:cubicBezTo>
                <a:cubicBezTo>
                  <a:pt x="22988" y="8627"/>
                  <a:pt x="22803" y="8641"/>
                  <a:pt x="22622" y="8607"/>
                </a:cubicBezTo>
                <a:cubicBezTo>
                  <a:pt x="22459" y="8577"/>
                  <a:pt x="22328" y="8515"/>
                  <a:pt x="22175" y="8458"/>
                </a:cubicBezTo>
                <a:cubicBezTo>
                  <a:pt x="21844" y="8334"/>
                  <a:pt x="21508" y="8202"/>
                  <a:pt x="21183" y="8062"/>
                </a:cubicBezTo>
                <a:cubicBezTo>
                  <a:pt x="20836" y="7913"/>
                  <a:pt x="20488" y="7762"/>
                  <a:pt x="20141" y="7615"/>
                </a:cubicBezTo>
                <a:cubicBezTo>
                  <a:pt x="19972" y="7544"/>
                  <a:pt x="19793" y="7423"/>
                  <a:pt x="19621" y="7367"/>
                </a:cubicBezTo>
                <a:cubicBezTo>
                  <a:pt x="19431" y="7304"/>
                  <a:pt x="19222" y="7274"/>
                  <a:pt x="19025" y="7243"/>
                </a:cubicBezTo>
                <a:cubicBezTo>
                  <a:pt x="18798" y="7207"/>
                  <a:pt x="18580" y="7156"/>
                  <a:pt x="18355" y="7119"/>
                </a:cubicBezTo>
                <a:cubicBezTo>
                  <a:pt x="18112" y="7080"/>
                  <a:pt x="17879" y="7064"/>
                  <a:pt x="17636" y="7045"/>
                </a:cubicBezTo>
                <a:cubicBezTo>
                  <a:pt x="17366" y="7024"/>
                  <a:pt x="17112" y="7009"/>
                  <a:pt x="16842" y="7045"/>
                </a:cubicBezTo>
                <a:cubicBezTo>
                  <a:pt x="16744" y="7058"/>
                  <a:pt x="16438" y="7068"/>
                  <a:pt x="16421" y="70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16880" y="3598920"/>
            <a:ext cx="98280" cy="108000"/>
          </a:xfrm>
          <a:custGeom>
            <a:avLst/>
            <a:gdLst/>
            <a:ahLst/>
            <a:rect l="l" t="t" r="r" b="b"/>
            <a:pathLst>
              <a:path w="274" h="299">
                <a:moveTo>
                  <a:pt x="21183" y="10145"/>
                </a:moveTo>
                <a:cubicBezTo>
                  <a:pt x="21195" y="10136"/>
                  <a:pt x="21326" y="9999"/>
                  <a:pt x="21233" y="10021"/>
                </a:cubicBezTo>
                <a:cubicBezTo>
                  <a:pt x="21103" y="10051"/>
                  <a:pt x="21174" y="10211"/>
                  <a:pt x="21183" y="10294"/>
                </a:cubicBezTo>
                <a:cubicBezTo>
                  <a:pt x="21296" y="10271"/>
                  <a:pt x="21517" y="10136"/>
                  <a:pt x="21332" y="9996"/>
                </a:cubicBezTo>
                <a:cubicBezTo>
                  <a:pt x="21173" y="9876"/>
                  <a:pt x="21188" y="10222"/>
                  <a:pt x="21208" y="10269"/>
                </a:cubicBezTo>
                <a:cubicBezTo>
                  <a:pt x="21274" y="10236"/>
                  <a:pt x="21570" y="9954"/>
                  <a:pt x="21332" y="9996"/>
                </a:cubicBezTo>
                <a:cubicBezTo>
                  <a:pt x="21198" y="10020"/>
                  <a:pt x="21047" y="10341"/>
                  <a:pt x="21258" y="10269"/>
                </a:cubicBezTo>
                <a:cubicBezTo>
                  <a:pt x="21367" y="10232"/>
                  <a:pt x="21533" y="9938"/>
                  <a:pt x="21307" y="10021"/>
                </a:cubicBezTo>
                <a:cubicBezTo>
                  <a:pt x="21143" y="10081"/>
                  <a:pt x="21151" y="10327"/>
                  <a:pt x="21357" y="10244"/>
                </a:cubicBezTo>
                <a:cubicBezTo>
                  <a:pt x="21491" y="10190"/>
                  <a:pt x="21431" y="9942"/>
                  <a:pt x="21332" y="10046"/>
                </a:cubicBezTo>
                <a:cubicBezTo>
                  <a:pt x="21209" y="10174"/>
                  <a:pt x="21303" y="10178"/>
                  <a:pt x="21382" y="101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88040" y="3170160"/>
            <a:ext cx="1527120" cy="465120"/>
          </a:xfrm>
          <a:custGeom>
            <a:avLst/>
            <a:gdLst/>
            <a:ahLst/>
            <a:rect l="l" t="t" r="r" b="b"/>
            <a:pathLst>
              <a:path w="4242" h="1291">
                <a:moveTo>
                  <a:pt x="21307" y="10096"/>
                </a:moveTo>
                <a:cubicBezTo>
                  <a:pt x="21348" y="10096"/>
                  <a:pt x="21390" y="10096"/>
                  <a:pt x="21431" y="10096"/>
                </a:cubicBezTo>
                <a:cubicBezTo>
                  <a:pt x="21371" y="10084"/>
                  <a:pt x="21275" y="10087"/>
                  <a:pt x="21208" y="10071"/>
                </a:cubicBezTo>
                <a:cubicBezTo>
                  <a:pt x="21130" y="10052"/>
                  <a:pt x="21061" y="10038"/>
                  <a:pt x="20985" y="10021"/>
                </a:cubicBezTo>
                <a:cubicBezTo>
                  <a:pt x="20946" y="10012"/>
                  <a:pt x="20900" y="9993"/>
                  <a:pt x="20861" y="9971"/>
                </a:cubicBezTo>
                <a:cubicBezTo>
                  <a:pt x="20806" y="9940"/>
                  <a:pt x="20736" y="9900"/>
                  <a:pt x="20687" y="9872"/>
                </a:cubicBezTo>
                <a:cubicBezTo>
                  <a:pt x="20630" y="9840"/>
                  <a:pt x="20577" y="9794"/>
                  <a:pt x="20513" y="9773"/>
                </a:cubicBezTo>
                <a:cubicBezTo>
                  <a:pt x="20435" y="9748"/>
                  <a:pt x="20345" y="9737"/>
                  <a:pt x="20265" y="9723"/>
                </a:cubicBezTo>
                <a:cubicBezTo>
                  <a:pt x="20135" y="9700"/>
                  <a:pt x="19997" y="9703"/>
                  <a:pt x="19869" y="9674"/>
                </a:cubicBezTo>
                <a:cubicBezTo>
                  <a:pt x="19755" y="9648"/>
                  <a:pt x="19632" y="9613"/>
                  <a:pt x="19521" y="9575"/>
                </a:cubicBezTo>
                <a:cubicBezTo>
                  <a:pt x="19342" y="9514"/>
                  <a:pt x="19131" y="9462"/>
                  <a:pt x="18976" y="9351"/>
                </a:cubicBezTo>
                <a:cubicBezTo>
                  <a:pt x="18914" y="9307"/>
                  <a:pt x="18863" y="9248"/>
                  <a:pt x="18802" y="9203"/>
                </a:cubicBezTo>
                <a:cubicBezTo>
                  <a:pt x="18727" y="9147"/>
                  <a:pt x="18637" y="9099"/>
                  <a:pt x="18554" y="9054"/>
                </a:cubicBezTo>
                <a:cubicBezTo>
                  <a:pt x="18458" y="9002"/>
                  <a:pt x="18313" y="8958"/>
                  <a:pt x="18207" y="8930"/>
                </a:cubicBezTo>
                <a:cubicBezTo>
                  <a:pt x="18090" y="8899"/>
                  <a:pt x="17975" y="8880"/>
                  <a:pt x="17859" y="8855"/>
                </a:cubicBezTo>
                <a:cubicBezTo>
                  <a:pt x="17739" y="8829"/>
                  <a:pt x="17640" y="8830"/>
                  <a:pt x="17512" y="8830"/>
                </a:cubicBezTo>
                <a:cubicBezTo>
                  <a:pt x="17465" y="8830"/>
                  <a:pt x="17303" y="8807"/>
                  <a:pt x="17289" y="8806"/>
                </a:cubicBezTo>
                <a:cubicBezTo>
                  <a:pt x="17256" y="8803"/>
                  <a:pt x="17223" y="8808"/>
                  <a:pt x="17190" y="8806"/>
                </a:cubicBezTo>
                <a:cubicBezTo>
                  <a:pt x="17256" y="8806"/>
                  <a:pt x="17289" y="8806"/>
                  <a:pt x="17338" y="88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72120" y="2517840"/>
            <a:ext cx="1635120" cy="1108080"/>
          </a:xfrm>
          <a:custGeom>
            <a:avLst/>
            <a:gdLst/>
            <a:ahLst/>
            <a:rect l="l" t="t" r="r" b="b"/>
            <a:pathLst>
              <a:path w="4540" h="3077">
                <a:moveTo>
                  <a:pt x="21406" y="10046"/>
                </a:moveTo>
                <a:cubicBezTo>
                  <a:pt x="21394" y="10039"/>
                  <a:pt x="21325" y="10002"/>
                  <a:pt x="21282" y="9971"/>
                </a:cubicBezTo>
                <a:cubicBezTo>
                  <a:pt x="21199" y="9912"/>
                  <a:pt x="21114" y="9857"/>
                  <a:pt x="21034" y="9798"/>
                </a:cubicBezTo>
                <a:cubicBezTo>
                  <a:pt x="20982" y="9760"/>
                  <a:pt x="20938" y="9713"/>
                  <a:pt x="20886" y="9674"/>
                </a:cubicBezTo>
                <a:cubicBezTo>
                  <a:pt x="20776" y="9592"/>
                  <a:pt x="20668" y="9512"/>
                  <a:pt x="20563" y="9426"/>
                </a:cubicBezTo>
                <a:cubicBezTo>
                  <a:pt x="20450" y="9334"/>
                  <a:pt x="20343" y="9274"/>
                  <a:pt x="20216" y="9203"/>
                </a:cubicBezTo>
                <a:cubicBezTo>
                  <a:pt x="20026" y="9096"/>
                  <a:pt x="19856" y="8969"/>
                  <a:pt x="19670" y="8855"/>
                </a:cubicBezTo>
                <a:cubicBezTo>
                  <a:pt x="19419" y="8701"/>
                  <a:pt x="19156" y="8524"/>
                  <a:pt x="18901" y="8384"/>
                </a:cubicBezTo>
                <a:cubicBezTo>
                  <a:pt x="18756" y="8304"/>
                  <a:pt x="18618" y="8229"/>
                  <a:pt x="18479" y="8136"/>
                </a:cubicBezTo>
                <a:cubicBezTo>
                  <a:pt x="18310" y="8023"/>
                  <a:pt x="18132" y="7940"/>
                  <a:pt x="17959" y="7838"/>
                </a:cubicBezTo>
                <a:cubicBezTo>
                  <a:pt x="17818" y="7755"/>
                  <a:pt x="17701" y="7646"/>
                  <a:pt x="17562" y="7565"/>
                </a:cubicBezTo>
                <a:cubicBezTo>
                  <a:pt x="17386" y="7462"/>
                  <a:pt x="17266" y="7384"/>
                  <a:pt x="17115" y="7243"/>
                </a:cubicBezTo>
                <a:cubicBezTo>
                  <a:pt x="17062" y="7193"/>
                  <a:pt x="17018" y="7123"/>
                  <a:pt x="16966" y="7069"/>
                </a:cubicBezTo>
                <a:cubicBezTo>
                  <a:pt x="16950" y="7052"/>
                  <a:pt x="16889" y="7016"/>
                  <a:pt x="16867" y="69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072280" y="1874880"/>
            <a:ext cx="9720" cy="152280"/>
          </a:xfrm>
          <a:custGeom>
            <a:avLst/>
            <a:gdLst/>
            <a:ahLst/>
            <a:rect l="l" t="t" r="r" b="b"/>
            <a:pathLst>
              <a:path w="26" h="423">
                <a:moveTo>
                  <a:pt x="22423" y="5209"/>
                </a:moveTo>
                <a:cubicBezTo>
                  <a:pt x="22431" y="5351"/>
                  <a:pt x="22448" y="5488"/>
                  <a:pt x="22448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28000" y="1911240"/>
            <a:ext cx="169920" cy="27000"/>
          </a:xfrm>
          <a:custGeom>
            <a:avLst/>
            <a:gdLst/>
            <a:ahLst/>
            <a:rect l="l" t="t" r="r" b="b"/>
            <a:pathLst>
              <a:path w="473" h="76">
                <a:moveTo>
                  <a:pt x="22299" y="5383"/>
                </a:moveTo>
                <a:cubicBezTo>
                  <a:pt x="22440" y="5365"/>
                  <a:pt x="22581" y="5332"/>
                  <a:pt x="22721" y="5308"/>
                </a:cubicBezTo>
                <a:cubicBezTo>
                  <a:pt x="22746" y="5308"/>
                  <a:pt x="22754" y="5308"/>
                  <a:pt x="22771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589960" y="2813040"/>
            <a:ext cx="27000" cy="152280"/>
          </a:xfrm>
          <a:custGeom>
            <a:avLst/>
            <a:gdLst/>
            <a:ahLst/>
            <a:rect l="l" t="t" r="r" b="b"/>
            <a:pathLst>
              <a:path w="76" h="423">
                <a:moveTo>
                  <a:pt x="23937" y="7813"/>
                </a:moveTo>
                <a:cubicBezTo>
                  <a:pt x="23845" y="7844"/>
                  <a:pt x="23867" y="8072"/>
                  <a:pt x="23862" y="8161"/>
                </a:cubicBezTo>
                <a:cubicBezTo>
                  <a:pt x="23862" y="8186"/>
                  <a:pt x="23862" y="8210"/>
                  <a:pt x="23862" y="82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528040" y="2857680"/>
            <a:ext cx="135000" cy="36360"/>
          </a:xfrm>
          <a:custGeom>
            <a:avLst/>
            <a:gdLst/>
            <a:ahLst/>
            <a:rect l="l" t="t" r="r" b="b"/>
            <a:pathLst>
              <a:path w="374" h="100">
                <a:moveTo>
                  <a:pt x="23688" y="8037"/>
                </a:moveTo>
                <a:cubicBezTo>
                  <a:pt x="23789" y="8024"/>
                  <a:pt x="23976" y="7928"/>
                  <a:pt x="24061" y="7938"/>
                </a:cubicBezTo>
                <a:cubicBezTo>
                  <a:pt x="24061" y="7946"/>
                  <a:pt x="24061" y="7954"/>
                  <a:pt x="24061" y="79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btuse triangle: has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on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btuse ang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5029200"/>
            <a:ext cx="274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437920" y="3657600"/>
            <a:ext cx="1752840" cy="1371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3657600"/>
            <a:ext cx="4419720" cy="1371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9440" y="52560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compare and classify triangles by their sides and ang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6120" y="5273640"/>
            <a:ext cx="224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btus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2040" y="2224080"/>
            <a:ext cx="758880" cy="34920"/>
          </a:xfrm>
          <a:custGeom>
            <a:avLst/>
            <a:gdLst/>
            <a:ahLst/>
            <a:rect l="l" t="t" r="r" b="b"/>
            <a:pathLst>
              <a:path w="2109" h="101">
                <a:moveTo>
                  <a:pt x="14089" y="6276"/>
                </a:moveTo>
                <a:cubicBezTo>
                  <a:pt x="14089" y="6234"/>
                  <a:pt x="14089" y="6226"/>
                  <a:pt x="14089" y="6201"/>
                </a:cubicBezTo>
                <a:cubicBezTo>
                  <a:pt x="14190" y="6207"/>
                  <a:pt x="14285" y="6224"/>
                  <a:pt x="14387" y="6226"/>
                </a:cubicBezTo>
                <a:cubicBezTo>
                  <a:pt x="14653" y="6232"/>
                  <a:pt x="14917" y="6232"/>
                  <a:pt x="15180" y="6251"/>
                </a:cubicBezTo>
                <a:cubicBezTo>
                  <a:pt x="15395" y="6267"/>
                  <a:pt x="15637" y="6253"/>
                  <a:pt x="15850" y="6226"/>
                </a:cubicBezTo>
                <a:cubicBezTo>
                  <a:pt x="15951" y="6213"/>
                  <a:pt x="16045" y="6180"/>
                  <a:pt x="16148" y="6176"/>
                </a:cubicBezTo>
                <a:cubicBezTo>
                  <a:pt x="16173" y="6176"/>
                  <a:pt x="16181" y="6176"/>
                  <a:pt x="16197" y="61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38760" y="4786200"/>
            <a:ext cx="554040" cy="447840"/>
          </a:xfrm>
          <a:custGeom>
            <a:avLst/>
            <a:gdLst/>
            <a:ahLst/>
            <a:rect l="l" t="t" r="r" b="b"/>
            <a:pathLst>
              <a:path w="1539" h="1242">
                <a:moveTo>
                  <a:pt x="11658" y="13543"/>
                </a:moveTo>
                <a:cubicBezTo>
                  <a:pt x="11634" y="13479"/>
                  <a:pt x="11659" y="13488"/>
                  <a:pt x="11584" y="13444"/>
                </a:cubicBezTo>
                <a:cubicBezTo>
                  <a:pt x="11476" y="13380"/>
                  <a:pt x="11378" y="13406"/>
                  <a:pt x="11261" y="13444"/>
                </a:cubicBezTo>
                <a:cubicBezTo>
                  <a:pt x="11127" y="13488"/>
                  <a:pt x="11048" y="13513"/>
                  <a:pt x="10988" y="13643"/>
                </a:cubicBezTo>
                <a:cubicBezTo>
                  <a:pt x="10947" y="13732"/>
                  <a:pt x="10927" y="13916"/>
                  <a:pt x="10939" y="14015"/>
                </a:cubicBezTo>
                <a:cubicBezTo>
                  <a:pt x="10955" y="14145"/>
                  <a:pt x="11000" y="14283"/>
                  <a:pt x="11112" y="14362"/>
                </a:cubicBezTo>
                <a:cubicBezTo>
                  <a:pt x="11239" y="14452"/>
                  <a:pt x="11437" y="14480"/>
                  <a:pt x="11584" y="14511"/>
                </a:cubicBezTo>
                <a:cubicBezTo>
                  <a:pt x="11766" y="14549"/>
                  <a:pt x="11944" y="14510"/>
                  <a:pt x="12105" y="14412"/>
                </a:cubicBezTo>
                <a:cubicBezTo>
                  <a:pt x="12222" y="14341"/>
                  <a:pt x="12359" y="14208"/>
                  <a:pt x="12427" y="14089"/>
                </a:cubicBezTo>
                <a:cubicBezTo>
                  <a:pt x="12470" y="14013"/>
                  <a:pt x="12504" y="13854"/>
                  <a:pt x="12477" y="13767"/>
                </a:cubicBezTo>
                <a:cubicBezTo>
                  <a:pt x="12448" y="13676"/>
                  <a:pt x="12382" y="13530"/>
                  <a:pt x="12303" y="13469"/>
                </a:cubicBezTo>
                <a:cubicBezTo>
                  <a:pt x="12239" y="13420"/>
                  <a:pt x="12106" y="13340"/>
                  <a:pt x="12030" y="13320"/>
                </a:cubicBezTo>
                <a:cubicBezTo>
                  <a:pt x="11899" y="13286"/>
                  <a:pt x="11787" y="13312"/>
                  <a:pt x="11658" y="13345"/>
                </a:cubicBezTo>
                <a:cubicBezTo>
                  <a:pt x="11577" y="13365"/>
                  <a:pt x="11482" y="13402"/>
                  <a:pt x="11410" y="13419"/>
                </a:cubicBezTo>
                <a:cubicBezTo>
                  <a:pt x="11402" y="13419"/>
                  <a:pt x="11393" y="13419"/>
                  <a:pt x="11385" y="134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37000" y="5411880"/>
            <a:ext cx="312840" cy="419040"/>
          </a:xfrm>
          <a:custGeom>
            <a:avLst/>
            <a:gdLst/>
            <a:ahLst/>
            <a:rect l="l" t="t" r="r" b="b"/>
            <a:pathLst>
              <a:path w="869" h="1166">
                <a:moveTo>
                  <a:pt x="9823" y="15032"/>
                </a:moveTo>
                <a:cubicBezTo>
                  <a:pt x="9974" y="15183"/>
                  <a:pt x="10154" y="15330"/>
                  <a:pt x="10344" y="15429"/>
                </a:cubicBezTo>
                <a:cubicBezTo>
                  <a:pt x="10439" y="15478"/>
                  <a:pt x="10585" y="15532"/>
                  <a:pt x="10691" y="15553"/>
                </a:cubicBezTo>
                <a:cubicBezTo>
                  <a:pt x="10599" y="15625"/>
                  <a:pt x="10344" y="15826"/>
                  <a:pt x="10244" y="15900"/>
                </a:cubicBezTo>
                <a:cubicBezTo>
                  <a:pt x="10106" y="16001"/>
                  <a:pt x="9766" y="16283"/>
                  <a:pt x="9897" y="16173"/>
                </a:cubicBezTo>
                <a:cubicBezTo>
                  <a:pt x="9947" y="16132"/>
                  <a:pt x="9996" y="16090"/>
                  <a:pt x="10046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44960" y="5330880"/>
            <a:ext cx="536400" cy="428400"/>
          </a:xfrm>
          <a:custGeom>
            <a:avLst/>
            <a:gdLst/>
            <a:ahLst/>
            <a:rect l="l" t="t" r="r" b="b"/>
            <a:pathLst>
              <a:path w="1489" h="1192">
                <a:moveTo>
                  <a:pt x="11708" y="15404"/>
                </a:moveTo>
                <a:cubicBezTo>
                  <a:pt x="11770" y="15169"/>
                  <a:pt x="11783" y="15099"/>
                  <a:pt x="11609" y="14957"/>
                </a:cubicBezTo>
                <a:cubicBezTo>
                  <a:pt x="11502" y="14985"/>
                  <a:pt x="11047" y="15223"/>
                  <a:pt x="11261" y="15429"/>
                </a:cubicBezTo>
                <a:cubicBezTo>
                  <a:pt x="11454" y="15616"/>
                  <a:pt x="11676" y="15204"/>
                  <a:pt x="11733" y="15081"/>
                </a:cubicBezTo>
                <a:cubicBezTo>
                  <a:pt x="11699" y="15338"/>
                  <a:pt x="11629" y="15593"/>
                  <a:pt x="11584" y="15850"/>
                </a:cubicBezTo>
                <a:cubicBezTo>
                  <a:pt x="11574" y="15908"/>
                  <a:pt x="11559" y="16033"/>
                  <a:pt x="11559" y="15974"/>
                </a:cubicBezTo>
              </a:path>
              <a:path w="1489" h="1192">
                <a:moveTo>
                  <a:pt x="12254" y="15056"/>
                </a:moveTo>
                <a:cubicBezTo>
                  <a:pt x="12069" y="15204"/>
                  <a:pt x="11972" y="15441"/>
                  <a:pt x="11931" y="15677"/>
                </a:cubicBezTo>
                <a:cubicBezTo>
                  <a:pt x="11931" y="15840"/>
                  <a:pt x="11926" y="15890"/>
                  <a:pt x="12005" y="15974"/>
                </a:cubicBezTo>
                <a:cubicBezTo>
                  <a:pt x="12307" y="15895"/>
                  <a:pt x="12480" y="15733"/>
                  <a:pt x="12427" y="15379"/>
                </a:cubicBezTo>
                <a:cubicBezTo>
                  <a:pt x="12396" y="15173"/>
                  <a:pt x="12303" y="15104"/>
                  <a:pt x="12129" y="15131"/>
                </a:cubicBezTo>
              </a:path>
              <a:path w="1489" h="1192">
                <a:moveTo>
                  <a:pt x="12650" y="14808"/>
                </a:moveTo>
                <a:cubicBezTo>
                  <a:pt x="12542" y="14881"/>
                  <a:pt x="12551" y="14885"/>
                  <a:pt x="12526" y="15007"/>
                </a:cubicBezTo>
                <a:cubicBezTo>
                  <a:pt x="12616" y="15027"/>
                  <a:pt x="12753" y="14999"/>
                  <a:pt x="12725" y="14858"/>
                </a:cubicBezTo>
                <a:cubicBezTo>
                  <a:pt x="12692" y="14858"/>
                  <a:pt x="12675" y="14858"/>
                  <a:pt x="12650" y="148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4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9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4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quiangular triangle: all 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thre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gles are eq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43200" y="3429000"/>
            <a:ext cx="3581280" cy="2133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74560" y="38088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compare and classify triangles by their sides and ang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840" y="5715000"/>
            <a:ext cx="92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n Equiangular triangle, all angles measur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86240" y="4857840"/>
            <a:ext cx="687600" cy="517320"/>
          </a:xfrm>
          <a:custGeom>
            <a:avLst/>
            <a:gdLst/>
            <a:ahLst/>
            <a:rect l="l" t="t" r="r" b="b"/>
            <a:pathLst>
              <a:path w="1911" h="1439">
                <a:moveTo>
                  <a:pt x="14833" y="14610"/>
                </a:moveTo>
                <a:cubicBezTo>
                  <a:pt x="14980" y="14647"/>
                  <a:pt x="15110" y="14716"/>
                  <a:pt x="15255" y="14759"/>
                </a:cubicBezTo>
                <a:cubicBezTo>
                  <a:pt x="15617" y="14866"/>
                  <a:pt x="15913" y="14831"/>
                  <a:pt x="16247" y="14660"/>
                </a:cubicBezTo>
                <a:cubicBezTo>
                  <a:pt x="16527" y="14517"/>
                  <a:pt x="16721" y="14208"/>
                  <a:pt x="16545" y="13891"/>
                </a:cubicBezTo>
                <a:cubicBezTo>
                  <a:pt x="16349" y="13539"/>
                  <a:pt x="15876" y="13487"/>
                  <a:pt x="15528" y="13494"/>
                </a:cubicBezTo>
                <a:cubicBezTo>
                  <a:pt x="15306" y="13499"/>
                  <a:pt x="14908" y="13540"/>
                  <a:pt x="14784" y="13767"/>
                </a:cubicBezTo>
                <a:cubicBezTo>
                  <a:pt x="14621" y="14066"/>
                  <a:pt x="14603" y="14637"/>
                  <a:pt x="14908" y="14858"/>
                </a:cubicBezTo>
                <a:cubicBezTo>
                  <a:pt x="15179" y="15055"/>
                  <a:pt x="15538" y="14815"/>
                  <a:pt x="15751" y="146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06880" y="3759120"/>
            <a:ext cx="635040" cy="581040"/>
          </a:xfrm>
          <a:custGeom>
            <a:avLst/>
            <a:gdLst/>
            <a:ahLst/>
            <a:rect l="l" t="t" r="r" b="b"/>
            <a:pathLst>
              <a:path w="1762" h="1613">
                <a:moveTo>
                  <a:pt x="11559" y="11708"/>
                </a:moveTo>
                <a:cubicBezTo>
                  <a:pt x="11632" y="11742"/>
                  <a:pt x="11638" y="11746"/>
                  <a:pt x="11733" y="11807"/>
                </a:cubicBezTo>
                <a:cubicBezTo>
                  <a:pt x="11953" y="11947"/>
                  <a:pt x="12222" y="11982"/>
                  <a:pt x="12477" y="11931"/>
                </a:cubicBezTo>
                <a:cubicBezTo>
                  <a:pt x="12716" y="11883"/>
                  <a:pt x="13048" y="11762"/>
                  <a:pt x="13146" y="11509"/>
                </a:cubicBezTo>
                <a:cubicBezTo>
                  <a:pt x="13236" y="11277"/>
                  <a:pt x="13171" y="10885"/>
                  <a:pt x="13022" y="10691"/>
                </a:cubicBezTo>
                <a:cubicBezTo>
                  <a:pt x="12844" y="10460"/>
                  <a:pt x="12575" y="10428"/>
                  <a:pt x="12303" y="10443"/>
                </a:cubicBezTo>
                <a:cubicBezTo>
                  <a:pt x="12034" y="10458"/>
                  <a:pt x="11754" y="10542"/>
                  <a:pt x="11584" y="10765"/>
                </a:cubicBezTo>
                <a:cubicBezTo>
                  <a:pt x="11379" y="11034"/>
                  <a:pt x="11317" y="11530"/>
                  <a:pt x="11485" y="11832"/>
                </a:cubicBezTo>
                <a:cubicBezTo>
                  <a:pt x="11660" y="12147"/>
                  <a:pt x="12036" y="12056"/>
                  <a:pt x="12303" y="11956"/>
                </a:cubicBezTo>
                <a:cubicBezTo>
                  <a:pt x="12353" y="11931"/>
                  <a:pt x="12402" y="11906"/>
                  <a:pt x="12452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95800" y="4902120"/>
            <a:ext cx="669600" cy="527040"/>
          </a:xfrm>
          <a:custGeom>
            <a:avLst/>
            <a:gdLst/>
            <a:ahLst/>
            <a:rect l="l" t="t" r="r" b="b"/>
            <a:pathLst>
              <a:path w="1861" h="1464">
                <a:moveTo>
                  <a:pt x="9351" y="14684"/>
                </a:moveTo>
                <a:cubicBezTo>
                  <a:pt x="9570" y="14793"/>
                  <a:pt x="9794" y="14920"/>
                  <a:pt x="10046" y="14932"/>
                </a:cubicBezTo>
                <a:cubicBezTo>
                  <a:pt x="10361" y="14947"/>
                  <a:pt x="10699" y="14789"/>
                  <a:pt x="10889" y="14536"/>
                </a:cubicBezTo>
                <a:cubicBezTo>
                  <a:pt x="11079" y="14283"/>
                  <a:pt x="11078" y="13905"/>
                  <a:pt x="10765" y="13742"/>
                </a:cubicBezTo>
                <a:cubicBezTo>
                  <a:pt x="10387" y="13546"/>
                  <a:pt x="9875" y="13607"/>
                  <a:pt x="9500" y="13767"/>
                </a:cubicBezTo>
                <a:cubicBezTo>
                  <a:pt x="9038" y="13964"/>
                  <a:pt x="9039" y="14605"/>
                  <a:pt x="9351" y="14957"/>
                </a:cubicBezTo>
                <a:cubicBezTo>
                  <a:pt x="9628" y="15269"/>
                  <a:pt x="9967" y="14982"/>
                  <a:pt x="10220" y="148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77080" y="5081760"/>
            <a:ext cx="679680" cy="500040"/>
          </a:xfrm>
          <a:custGeom>
            <a:avLst/>
            <a:gdLst/>
            <a:ahLst/>
            <a:rect l="l" t="t" r="r" b="b"/>
            <a:pathLst>
              <a:path w="1886" h="1390">
                <a:moveTo>
                  <a:pt x="21779" y="14585"/>
                </a:moveTo>
                <a:cubicBezTo>
                  <a:pt x="21724" y="14702"/>
                  <a:pt x="21659" y="14870"/>
                  <a:pt x="21630" y="15007"/>
                </a:cubicBezTo>
                <a:cubicBezTo>
                  <a:pt x="21582" y="15229"/>
                  <a:pt x="21563" y="15503"/>
                  <a:pt x="21878" y="15503"/>
                </a:cubicBezTo>
                <a:cubicBezTo>
                  <a:pt x="22174" y="15503"/>
                  <a:pt x="22357" y="15366"/>
                  <a:pt x="22448" y="15106"/>
                </a:cubicBezTo>
                <a:cubicBezTo>
                  <a:pt x="22456" y="15073"/>
                  <a:pt x="22465" y="15040"/>
                  <a:pt x="22473" y="15007"/>
                </a:cubicBezTo>
                <a:cubicBezTo>
                  <a:pt x="22294" y="14929"/>
                  <a:pt x="22106" y="14961"/>
                  <a:pt x="22051" y="15205"/>
                </a:cubicBezTo>
                <a:cubicBezTo>
                  <a:pt x="22008" y="15399"/>
                  <a:pt x="22115" y="15404"/>
                  <a:pt x="22225" y="15404"/>
                </a:cubicBezTo>
              </a:path>
              <a:path w="1886" h="1390">
                <a:moveTo>
                  <a:pt x="22845" y="14412"/>
                </a:moveTo>
                <a:cubicBezTo>
                  <a:pt x="22730" y="14458"/>
                  <a:pt x="22673" y="14616"/>
                  <a:pt x="22647" y="14734"/>
                </a:cubicBezTo>
                <a:cubicBezTo>
                  <a:pt x="22616" y="14873"/>
                  <a:pt x="22591" y="15296"/>
                  <a:pt x="22845" y="15280"/>
                </a:cubicBezTo>
                <a:cubicBezTo>
                  <a:pt x="23088" y="15264"/>
                  <a:pt x="23230" y="14910"/>
                  <a:pt x="23217" y="14709"/>
                </a:cubicBezTo>
                <a:cubicBezTo>
                  <a:pt x="23202" y="14485"/>
                  <a:pt x="23031" y="14362"/>
                  <a:pt x="22820" y="14362"/>
                </a:cubicBezTo>
                <a:cubicBezTo>
                  <a:pt x="22804" y="14370"/>
                  <a:pt x="22787" y="14379"/>
                  <a:pt x="22771" y="14387"/>
                </a:cubicBezTo>
              </a:path>
              <a:path w="1886" h="1390">
                <a:moveTo>
                  <a:pt x="23292" y="14114"/>
                </a:moveTo>
                <a:cubicBezTo>
                  <a:pt x="23191" y="14174"/>
                  <a:pt x="23216" y="14232"/>
                  <a:pt x="23242" y="14337"/>
                </a:cubicBezTo>
                <a:cubicBezTo>
                  <a:pt x="23344" y="14358"/>
                  <a:pt x="23517" y="14326"/>
                  <a:pt x="23490" y="14163"/>
                </a:cubicBezTo>
                <a:cubicBezTo>
                  <a:pt x="23467" y="14023"/>
                  <a:pt x="23261" y="14154"/>
                  <a:pt x="23217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3960" y="2152800"/>
            <a:ext cx="2303280" cy="106200"/>
          </a:xfrm>
          <a:custGeom>
            <a:avLst/>
            <a:gdLst/>
            <a:ahLst/>
            <a:rect l="l" t="t" r="r" b="b"/>
            <a:pathLst>
              <a:path w="6401" h="299">
                <a:moveTo>
                  <a:pt x="2009" y="6276"/>
                </a:moveTo>
                <a:cubicBezTo>
                  <a:pt x="2174" y="6171"/>
                  <a:pt x="2432" y="6125"/>
                  <a:pt x="2629" y="6077"/>
                </a:cubicBezTo>
                <a:cubicBezTo>
                  <a:pt x="2930" y="6004"/>
                  <a:pt x="3214" y="5978"/>
                  <a:pt x="3522" y="5978"/>
                </a:cubicBezTo>
                <a:cubicBezTo>
                  <a:pt x="3596" y="5978"/>
                  <a:pt x="3605" y="5978"/>
                  <a:pt x="3646" y="5978"/>
                </a:cubicBezTo>
              </a:path>
              <a:path w="6401" h="299">
                <a:moveTo>
                  <a:pt x="4688" y="6152"/>
                </a:moveTo>
                <a:cubicBezTo>
                  <a:pt x="4777" y="6136"/>
                  <a:pt x="4870" y="6116"/>
                  <a:pt x="4961" y="6102"/>
                </a:cubicBezTo>
                <a:cubicBezTo>
                  <a:pt x="5208" y="6064"/>
                  <a:pt x="5456" y="6077"/>
                  <a:pt x="5705" y="6077"/>
                </a:cubicBezTo>
                <a:cubicBezTo>
                  <a:pt x="5964" y="6077"/>
                  <a:pt x="6219" y="6081"/>
                  <a:pt x="6474" y="6102"/>
                </a:cubicBezTo>
                <a:cubicBezTo>
                  <a:pt x="6633" y="6115"/>
                  <a:pt x="6787" y="6081"/>
                  <a:pt x="6945" y="6077"/>
                </a:cubicBezTo>
                <a:cubicBezTo>
                  <a:pt x="7249" y="6070"/>
                  <a:pt x="7564" y="6113"/>
                  <a:pt x="7863" y="6102"/>
                </a:cubicBezTo>
                <a:cubicBezTo>
                  <a:pt x="8036" y="6096"/>
                  <a:pt x="8208" y="6077"/>
                  <a:pt x="8384" y="6077"/>
                </a:cubicBezTo>
                <a:cubicBezTo>
                  <a:pt x="8392" y="6077"/>
                  <a:pt x="8401" y="6077"/>
                  <a:pt x="8409" y="60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15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Classify the triangle by its angle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1905120"/>
            <a:ext cx="1904760" cy="13716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1600200"/>
            <a:ext cx="2819160" cy="1676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5288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4343400"/>
            <a:ext cx="3962520" cy="1219320"/>
          </a:xfrm>
          <a:prstGeom prst="triangle">
            <a:avLst>
              <a:gd name="adj" fmla="val 61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0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5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5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5228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compare and classify triangles by their sides and ang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7120" y="2813040"/>
            <a:ext cx="982800" cy="750960"/>
          </a:xfrm>
          <a:custGeom>
            <a:avLst/>
            <a:gdLst/>
            <a:ahLst/>
            <a:rect l="l" t="t" r="r" b="b"/>
            <a:pathLst>
              <a:path w="2730" h="2085">
                <a:moveTo>
                  <a:pt x="2307" y="8384"/>
                </a:moveTo>
                <a:cubicBezTo>
                  <a:pt x="2274" y="8384"/>
                  <a:pt x="2241" y="8384"/>
                  <a:pt x="2208" y="8384"/>
                </a:cubicBezTo>
                <a:cubicBezTo>
                  <a:pt x="2265" y="8407"/>
                  <a:pt x="2380" y="8446"/>
                  <a:pt x="2480" y="8434"/>
                </a:cubicBezTo>
                <a:cubicBezTo>
                  <a:pt x="2575" y="8423"/>
                  <a:pt x="2662" y="8378"/>
                  <a:pt x="2753" y="8359"/>
                </a:cubicBezTo>
                <a:cubicBezTo>
                  <a:pt x="2825" y="8344"/>
                  <a:pt x="2906" y="8322"/>
                  <a:pt x="2977" y="8310"/>
                </a:cubicBezTo>
                <a:cubicBezTo>
                  <a:pt x="3025" y="8302"/>
                  <a:pt x="3033" y="8311"/>
                  <a:pt x="3051" y="8334"/>
                </a:cubicBezTo>
                <a:cubicBezTo>
                  <a:pt x="3132" y="8438"/>
                  <a:pt x="3162" y="8629"/>
                  <a:pt x="3175" y="8756"/>
                </a:cubicBezTo>
                <a:cubicBezTo>
                  <a:pt x="3183" y="8836"/>
                  <a:pt x="3196" y="8900"/>
                  <a:pt x="3200" y="8979"/>
                </a:cubicBezTo>
                <a:cubicBezTo>
                  <a:pt x="3203" y="9045"/>
                  <a:pt x="3200" y="9112"/>
                  <a:pt x="3200" y="9178"/>
                </a:cubicBezTo>
              </a:path>
              <a:path w="2730" h="2085">
                <a:moveTo>
                  <a:pt x="2406" y="8607"/>
                </a:moveTo>
                <a:cubicBezTo>
                  <a:pt x="2374" y="8576"/>
                  <a:pt x="2350" y="8538"/>
                  <a:pt x="2307" y="8533"/>
                </a:cubicBezTo>
                <a:cubicBezTo>
                  <a:pt x="2275" y="8529"/>
                  <a:pt x="2266" y="8510"/>
                  <a:pt x="2257" y="8483"/>
                </a:cubicBezTo>
                <a:cubicBezTo>
                  <a:pt x="2404" y="8440"/>
                  <a:pt x="2551" y="8378"/>
                  <a:pt x="2704" y="8359"/>
                </a:cubicBezTo>
                <a:cubicBezTo>
                  <a:pt x="2771" y="8351"/>
                  <a:pt x="2969" y="8334"/>
                  <a:pt x="2902" y="8334"/>
                </a:cubicBezTo>
                <a:cubicBezTo>
                  <a:pt x="2894" y="8334"/>
                  <a:pt x="2885" y="8334"/>
                  <a:pt x="2877" y="8334"/>
                </a:cubicBezTo>
                <a:cubicBezTo>
                  <a:pt x="2732" y="8340"/>
                  <a:pt x="2545" y="8340"/>
                  <a:pt x="2406" y="8384"/>
                </a:cubicBezTo>
                <a:cubicBezTo>
                  <a:pt x="2398" y="8392"/>
                  <a:pt x="2389" y="8401"/>
                  <a:pt x="2381" y="8409"/>
                </a:cubicBezTo>
                <a:cubicBezTo>
                  <a:pt x="2523" y="8409"/>
                  <a:pt x="2695" y="8372"/>
                  <a:pt x="2828" y="8384"/>
                </a:cubicBezTo>
                <a:cubicBezTo>
                  <a:pt x="2878" y="8388"/>
                  <a:pt x="2869" y="8419"/>
                  <a:pt x="2927" y="8384"/>
                </a:cubicBezTo>
                <a:cubicBezTo>
                  <a:pt x="2999" y="8562"/>
                  <a:pt x="3001" y="8713"/>
                  <a:pt x="2977" y="8905"/>
                </a:cubicBezTo>
                <a:cubicBezTo>
                  <a:pt x="2959" y="8996"/>
                  <a:pt x="2950" y="9003"/>
                  <a:pt x="2952" y="9054"/>
                </a:cubicBezTo>
                <a:cubicBezTo>
                  <a:pt x="2928" y="8908"/>
                  <a:pt x="2887" y="8758"/>
                  <a:pt x="2877" y="8607"/>
                </a:cubicBezTo>
                <a:cubicBezTo>
                  <a:pt x="2877" y="8557"/>
                  <a:pt x="2877" y="8508"/>
                  <a:pt x="2877" y="8458"/>
                </a:cubicBezTo>
                <a:cubicBezTo>
                  <a:pt x="2877" y="8340"/>
                  <a:pt x="2911" y="8540"/>
                  <a:pt x="2927" y="8657"/>
                </a:cubicBezTo>
                <a:cubicBezTo>
                  <a:pt x="2948" y="8813"/>
                  <a:pt x="2952" y="9236"/>
                  <a:pt x="2952" y="9079"/>
                </a:cubicBezTo>
                <a:cubicBezTo>
                  <a:pt x="2952" y="9044"/>
                  <a:pt x="2947" y="9026"/>
                  <a:pt x="2927" y="9004"/>
                </a:cubicBezTo>
              </a:path>
              <a:path w="2730" h="2085">
                <a:moveTo>
                  <a:pt x="1860" y="9723"/>
                </a:moveTo>
                <a:cubicBezTo>
                  <a:pt x="2203" y="9809"/>
                  <a:pt x="2509" y="9954"/>
                  <a:pt x="2877" y="9872"/>
                </a:cubicBezTo>
                <a:cubicBezTo>
                  <a:pt x="3259" y="9786"/>
                  <a:pt x="3644" y="9427"/>
                  <a:pt x="3721" y="9029"/>
                </a:cubicBezTo>
                <a:cubicBezTo>
                  <a:pt x="3809" y="8575"/>
                  <a:pt x="3636" y="8141"/>
                  <a:pt x="3225" y="7938"/>
                </a:cubicBezTo>
                <a:cubicBezTo>
                  <a:pt x="2849" y="7752"/>
                  <a:pt x="2404" y="7806"/>
                  <a:pt x="2009" y="7888"/>
                </a:cubicBezTo>
                <a:cubicBezTo>
                  <a:pt x="1648" y="7963"/>
                  <a:pt x="1249" y="8076"/>
                  <a:pt x="1067" y="8434"/>
                </a:cubicBezTo>
                <a:cubicBezTo>
                  <a:pt x="891" y="8781"/>
                  <a:pt x="1056" y="9310"/>
                  <a:pt x="1315" y="9575"/>
                </a:cubicBezTo>
                <a:cubicBezTo>
                  <a:pt x="1651" y="9919"/>
                  <a:pt x="1944" y="9837"/>
                  <a:pt x="2282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8160" y="2374920"/>
            <a:ext cx="293760" cy="376200"/>
          </a:xfrm>
          <a:custGeom>
            <a:avLst/>
            <a:gdLst/>
            <a:ahLst/>
            <a:rect l="l" t="t" r="r" b="b"/>
            <a:pathLst>
              <a:path w="819" h="1043">
                <a:moveTo>
                  <a:pt x="6077" y="7640"/>
                </a:moveTo>
                <a:cubicBezTo>
                  <a:pt x="6035" y="7587"/>
                  <a:pt x="6009" y="7572"/>
                  <a:pt x="6003" y="7516"/>
                </a:cubicBezTo>
                <a:cubicBezTo>
                  <a:pt x="5996" y="7456"/>
                  <a:pt x="5988" y="7403"/>
                  <a:pt x="5978" y="7342"/>
                </a:cubicBezTo>
                <a:cubicBezTo>
                  <a:pt x="5953" y="7192"/>
                  <a:pt x="5902" y="7044"/>
                  <a:pt x="5879" y="6896"/>
                </a:cubicBezTo>
                <a:cubicBezTo>
                  <a:pt x="5867" y="6821"/>
                  <a:pt x="5830" y="6727"/>
                  <a:pt x="5854" y="6648"/>
                </a:cubicBezTo>
                <a:cubicBezTo>
                  <a:pt x="5894" y="6512"/>
                  <a:pt x="6130" y="6654"/>
                  <a:pt x="6176" y="6697"/>
                </a:cubicBezTo>
                <a:cubicBezTo>
                  <a:pt x="6305" y="6816"/>
                  <a:pt x="6204" y="6982"/>
                  <a:pt x="6077" y="7045"/>
                </a:cubicBezTo>
                <a:cubicBezTo>
                  <a:pt x="6009" y="7079"/>
                  <a:pt x="5949" y="7065"/>
                  <a:pt x="5879" y="7069"/>
                </a:cubicBezTo>
                <a:cubicBezTo>
                  <a:pt x="6036" y="7119"/>
                  <a:pt x="6193" y="7184"/>
                  <a:pt x="6350" y="7243"/>
                </a:cubicBezTo>
                <a:cubicBezTo>
                  <a:pt x="6482" y="7293"/>
                  <a:pt x="6547" y="7327"/>
                  <a:pt x="6672" y="73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58040" y="1946160"/>
            <a:ext cx="1519200" cy="965160"/>
          </a:xfrm>
          <a:custGeom>
            <a:avLst/>
            <a:gdLst/>
            <a:ahLst/>
            <a:rect l="l" t="t" r="r" b="b"/>
            <a:pathLst>
              <a:path w="4218" h="2680">
                <a:moveTo>
                  <a:pt x="20464" y="7119"/>
                </a:moveTo>
                <a:cubicBezTo>
                  <a:pt x="20464" y="7035"/>
                  <a:pt x="20496" y="7233"/>
                  <a:pt x="20489" y="7317"/>
                </a:cubicBezTo>
                <a:cubicBezTo>
                  <a:pt x="20478" y="7447"/>
                  <a:pt x="20455" y="7517"/>
                  <a:pt x="20489" y="7640"/>
                </a:cubicBezTo>
                <a:cubicBezTo>
                  <a:pt x="20620" y="7621"/>
                  <a:pt x="20714" y="7544"/>
                  <a:pt x="20836" y="7516"/>
                </a:cubicBezTo>
                <a:cubicBezTo>
                  <a:pt x="20844" y="7516"/>
                  <a:pt x="20853" y="7516"/>
                  <a:pt x="20861" y="7516"/>
                </a:cubicBezTo>
              </a:path>
              <a:path w="4218" h="2680">
                <a:moveTo>
                  <a:pt x="20464" y="7317"/>
                </a:moveTo>
                <a:cubicBezTo>
                  <a:pt x="20581" y="7255"/>
                  <a:pt x="20704" y="7195"/>
                  <a:pt x="20811" y="7119"/>
                </a:cubicBezTo>
              </a:path>
              <a:path w="4218" h="2680">
                <a:moveTo>
                  <a:pt x="20439" y="7045"/>
                </a:moveTo>
                <a:cubicBezTo>
                  <a:pt x="20580" y="7027"/>
                  <a:pt x="20715" y="6947"/>
                  <a:pt x="20836" y="6871"/>
                </a:cubicBezTo>
                <a:cubicBezTo>
                  <a:pt x="20859" y="6848"/>
                  <a:pt x="20863" y="6840"/>
                  <a:pt x="20886" y="6846"/>
                </a:cubicBezTo>
              </a:path>
              <a:path w="4218" h="2680">
                <a:moveTo>
                  <a:pt x="21307" y="7069"/>
                </a:moveTo>
                <a:cubicBezTo>
                  <a:pt x="21146" y="7010"/>
                  <a:pt x="21130" y="7072"/>
                  <a:pt x="21084" y="7243"/>
                </a:cubicBezTo>
                <a:cubicBezTo>
                  <a:pt x="21063" y="7365"/>
                  <a:pt x="21036" y="7396"/>
                  <a:pt x="21109" y="7441"/>
                </a:cubicBezTo>
                <a:cubicBezTo>
                  <a:pt x="21223" y="7366"/>
                  <a:pt x="21250" y="7296"/>
                  <a:pt x="21307" y="7169"/>
                </a:cubicBezTo>
                <a:cubicBezTo>
                  <a:pt x="21371" y="7450"/>
                  <a:pt x="21367" y="7770"/>
                  <a:pt x="21481" y="8037"/>
                </a:cubicBezTo>
                <a:cubicBezTo>
                  <a:pt x="21497" y="8053"/>
                  <a:pt x="21514" y="8070"/>
                  <a:pt x="21530" y="8086"/>
                </a:cubicBezTo>
                <a:cubicBezTo>
                  <a:pt x="21657" y="7912"/>
                  <a:pt x="21782" y="7750"/>
                  <a:pt x="21654" y="7541"/>
                </a:cubicBezTo>
                <a:cubicBezTo>
                  <a:pt x="21638" y="7524"/>
                  <a:pt x="21621" y="7508"/>
                  <a:pt x="21605" y="7491"/>
                </a:cubicBezTo>
              </a:path>
              <a:path w="4218" h="2680">
                <a:moveTo>
                  <a:pt x="21580" y="6995"/>
                </a:moveTo>
                <a:cubicBezTo>
                  <a:pt x="21593" y="7136"/>
                  <a:pt x="21622" y="7230"/>
                  <a:pt x="21704" y="7342"/>
                </a:cubicBezTo>
                <a:cubicBezTo>
                  <a:pt x="21867" y="7247"/>
                  <a:pt x="21871" y="7159"/>
                  <a:pt x="21878" y="6970"/>
                </a:cubicBezTo>
                <a:cubicBezTo>
                  <a:pt x="21878" y="6954"/>
                  <a:pt x="21878" y="6937"/>
                  <a:pt x="21878" y="6921"/>
                </a:cubicBezTo>
                <a:cubicBezTo>
                  <a:pt x="21918" y="7027"/>
                  <a:pt x="21980" y="7129"/>
                  <a:pt x="22051" y="7218"/>
                </a:cubicBezTo>
              </a:path>
              <a:path w="4218" h="2680">
                <a:moveTo>
                  <a:pt x="22101" y="6871"/>
                </a:moveTo>
                <a:cubicBezTo>
                  <a:pt x="22160" y="6970"/>
                  <a:pt x="22171" y="6985"/>
                  <a:pt x="22200" y="7045"/>
                </a:cubicBezTo>
              </a:path>
              <a:path w="4218" h="2680">
                <a:moveTo>
                  <a:pt x="22002" y="6598"/>
                </a:moveTo>
                <a:lnTo>
                  <a:pt x="22002" y="6598"/>
                </a:lnTo>
                <a:lnTo>
                  <a:pt x="22002" y="6598"/>
                </a:lnTo>
              </a:path>
              <a:path w="4218" h="2680">
                <a:moveTo>
                  <a:pt x="22002" y="6598"/>
                </a:moveTo>
                <a:lnTo>
                  <a:pt x="22002" y="6598"/>
                </a:lnTo>
              </a:path>
              <a:path w="4218" h="2680">
                <a:moveTo>
                  <a:pt x="22572" y="6747"/>
                </a:moveTo>
                <a:cubicBezTo>
                  <a:pt x="22554" y="6694"/>
                  <a:pt x="22451" y="6613"/>
                  <a:pt x="22374" y="6672"/>
                </a:cubicBezTo>
                <a:cubicBezTo>
                  <a:pt x="22241" y="6773"/>
                  <a:pt x="22232" y="7182"/>
                  <a:pt x="22448" y="7045"/>
                </a:cubicBezTo>
                <a:cubicBezTo>
                  <a:pt x="22528" y="6939"/>
                  <a:pt x="22553" y="6897"/>
                  <a:pt x="22523" y="6796"/>
                </a:cubicBezTo>
                <a:cubicBezTo>
                  <a:pt x="22523" y="6788"/>
                  <a:pt x="22523" y="6780"/>
                  <a:pt x="22523" y="6772"/>
                </a:cubicBezTo>
                <a:cubicBezTo>
                  <a:pt x="22542" y="6867"/>
                  <a:pt x="22597" y="6898"/>
                  <a:pt x="22671" y="6821"/>
                </a:cubicBezTo>
                <a:cubicBezTo>
                  <a:pt x="22769" y="6718"/>
                  <a:pt x="22725" y="6765"/>
                  <a:pt x="22796" y="6871"/>
                </a:cubicBezTo>
                <a:cubicBezTo>
                  <a:pt x="22735" y="6688"/>
                  <a:pt x="22739" y="6623"/>
                  <a:pt x="22845" y="6474"/>
                </a:cubicBezTo>
                <a:cubicBezTo>
                  <a:pt x="22982" y="6565"/>
                  <a:pt x="22991" y="6708"/>
                  <a:pt x="23068" y="6772"/>
                </a:cubicBezTo>
                <a:cubicBezTo>
                  <a:pt x="23076" y="6764"/>
                  <a:pt x="23085" y="6755"/>
                  <a:pt x="23093" y="6747"/>
                </a:cubicBezTo>
              </a:path>
              <a:path w="4218" h="2680">
                <a:moveTo>
                  <a:pt x="23292" y="6300"/>
                </a:moveTo>
                <a:cubicBezTo>
                  <a:pt x="23153" y="6220"/>
                  <a:pt x="23079" y="6437"/>
                  <a:pt x="23068" y="6548"/>
                </a:cubicBezTo>
                <a:cubicBezTo>
                  <a:pt x="23041" y="6821"/>
                  <a:pt x="23283" y="6641"/>
                  <a:pt x="23316" y="6499"/>
                </a:cubicBezTo>
                <a:cubicBezTo>
                  <a:pt x="23316" y="6458"/>
                  <a:pt x="23316" y="6416"/>
                  <a:pt x="23316" y="6375"/>
                </a:cubicBezTo>
                <a:cubicBezTo>
                  <a:pt x="23316" y="6367"/>
                  <a:pt x="23316" y="6358"/>
                  <a:pt x="23316" y="6350"/>
                </a:cubicBezTo>
                <a:cubicBezTo>
                  <a:pt x="23459" y="6472"/>
                  <a:pt x="23569" y="6714"/>
                  <a:pt x="23515" y="6921"/>
                </a:cubicBezTo>
                <a:cubicBezTo>
                  <a:pt x="23436" y="7224"/>
                  <a:pt x="23207" y="7206"/>
                  <a:pt x="23093" y="7020"/>
                </a:cubicBezTo>
              </a:path>
              <a:path w="4218" h="2680">
                <a:moveTo>
                  <a:pt x="23416" y="6176"/>
                </a:moveTo>
                <a:cubicBezTo>
                  <a:pt x="23474" y="6235"/>
                  <a:pt x="23524" y="6368"/>
                  <a:pt x="23589" y="6449"/>
                </a:cubicBezTo>
                <a:cubicBezTo>
                  <a:pt x="23674" y="6374"/>
                  <a:pt x="23748" y="6226"/>
                  <a:pt x="23688" y="6102"/>
                </a:cubicBezTo>
                <a:cubicBezTo>
                  <a:pt x="23680" y="6110"/>
                  <a:pt x="23672" y="6119"/>
                  <a:pt x="23664" y="6127"/>
                </a:cubicBezTo>
                <a:cubicBezTo>
                  <a:pt x="23796" y="6339"/>
                  <a:pt x="23826" y="6373"/>
                  <a:pt x="23986" y="6176"/>
                </a:cubicBezTo>
              </a:path>
              <a:path w="4218" h="2680">
                <a:moveTo>
                  <a:pt x="23763" y="5655"/>
                </a:moveTo>
                <a:cubicBezTo>
                  <a:pt x="23762" y="5782"/>
                  <a:pt x="23902" y="6012"/>
                  <a:pt x="23986" y="6152"/>
                </a:cubicBezTo>
                <a:cubicBezTo>
                  <a:pt x="24058" y="6272"/>
                  <a:pt x="24062" y="6233"/>
                  <a:pt x="24135" y="6152"/>
                </a:cubicBezTo>
              </a:path>
              <a:path w="4218" h="2680">
                <a:moveTo>
                  <a:pt x="24259" y="5705"/>
                </a:moveTo>
                <a:cubicBezTo>
                  <a:pt x="24234" y="5632"/>
                  <a:pt x="24227" y="5608"/>
                  <a:pt x="24160" y="5631"/>
                </a:cubicBezTo>
                <a:cubicBezTo>
                  <a:pt x="24021" y="5754"/>
                  <a:pt x="24045" y="5916"/>
                  <a:pt x="24135" y="6102"/>
                </a:cubicBezTo>
                <a:cubicBezTo>
                  <a:pt x="24143" y="6110"/>
                  <a:pt x="24152" y="6119"/>
                  <a:pt x="24160" y="6127"/>
                </a:cubicBezTo>
                <a:cubicBezTo>
                  <a:pt x="24211" y="6076"/>
                  <a:pt x="24278" y="5856"/>
                  <a:pt x="24284" y="5854"/>
                </a:cubicBezTo>
                <a:cubicBezTo>
                  <a:pt x="24352" y="5828"/>
                  <a:pt x="24417" y="5813"/>
                  <a:pt x="24482" y="5829"/>
                </a:cubicBezTo>
                <a:cubicBezTo>
                  <a:pt x="24482" y="5662"/>
                  <a:pt x="24469" y="5550"/>
                  <a:pt x="24606" y="5432"/>
                </a:cubicBezTo>
                <a:cubicBezTo>
                  <a:pt x="24623" y="5424"/>
                  <a:pt x="24639" y="5415"/>
                  <a:pt x="24656" y="54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34080" y="2670120"/>
            <a:ext cx="743040" cy="615960"/>
          </a:xfrm>
          <a:custGeom>
            <a:avLst/>
            <a:gdLst/>
            <a:ahLst/>
            <a:rect l="l" t="t" r="r" b="b"/>
            <a:pathLst>
              <a:path w="2060" h="1712">
                <a:moveTo>
                  <a:pt x="18827" y="8806"/>
                </a:moveTo>
                <a:cubicBezTo>
                  <a:pt x="19217" y="8906"/>
                  <a:pt x="19529" y="8936"/>
                  <a:pt x="19918" y="8781"/>
                </a:cubicBezTo>
                <a:cubicBezTo>
                  <a:pt x="20291" y="8632"/>
                  <a:pt x="20558" y="8383"/>
                  <a:pt x="20464" y="7962"/>
                </a:cubicBezTo>
                <a:cubicBezTo>
                  <a:pt x="20372" y="7550"/>
                  <a:pt x="20098" y="7407"/>
                  <a:pt x="19695" y="7417"/>
                </a:cubicBezTo>
                <a:cubicBezTo>
                  <a:pt x="19034" y="7434"/>
                  <a:pt x="18441" y="8027"/>
                  <a:pt x="18430" y="8706"/>
                </a:cubicBezTo>
                <a:cubicBezTo>
                  <a:pt x="18527" y="9021"/>
                  <a:pt x="18552" y="9127"/>
                  <a:pt x="18827" y="9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33920" y="1724040"/>
            <a:ext cx="1743120" cy="1571760"/>
          </a:xfrm>
          <a:custGeom>
            <a:avLst/>
            <a:gdLst/>
            <a:ahLst/>
            <a:rect l="l" t="t" r="r" b="b"/>
            <a:pathLst>
              <a:path w="4838" h="4367">
                <a:moveTo>
                  <a:pt x="16073" y="5655"/>
                </a:moveTo>
                <a:cubicBezTo>
                  <a:pt x="16084" y="5835"/>
                  <a:pt x="16116" y="6027"/>
                  <a:pt x="16297" y="6127"/>
                </a:cubicBezTo>
                <a:cubicBezTo>
                  <a:pt x="16608" y="6299"/>
                  <a:pt x="17140" y="6139"/>
                  <a:pt x="17413" y="5953"/>
                </a:cubicBezTo>
                <a:cubicBezTo>
                  <a:pt x="17734" y="5735"/>
                  <a:pt x="17831" y="5283"/>
                  <a:pt x="17512" y="5011"/>
                </a:cubicBezTo>
                <a:cubicBezTo>
                  <a:pt x="17157" y="4709"/>
                  <a:pt x="16409" y="4694"/>
                  <a:pt x="16024" y="4936"/>
                </a:cubicBezTo>
                <a:cubicBezTo>
                  <a:pt x="15503" y="5263"/>
                  <a:pt x="15676" y="5706"/>
                  <a:pt x="15751" y="6176"/>
                </a:cubicBezTo>
              </a:path>
              <a:path w="4838" h="4367">
                <a:moveTo>
                  <a:pt x="13940" y="9153"/>
                </a:moveTo>
                <a:cubicBezTo>
                  <a:pt x="14000" y="9139"/>
                  <a:pt x="14228" y="9112"/>
                  <a:pt x="14312" y="9103"/>
                </a:cubicBezTo>
                <a:cubicBezTo>
                  <a:pt x="14816" y="9046"/>
                  <a:pt x="15271" y="8869"/>
                  <a:pt x="15503" y="8384"/>
                </a:cubicBezTo>
                <a:cubicBezTo>
                  <a:pt x="15668" y="8038"/>
                  <a:pt x="15624" y="7432"/>
                  <a:pt x="15205" y="7268"/>
                </a:cubicBezTo>
                <a:cubicBezTo>
                  <a:pt x="14616" y="7037"/>
                  <a:pt x="13706" y="7380"/>
                  <a:pt x="13246" y="7739"/>
                </a:cubicBezTo>
                <a:cubicBezTo>
                  <a:pt x="12714" y="8154"/>
                  <a:pt x="12750" y="8974"/>
                  <a:pt x="13519" y="9079"/>
                </a:cubicBezTo>
                <a:cubicBezTo>
                  <a:pt x="13684" y="9054"/>
                  <a:pt x="13850" y="9029"/>
                  <a:pt x="14015" y="90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57760" y="4170240"/>
            <a:ext cx="1071360" cy="696960"/>
          </a:xfrm>
          <a:custGeom>
            <a:avLst/>
            <a:gdLst/>
            <a:ahLst/>
            <a:rect l="l" t="t" r="r" b="b"/>
            <a:pathLst>
              <a:path w="2977" h="1936">
                <a:moveTo>
                  <a:pt x="11336" y="13345"/>
                </a:moveTo>
                <a:cubicBezTo>
                  <a:pt x="11555" y="13379"/>
                  <a:pt x="11764" y="13454"/>
                  <a:pt x="11981" y="13494"/>
                </a:cubicBezTo>
                <a:cubicBezTo>
                  <a:pt x="12318" y="13556"/>
                  <a:pt x="12677" y="13535"/>
                  <a:pt x="12998" y="13419"/>
                </a:cubicBezTo>
                <a:cubicBezTo>
                  <a:pt x="13255" y="13326"/>
                  <a:pt x="13520" y="13182"/>
                  <a:pt x="13643" y="12923"/>
                </a:cubicBezTo>
                <a:cubicBezTo>
                  <a:pt x="13759" y="12678"/>
                  <a:pt x="13658" y="12387"/>
                  <a:pt x="13519" y="12179"/>
                </a:cubicBezTo>
                <a:cubicBezTo>
                  <a:pt x="13365" y="11948"/>
                  <a:pt x="13175" y="11796"/>
                  <a:pt x="12923" y="11683"/>
                </a:cubicBezTo>
                <a:cubicBezTo>
                  <a:pt x="12604" y="11540"/>
                  <a:pt x="12172" y="11547"/>
                  <a:pt x="11832" y="11609"/>
                </a:cubicBezTo>
                <a:cubicBezTo>
                  <a:pt x="11569" y="11657"/>
                  <a:pt x="11281" y="11780"/>
                  <a:pt x="11063" y="11931"/>
                </a:cubicBezTo>
                <a:cubicBezTo>
                  <a:pt x="10871" y="12064"/>
                  <a:pt x="10695" y="12247"/>
                  <a:pt x="10716" y="12502"/>
                </a:cubicBezTo>
                <a:cubicBezTo>
                  <a:pt x="10734" y="12724"/>
                  <a:pt x="10922" y="12983"/>
                  <a:pt x="11088" y="13122"/>
                </a:cubicBezTo>
                <a:cubicBezTo>
                  <a:pt x="11275" y="13278"/>
                  <a:pt x="11508" y="13415"/>
                  <a:pt x="11757" y="13419"/>
                </a:cubicBezTo>
                <a:cubicBezTo>
                  <a:pt x="11949" y="13422"/>
                  <a:pt x="12110" y="13318"/>
                  <a:pt x="12278" y="13295"/>
                </a:cubicBezTo>
                <a:cubicBezTo>
                  <a:pt x="12278" y="13303"/>
                  <a:pt x="12278" y="13312"/>
                  <a:pt x="12278" y="133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15080" y="4581360"/>
            <a:ext cx="1268280" cy="455760"/>
          </a:xfrm>
          <a:custGeom>
            <a:avLst/>
            <a:gdLst/>
            <a:ahLst/>
            <a:rect l="l" t="t" r="r" b="b"/>
            <a:pathLst>
              <a:path w="3523" h="1266">
                <a:moveTo>
                  <a:pt x="19025" y="12973"/>
                </a:moveTo>
                <a:cubicBezTo>
                  <a:pt x="18790" y="13137"/>
                  <a:pt x="18552" y="13544"/>
                  <a:pt x="18653" y="13866"/>
                </a:cubicBezTo>
                <a:cubicBezTo>
                  <a:pt x="18703" y="13907"/>
                  <a:pt x="18752" y="13949"/>
                  <a:pt x="18802" y="13990"/>
                </a:cubicBezTo>
                <a:cubicBezTo>
                  <a:pt x="19149" y="13755"/>
                  <a:pt x="19652" y="13359"/>
                  <a:pt x="19224" y="12898"/>
                </a:cubicBezTo>
                <a:cubicBezTo>
                  <a:pt x="19073" y="12877"/>
                  <a:pt x="19032" y="12852"/>
                  <a:pt x="18976" y="12948"/>
                </a:cubicBezTo>
              </a:path>
              <a:path w="3523" h="1266">
                <a:moveTo>
                  <a:pt x="19447" y="12824"/>
                </a:moveTo>
                <a:cubicBezTo>
                  <a:pt x="19529" y="13098"/>
                  <a:pt x="19629" y="13361"/>
                  <a:pt x="19695" y="13643"/>
                </a:cubicBezTo>
                <a:cubicBezTo>
                  <a:pt x="19610" y="14006"/>
                  <a:pt x="19757" y="13244"/>
                  <a:pt x="19769" y="13221"/>
                </a:cubicBezTo>
                <a:cubicBezTo>
                  <a:pt x="19819" y="13163"/>
                  <a:pt x="19868" y="13105"/>
                  <a:pt x="19918" y="13047"/>
                </a:cubicBezTo>
                <a:cubicBezTo>
                  <a:pt x="20109" y="13205"/>
                  <a:pt x="20312" y="13541"/>
                  <a:pt x="19918" y="13692"/>
                </a:cubicBezTo>
                <a:cubicBezTo>
                  <a:pt x="19694" y="13715"/>
                  <a:pt x="19636" y="13726"/>
                  <a:pt x="19496" y="13692"/>
                </a:cubicBezTo>
              </a:path>
              <a:path w="3523" h="1266">
                <a:moveTo>
                  <a:pt x="20365" y="12725"/>
                </a:moveTo>
                <a:cubicBezTo>
                  <a:pt x="20411" y="13021"/>
                  <a:pt x="20563" y="13393"/>
                  <a:pt x="20513" y="13692"/>
                </a:cubicBezTo>
                <a:cubicBezTo>
                  <a:pt x="20505" y="13676"/>
                  <a:pt x="20497" y="13659"/>
                  <a:pt x="20489" y="13643"/>
                </a:cubicBezTo>
              </a:path>
              <a:path w="3523" h="1266">
                <a:moveTo>
                  <a:pt x="20117" y="13171"/>
                </a:moveTo>
                <a:cubicBezTo>
                  <a:pt x="20343" y="13131"/>
                  <a:pt x="20562" y="13057"/>
                  <a:pt x="20786" y="13022"/>
                </a:cubicBezTo>
                <a:cubicBezTo>
                  <a:pt x="20768" y="13219"/>
                  <a:pt x="20764" y="13396"/>
                  <a:pt x="20786" y="13593"/>
                </a:cubicBezTo>
                <a:cubicBezTo>
                  <a:pt x="20957" y="13501"/>
                  <a:pt x="21074" y="13229"/>
                  <a:pt x="21010" y="12998"/>
                </a:cubicBezTo>
                <a:cubicBezTo>
                  <a:pt x="20951" y="12783"/>
                  <a:pt x="21118" y="13357"/>
                  <a:pt x="21332" y="13295"/>
                </a:cubicBezTo>
              </a:path>
              <a:path w="3523" h="1266">
                <a:moveTo>
                  <a:pt x="21382" y="12898"/>
                </a:moveTo>
                <a:cubicBezTo>
                  <a:pt x="21274" y="12985"/>
                  <a:pt x="21232" y="12999"/>
                  <a:pt x="21258" y="13097"/>
                </a:cubicBezTo>
                <a:cubicBezTo>
                  <a:pt x="21425" y="13144"/>
                  <a:pt x="21542" y="13176"/>
                  <a:pt x="21679" y="13271"/>
                </a:cubicBezTo>
                <a:cubicBezTo>
                  <a:pt x="21484" y="13378"/>
                  <a:pt x="21459" y="13382"/>
                  <a:pt x="21258" y="13320"/>
                </a:cubicBezTo>
              </a:path>
              <a:path w="3523" h="1266">
                <a:moveTo>
                  <a:pt x="21803" y="12998"/>
                </a:moveTo>
                <a:cubicBezTo>
                  <a:pt x="21926" y="12960"/>
                  <a:pt x="21978" y="12932"/>
                  <a:pt x="22076" y="12849"/>
                </a:cubicBezTo>
                <a:cubicBezTo>
                  <a:pt x="21941" y="12669"/>
                  <a:pt x="21803" y="12804"/>
                  <a:pt x="21729" y="12998"/>
                </a:cubicBezTo>
                <a:cubicBezTo>
                  <a:pt x="21556" y="13453"/>
                  <a:pt x="22014" y="13262"/>
                  <a:pt x="22175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325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825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325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825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325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825"/>
                            </p:stCondLst>
                            <p:childTnLst>
                              <p:par>
                                <p:cTn id="22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9825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325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825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compare and classify triangles by their sides and angles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assify the triangles by its ang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) 45°, 45°, 90°  Right because 1 90 degree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) 136°, 24°, 20°  Obtuse b/c 1 angle over 9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) 75°, 50°, 55°  Acute because all angles &lt; 9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) 45°, 76°, 59°  Acute because all angles &lt; 9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76200" y="6813720"/>
            <a:ext cx="63720" cy="9360"/>
          </a:xfrm>
          <a:custGeom>
            <a:avLst/>
            <a:gdLst/>
            <a:ahLst/>
            <a:rect l="l" t="t" r="r" b="b"/>
            <a:pathLst>
              <a:path w="175" h="26">
                <a:moveTo>
                  <a:pt x="3547" y="18926"/>
                </a:moveTo>
                <a:cubicBezTo>
                  <a:pt x="3628" y="18953"/>
                  <a:pt x="3660" y="18962"/>
                  <a:pt x="3721" y="189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82840" y="6813720"/>
            <a:ext cx="61920" cy="1440"/>
          </a:xfrm>
          <a:custGeom>
            <a:avLst/>
            <a:gdLst/>
            <a:ahLst/>
            <a:rect l="l" t="t" r="r" b="b"/>
            <a:pathLst>
              <a:path w="174" h="1">
                <a:moveTo>
                  <a:pt x="4118" y="18926"/>
                </a:moveTo>
                <a:cubicBezTo>
                  <a:pt x="4167" y="18926"/>
                  <a:pt x="4217" y="18926"/>
                  <a:pt x="4266" y="18926"/>
                </a:cubicBezTo>
              </a:path>
              <a:path w="174" h="1">
                <a:moveTo>
                  <a:pt x="4291" y="18926"/>
                </a:moveTo>
                <a:lnTo>
                  <a:pt x="4291" y="18926"/>
                </a:lnTo>
                <a:lnTo>
                  <a:pt x="4291" y="18926"/>
                </a:lnTo>
              </a:path>
              <a:path w="174" h="1">
                <a:moveTo>
                  <a:pt x="4291" y="18926"/>
                </a:moveTo>
                <a:lnTo>
                  <a:pt x="4291" y="1892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39960" y="6581880"/>
            <a:ext cx="34920" cy="17280"/>
          </a:xfrm>
          <a:custGeom>
            <a:avLst/>
            <a:gdLst/>
            <a:ahLst/>
            <a:rect l="l" t="t" r="r" b="b"/>
            <a:pathLst>
              <a:path w="100" h="51">
                <a:moveTo>
                  <a:pt x="5135" y="18281"/>
                </a:moveTo>
                <a:cubicBezTo>
                  <a:pt x="5112" y="18304"/>
                  <a:pt x="5104" y="18308"/>
                  <a:pt x="5110" y="18331"/>
                </a:cubicBezTo>
                <a:cubicBezTo>
                  <a:pt x="5143" y="18331"/>
                  <a:pt x="5176" y="18331"/>
                  <a:pt x="5209" y="183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compare and classify triangles by their sides and angles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m of Angle Measures of a 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of the angle measures of a triangle is 180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3962520"/>
            <a:ext cx="4267440" cy="175248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66880" y="5257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43600" y="5257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575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725"/>
                            </p:stCondLst>
                            <p:childTnLst>
                              <p:par>
                                <p:cTn id="2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1725"/>
                            </p:stCondLst>
                            <p:childTnLst>
                              <p:par>
                                <p:cTn id="2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2725"/>
                            </p:stCondLst>
                            <p:childTnLst>
                              <p:par>
                                <p:cTn id="2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3725"/>
                            </p:stCondLst>
                            <p:childTnLst>
                              <p:par>
                                <p:cTn id="3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0440" y="533160"/>
            <a:ext cx="87631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compare and classify triangles by their sides and angle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ll whether the angle measures are those of a triangle. If so, classify the triangle as acute, right, obtuse or equiangular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 90°, 35°, 56°  90+35+57= 181 not a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75°, 60°, 45°  75+60+45=180 is a triangle; acute b/c all angles are &lt;9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) 120°, 23°, 37° = 180 so it is a triangle; obtuse since 120&gt;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) 100°, 25°, 35° = 160 so not a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value of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Remember that all triangles add up to 18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1981080"/>
            <a:ext cx="2133720" cy="16002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954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1905120"/>
            <a:ext cx="2590560" cy="1600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816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0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924680" y="3124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4114800"/>
            <a:ext cx="3352680" cy="1905120"/>
          </a:xfrm>
          <a:prstGeom prst="triangle">
            <a:avLst>
              <a:gd name="adj" fmla="val 7599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627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571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0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67280" y="5715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5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9840" y="3846600"/>
            <a:ext cx="38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+ 90=140   180-140= 40  so x=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92560" y="3465360"/>
            <a:ext cx="34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+70=135   180-135= 45  x=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58840" y="620856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+65=105  180-105=75   x=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825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325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825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325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825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325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6825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325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7825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325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8825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325"/>
                            </p:stCondLst>
                            <p:childTnLst>
                              <p:par>
                                <p:cTn id="3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9825"/>
                            </p:stCondLst>
                            <p:childTnLst>
                              <p:par>
                                <p:cTn id="3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325"/>
                            </p:stCondLst>
                            <p:childTnLst>
                              <p:par>
                                <p:cTn id="3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825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325"/>
                            </p:stCondLst>
                            <p:childTnLst>
                              <p:par>
                                <p:cTn id="4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 of a roof is in the shape of an isosceles triangle. The measure of an angle at the peak, between the two equal sides, is 120°. The other two angle measures are equal. What is their mea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01440" y="4989600"/>
            <a:ext cx="59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 – 120 = 60       60/2=30      Each angle is 30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917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1:  PW  pg. 121 &amp; 122 1-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wboys 121 on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2:  PW 131 1-6 and 132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6: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compare and classify triangles by their sides and angles.</a:t>
            </a:r>
            <a:br>
              <a:rPr sz="20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quilateral triangle: 3 sides of the sam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3809880"/>
            <a:ext cx="1524240" cy="9907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800600" y="4191120"/>
            <a:ext cx="3808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038120" y="4190760"/>
            <a:ext cx="30492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64832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54320" y="4197240"/>
            <a:ext cx="1143000" cy="830520"/>
          </a:xfrm>
          <a:custGeom>
            <a:avLst/>
            <a:gdLst/>
            <a:ahLst/>
            <a:rect l="l" t="t" r="r" b="b"/>
            <a:pathLst>
              <a:path w="3176" h="2308">
                <a:moveTo>
                  <a:pt x="11757" y="13320"/>
                </a:moveTo>
                <a:lnTo>
                  <a:pt x="11757" y="13320"/>
                </a:lnTo>
              </a:path>
              <a:path w="3176" h="2308">
                <a:moveTo>
                  <a:pt x="11261" y="11658"/>
                </a:moveTo>
                <a:cubicBezTo>
                  <a:pt x="11317" y="11682"/>
                  <a:pt x="11358" y="11703"/>
                  <a:pt x="11410" y="11733"/>
                </a:cubicBezTo>
                <a:cubicBezTo>
                  <a:pt x="11456" y="11760"/>
                  <a:pt x="11518" y="11782"/>
                  <a:pt x="11559" y="11807"/>
                </a:cubicBezTo>
                <a:cubicBezTo>
                  <a:pt x="11575" y="11817"/>
                  <a:pt x="11653" y="11875"/>
                  <a:pt x="11658" y="11881"/>
                </a:cubicBezTo>
                <a:cubicBezTo>
                  <a:pt x="11701" y="11934"/>
                  <a:pt x="11664" y="11964"/>
                  <a:pt x="11733" y="11981"/>
                </a:cubicBezTo>
                <a:cubicBezTo>
                  <a:pt x="11744" y="12025"/>
                  <a:pt x="11788" y="12083"/>
                  <a:pt x="11832" y="12105"/>
                </a:cubicBezTo>
                <a:cubicBezTo>
                  <a:pt x="11897" y="12138"/>
                  <a:pt x="11903" y="12163"/>
                  <a:pt x="11956" y="12204"/>
                </a:cubicBezTo>
                <a:cubicBezTo>
                  <a:pt x="11981" y="12223"/>
                  <a:pt x="12016" y="12265"/>
                  <a:pt x="12055" y="12278"/>
                </a:cubicBezTo>
                <a:cubicBezTo>
                  <a:pt x="12095" y="12291"/>
                  <a:pt x="12065" y="12290"/>
                  <a:pt x="12105" y="12303"/>
                </a:cubicBezTo>
              </a:path>
              <a:path w="3176" h="2308">
                <a:moveTo>
                  <a:pt x="14436" y="11658"/>
                </a:moveTo>
                <a:cubicBezTo>
                  <a:pt x="14422" y="11670"/>
                  <a:pt x="14375" y="11723"/>
                  <a:pt x="14337" y="11733"/>
                </a:cubicBezTo>
                <a:cubicBezTo>
                  <a:pt x="14256" y="11755"/>
                  <a:pt x="14197" y="11816"/>
                  <a:pt x="14114" y="11857"/>
                </a:cubicBezTo>
                <a:cubicBezTo>
                  <a:pt x="14061" y="11883"/>
                  <a:pt x="13983" y="11925"/>
                  <a:pt x="13940" y="11956"/>
                </a:cubicBezTo>
                <a:cubicBezTo>
                  <a:pt x="13874" y="12003"/>
                  <a:pt x="13811" y="12062"/>
                  <a:pt x="13742" y="12105"/>
                </a:cubicBezTo>
                <a:cubicBezTo>
                  <a:pt x="13676" y="12146"/>
                  <a:pt x="13616" y="12162"/>
                  <a:pt x="13568" y="12229"/>
                </a:cubicBezTo>
                <a:cubicBezTo>
                  <a:pt x="13527" y="12286"/>
                  <a:pt x="13487" y="12305"/>
                  <a:pt x="13444" y="12353"/>
                </a:cubicBezTo>
                <a:cubicBezTo>
                  <a:pt x="13431" y="12368"/>
                  <a:pt x="13410" y="12387"/>
                  <a:pt x="13395" y="12402"/>
                </a:cubicBezTo>
              </a:path>
              <a:path w="3176" h="2308">
                <a:moveTo>
                  <a:pt x="12725" y="12998"/>
                </a:moveTo>
                <a:cubicBezTo>
                  <a:pt x="12725" y="12973"/>
                  <a:pt x="12725" y="12965"/>
                  <a:pt x="12725" y="12948"/>
                </a:cubicBezTo>
                <a:cubicBezTo>
                  <a:pt x="12725" y="13018"/>
                  <a:pt x="12744" y="13079"/>
                  <a:pt x="12750" y="13146"/>
                </a:cubicBezTo>
                <a:cubicBezTo>
                  <a:pt x="12766" y="13314"/>
                  <a:pt x="12754" y="13516"/>
                  <a:pt x="12725" y="13667"/>
                </a:cubicBezTo>
                <a:cubicBezTo>
                  <a:pt x="12712" y="13735"/>
                  <a:pt x="12715" y="13799"/>
                  <a:pt x="12700" y="13866"/>
                </a:cubicBezTo>
                <a:cubicBezTo>
                  <a:pt x="12693" y="13895"/>
                  <a:pt x="12700" y="13935"/>
                  <a:pt x="12700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9760" y="2170080"/>
            <a:ext cx="1384200" cy="81000"/>
          </a:xfrm>
          <a:custGeom>
            <a:avLst/>
            <a:gdLst/>
            <a:ahLst/>
            <a:rect l="l" t="t" r="r" b="b"/>
            <a:pathLst>
              <a:path w="3846" h="224">
                <a:moveTo>
                  <a:pt x="13667" y="6127"/>
                </a:moveTo>
                <a:cubicBezTo>
                  <a:pt x="13800" y="6127"/>
                  <a:pt x="13933" y="6137"/>
                  <a:pt x="14064" y="6152"/>
                </a:cubicBezTo>
                <a:cubicBezTo>
                  <a:pt x="14245" y="6173"/>
                  <a:pt x="14430" y="6209"/>
                  <a:pt x="14610" y="6226"/>
                </a:cubicBezTo>
                <a:cubicBezTo>
                  <a:pt x="14753" y="6239"/>
                  <a:pt x="14895" y="6234"/>
                  <a:pt x="15032" y="6226"/>
                </a:cubicBezTo>
                <a:cubicBezTo>
                  <a:pt x="15176" y="6218"/>
                  <a:pt x="15312" y="6232"/>
                  <a:pt x="15453" y="6226"/>
                </a:cubicBezTo>
                <a:cubicBezTo>
                  <a:pt x="15619" y="6219"/>
                  <a:pt x="15786" y="6208"/>
                  <a:pt x="15949" y="6176"/>
                </a:cubicBezTo>
                <a:cubicBezTo>
                  <a:pt x="16112" y="6144"/>
                  <a:pt x="16279" y="6131"/>
                  <a:pt x="16446" y="6127"/>
                </a:cubicBezTo>
                <a:cubicBezTo>
                  <a:pt x="16639" y="6123"/>
                  <a:pt x="16825" y="6083"/>
                  <a:pt x="17016" y="6052"/>
                </a:cubicBezTo>
                <a:cubicBezTo>
                  <a:pt x="17182" y="6025"/>
                  <a:pt x="17345" y="6028"/>
                  <a:pt x="17512" y="60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75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75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75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575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osceles triangle: 2 sides of the same leng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3200400"/>
            <a:ext cx="1904760" cy="23623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572000" y="4343400"/>
            <a:ext cx="380880" cy="3808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4419720"/>
            <a:ext cx="380880" cy="3808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04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compare and classify triangles by their sides and ang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70240" y="5419800"/>
            <a:ext cx="115920" cy="277560"/>
          </a:xfrm>
          <a:custGeom>
            <a:avLst/>
            <a:gdLst/>
            <a:ahLst/>
            <a:rect l="l" t="t" r="r" b="b"/>
            <a:pathLst>
              <a:path w="323" h="770">
                <a:moveTo>
                  <a:pt x="11609" y="15106"/>
                </a:moveTo>
                <a:cubicBezTo>
                  <a:pt x="11573" y="15283"/>
                  <a:pt x="11609" y="15552"/>
                  <a:pt x="11609" y="15751"/>
                </a:cubicBezTo>
                <a:cubicBezTo>
                  <a:pt x="11609" y="15869"/>
                  <a:pt x="11624" y="15834"/>
                  <a:pt x="11633" y="15751"/>
                </a:cubicBezTo>
              </a:path>
              <a:path w="323" h="770">
                <a:moveTo>
                  <a:pt x="11832" y="15081"/>
                </a:moveTo>
                <a:cubicBezTo>
                  <a:pt x="11832" y="15073"/>
                  <a:pt x="11832" y="15064"/>
                  <a:pt x="11832" y="15056"/>
                </a:cubicBezTo>
                <a:cubicBezTo>
                  <a:pt x="11864" y="15067"/>
                  <a:pt x="11852" y="15279"/>
                  <a:pt x="11857" y="15329"/>
                </a:cubicBezTo>
                <a:cubicBezTo>
                  <a:pt x="11875" y="15495"/>
                  <a:pt x="11906" y="15658"/>
                  <a:pt x="11906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27280" y="4340160"/>
            <a:ext cx="1446480" cy="455760"/>
          </a:xfrm>
          <a:custGeom>
            <a:avLst/>
            <a:gdLst/>
            <a:ahLst/>
            <a:rect l="l" t="t" r="r" b="b"/>
            <a:pathLst>
              <a:path w="4019" h="1266">
                <a:moveTo>
                  <a:pt x="9798" y="12328"/>
                </a:moveTo>
                <a:cubicBezTo>
                  <a:pt x="9886" y="12402"/>
                  <a:pt x="9966" y="12477"/>
                  <a:pt x="10071" y="12526"/>
                </a:cubicBezTo>
                <a:cubicBezTo>
                  <a:pt x="10152" y="12564"/>
                  <a:pt x="10282" y="12607"/>
                  <a:pt x="10344" y="12675"/>
                </a:cubicBezTo>
                <a:cubicBezTo>
                  <a:pt x="10395" y="12730"/>
                  <a:pt x="10450" y="12800"/>
                  <a:pt x="10517" y="12849"/>
                </a:cubicBezTo>
                <a:cubicBezTo>
                  <a:pt x="10604" y="12912"/>
                  <a:pt x="10651" y="12946"/>
                  <a:pt x="10716" y="13022"/>
                </a:cubicBezTo>
                <a:cubicBezTo>
                  <a:pt x="10746" y="13057"/>
                  <a:pt x="10778" y="13131"/>
                  <a:pt x="10815" y="13171"/>
                </a:cubicBezTo>
                <a:cubicBezTo>
                  <a:pt x="10823" y="13179"/>
                  <a:pt x="10832" y="13188"/>
                  <a:pt x="10840" y="13196"/>
                </a:cubicBezTo>
              </a:path>
              <a:path w="4019" h="1266">
                <a:moveTo>
                  <a:pt x="13667" y="12129"/>
                </a:moveTo>
                <a:cubicBezTo>
                  <a:pt x="13726" y="12114"/>
                  <a:pt x="13701" y="12096"/>
                  <a:pt x="13767" y="12080"/>
                </a:cubicBezTo>
                <a:cubicBezTo>
                  <a:pt x="13797" y="12073"/>
                  <a:pt x="13843" y="12069"/>
                  <a:pt x="13816" y="12080"/>
                </a:cubicBezTo>
                <a:cubicBezTo>
                  <a:pt x="13727" y="12115"/>
                  <a:pt x="13639" y="12164"/>
                  <a:pt x="13568" y="12229"/>
                </a:cubicBezTo>
                <a:cubicBezTo>
                  <a:pt x="13494" y="12297"/>
                  <a:pt x="13418" y="12363"/>
                  <a:pt x="13345" y="12427"/>
                </a:cubicBezTo>
                <a:cubicBezTo>
                  <a:pt x="13258" y="12503"/>
                  <a:pt x="13167" y="12582"/>
                  <a:pt x="13072" y="12650"/>
                </a:cubicBezTo>
                <a:cubicBezTo>
                  <a:pt x="13008" y="12696"/>
                  <a:pt x="12915" y="12752"/>
                  <a:pt x="12874" y="12824"/>
                </a:cubicBezTo>
                <a:cubicBezTo>
                  <a:pt x="12809" y="12938"/>
                  <a:pt x="12714" y="13018"/>
                  <a:pt x="12601" y="13097"/>
                </a:cubicBezTo>
                <a:cubicBezTo>
                  <a:pt x="12564" y="13123"/>
                  <a:pt x="12499" y="13162"/>
                  <a:pt x="12477" y="13196"/>
                </a:cubicBezTo>
                <a:cubicBezTo>
                  <a:pt x="12455" y="13230"/>
                  <a:pt x="12442" y="13286"/>
                  <a:pt x="12427" y="133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81360" y="2340000"/>
            <a:ext cx="1411560" cy="27000"/>
          </a:xfrm>
          <a:custGeom>
            <a:avLst/>
            <a:gdLst/>
            <a:ahLst/>
            <a:rect l="l" t="t" r="r" b="b"/>
            <a:pathLst>
              <a:path w="3920" h="75">
                <a:moveTo>
                  <a:pt x="12725" y="6548"/>
                </a:moveTo>
                <a:cubicBezTo>
                  <a:pt x="12860" y="6525"/>
                  <a:pt x="13007" y="6504"/>
                  <a:pt x="13146" y="6499"/>
                </a:cubicBezTo>
                <a:cubicBezTo>
                  <a:pt x="13488" y="6486"/>
                  <a:pt x="13823" y="6514"/>
                  <a:pt x="14163" y="6548"/>
                </a:cubicBezTo>
                <a:cubicBezTo>
                  <a:pt x="14437" y="6575"/>
                  <a:pt x="14707" y="6573"/>
                  <a:pt x="14982" y="6573"/>
                </a:cubicBezTo>
                <a:cubicBezTo>
                  <a:pt x="15202" y="6573"/>
                  <a:pt x="15432" y="6564"/>
                  <a:pt x="15652" y="6548"/>
                </a:cubicBezTo>
                <a:cubicBezTo>
                  <a:pt x="15928" y="6528"/>
                  <a:pt x="16193" y="6499"/>
                  <a:pt x="16470" y="6499"/>
                </a:cubicBezTo>
                <a:cubicBezTo>
                  <a:pt x="16528" y="6499"/>
                  <a:pt x="16586" y="6499"/>
                  <a:pt x="16644" y="64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calene triangle: three sides of </a:t>
            </a:r>
            <a:r>
              <a:rPr b="0" lang="en-US" sz="3600" spc="-1" strike="noStrike">
                <a:solidFill>
                  <a:srgbClr val="009999"/>
                </a:solidFill>
                <a:latin typeface="Comic Sans MS"/>
              </a:rPr>
              <a:t>differen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length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276720" y="3809880"/>
            <a:ext cx="1218960" cy="990720"/>
          </a:xfrm>
          <a:prstGeom prst="line">
            <a:avLst/>
          </a:prstGeom>
          <a:ln w="9360">
            <a:solidFill>
              <a:srgbClr val="992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3809880"/>
            <a:ext cx="2819520" cy="1295640"/>
          </a:xfrm>
          <a:prstGeom prst="line">
            <a:avLst/>
          </a:prstGeom>
          <a:ln w="9360">
            <a:solidFill>
              <a:srgbClr val="992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276720" y="4800240"/>
            <a:ext cx="4038480" cy="304920"/>
          </a:xfrm>
          <a:prstGeom prst="line">
            <a:avLst/>
          </a:prstGeom>
          <a:ln w="9360">
            <a:solidFill>
              <a:srgbClr val="992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4640" y="538200"/>
            <a:ext cx="851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compare and classify triangles by their sides and ang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14840" y="4197240"/>
            <a:ext cx="241200" cy="187560"/>
          </a:xfrm>
          <a:custGeom>
            <a:avLst/>
            <a:gdLst/>
            <a:ahLst/>
            <a:rect l="l" t="t" r="r" b="b"/>
            <a:pathLst>
              <a:path w="670" h="522">
                <a:moveTo>
                  <a:pt x="10344" y="11658"/>
                </a:moveTo>
                <a:cubicBezTo>
                  <a:pt x="10336" y="11658"/>
                  <a:pt x="10327" y="11658"/>
                  <a:pt x="10319" y="11658"/>
                </a:cubicBezTo>
                <a:cubicBezTo>
                  <a:pt x="10353" y="11762"/>
                  <a:pt x="10426" y="11797"/>
                  <a:pt x="10517" y="11857"/>
                </a:cubicBezTo>
                <a:cubicBezTo>
                  <a:pt x="10603" y="11914"/>
                  <a:pt x="10710" y="11947"/>
                  <a:pt x="10790" y="12005"/>
                </a:cubicBezTo>
                <a:cubicBezTo>
                  <a:pt x="10841" y="12042"/>
                  <a:pt x="10893" y="12084"/>
                  <a:pt x="10939" y="12129"/>
                </a:cubicBezTo>
                <a:cubicBezTo>
                  <a:pt x="10964" y="12154"/>
                  <a:pt x="10972" y="12162"/>
                  <a:pt x="10988" y="121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59200" y="4741920"/>
            <a:ext cx="393840" cy="374760"/>
          </a:xfrm>
          <a:custGeom>
            <a:avLst/>
            <a:gdLst/>
            <a:ahLst/>
            <a:rect l="l" t="t" r="r" b="b"/>
            <a:pathLst>
              <a:path w="1092" h="1043">
                <a:moveTo>
                  <a:pt x="13295" y="13271"/>
                </a:moveTo>
                <a:cubicBezTo>
                  <a:pt x="13295" y="13188"/>
                  <a:pt x="13301" y="13387"/>
                  <a:pt x="13295" y="13469"/>
                </a:cubicBezTo>
                <a:cubicBezTo>
                  <a:pt x="13281" y="13659"/>
                  <a:pt x="13268" y="13879"/>
                  <a:pt x="13221" y="14064"/>
                </a:cubicBezTo>
                <a:cubicBezTo>
                  <a:pt x="13221" y="14056"/>
                  <a:pt x="13221" y="14047"/>
                  <a:pt x="13221" y="14039"/>
                </a:cubicBezTo>
              </a:path>
              <a:path w="1092" h="1043">
                <a:moveTo>
                  <a:pt x="13692" y="13171"/>
                </a:moveTo>
                <a:cubicBezTo>
                  <a:pt x="13692" y="13421"/>
                  <a:pt x="13688" y="13668"/>
                  <a:pt x="13667" y="13915"/>
                </a:cubicBezTo>
                <a:cubicBezTo>
                  <a:pt x="13664" y="13950"/>
                  <a:pt x="13667" y="14160"/>
                  <a:pt x="13667" y="14114"/>
                </a:cubicBezTo>
              </a:path>
              <a:path w="1092" h="1043">
                <a:moveTo>
                  <a:pt x="14288" y="13295"/>
                </a:moveTo>
                <a:cubicBezTo>
                  <a:pt x="14288" y="13279"/>
                  <a:pt x="14288" y="13262"/>
                  <a:pt x="14288" y="13246"/>
                </a:cubicBezTo>
                <a:cubicBezTo>
                  <a:pt x="14256" y="13341"/>
                  <a:pt x="14255" y="13565"/>
                  <a:pt x="14263" y="13692"/>
                </a:cubicBezTo>
                <a:cubicBezTo>
                  <a:pt x="14274" y="13867"/>
                  <a:pt x="14295" y="14040"/>
                  <a:pt x="14312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10160" y="4106880"/>
            <a:ext cx="312840" cy="314280"/>
          </a:xfrm>
          <a:custGeom>
            <a:avLst/>
            <a:gdLst/>
            <a:ahLst/>
            <a:rect l="l" t="t" r="r" b="b"/>
            <a:pathLst>
              <a:path w="870" h="869">
                <a:moveTo>
                  <a:pt x="15776" y="11410"/>
                </a:moveTo>
                <a:cubicBezTo>
                  <a:pt x="15686" y="11590"/>
                  <a:pt x="15582" y="11759"/>
                  <a:pt x="15478" y="11931"/>
                </a:cubicBezTo>
                <a:cubicBezTo>
                  <a:pt x="15418" y="12029"/>
                  <a:pt x="15380" y="12127"/>
                  <a:pt x="15329" y="12229"/>
                </a:cubicBezTo>
                <a:cubicBezTo>
                  <a:pt x="15305" y="12276"/>
                  <a:pt x="15297" y="12295"/>
                  <a:pt x="15304" y="12229"/>
                </a:cubicBezTo>
              </a:path>
              <a:path w="870" h="869">
                <a:moveTo>
                  <a:pt x="16173" y="11485"/>
                </a:moveTo>
                <a:cubicBezTo>
                  <a:pt x="16158" y="11529"/>
                  <a:pt x="16084" y="11678"/>
                  <a:pt x="16049" y="11733"/>
                </a:cubicBezTo>
                <a:cubicBezTo>
                  <a:pt x="15943" y="11899"/>
                  <a:pt x="15807" y="12057"/>
                  <a:pt x="15677" y="12204"/>
                </a:cubicBezTo>
                <a:cubicBezTo>
                  <a:pt x="15635" y="12246"/>
                  <a:pt x="15628" y="12254"/>
                  <a:pt x="15602" y="122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46120" y="67150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018" y="18653"/>
                </a:moveTo>
                <a:lnTo>
                  <a:pt x="4018" y="1865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375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875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375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compare and classify triangles by their sides and angles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assify the triangle by its sid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05120"/>
            <a:ext cx="1904760" cy="13716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1600200"/>
            <a:ext cx="2819160" cy="1676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4724280"/>
            <a:ext cx="3171960" cy="679680"/>
          </a:xfrm>
          <a:prstGeom prst="triangle">
            <a:avLst>
              <a:gd name="adj" fmla="val 560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5486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8840" y="1946160"/>
            <a:ext cx="731880" cy="554040"/>
          </a:xfrm>
          <a:custGeom>
            <a:avLst/>
            <a:gdLst/>
            <a:ahLst/>
            <a:rect l="l" t="t" r="r" b="b"/>
            <a:pathLst>
              <a:path w="2035" h="1539">
                <a:moveTo>
                  <a:pt x="7789" y="5904"/>
                </a:moveTo>
                <a:cubicBezTo>
                  <a:pt x="7837" y="5878"/>
                  <a:pt x="7947" y="6268"/>
                  <a:pt x="7987" y="6424"/>
                </a:cubicBezTo>
                <a:cubicBezTo>
                  <a:pt x="8004" y="6489"/>
                  <a:pt x="8012" y="6640"/>
                  <a:pt x="8012" y="6573"/>
                </a:cubicBezTo>
              </a:path>
              <a:path w="2035" h="1539">
                <a:moveTo>
                  <a:pt x="7218" y="6176"/>
                </a:moveTo>
                <a:cubicBezTo>
                  <a:pt x="7391" y="6034"/>
                  <a:pt x="7600" y="5826"/>
                  <a:pt x="7789" y="5680"/>
                </a:cubicBezTo>
                <a:cubicBezTo>
                  <a:pt x="7915" y="5583"/>
                  <a:pt x="8006" y="5371"/>
                  <a:pt x="8161" y="5407"/>
                </a:cubicBezTo>
                <a:cubicBezTo>
                  <a:pt x="8169" y="5424"/>
                  <a:pt x="8178" y="5440"/>
                  <a:pt x="8186" y="5457"/>
                </a:cubicBezTo>
              </a:path>
              <a:path w="2035" h="1539">
                <a:moveTo>
                  <a:pt x="7615" y="6945"/>
                </a:moveTo>
                <a:cubicBezTo>
                  <a:pt x="7827" y="6718"/>
                  <a:pt x="8045" y="6470"/>
                  <a:pt x="8310" y="6300"/>
                </a:cubicBezTo>
                <a:cubicBezTo>
                  <a:pt x="8318" y="6300"/>
                  <a:pt x="8326" y="6300"/>
                  <a:pt x="8334" y="6300"/>
                </a:cubicBezTo>
              </a:path>
              <a:path w="2035" h="1539">
                <a:moveTo>
                  <a:pt x="8533" y="5705"/>
                </a:moveTo>
                <a:cubicBezTo>
                  <a:pt x="8455" y="5736"/>
                  <a:pt x="8393" y="5820"/>
                  <a:pt x="8359" y="5904"/>
                </a:cubicBezTo>
                <a:cubicBezTo>
                  <a:pt x="8359" y="5912"/>
                  <a:pt x="8359" y="5920"/>
                  <a:pt x="8359" y="5928"/>
                </a:cubicBezTo>
                <a:cubicBezTo>
                  <a:pt x="8502" y="5928"/>
                  <a:pt x="8607" y="5889"/>
                  <a:pt x="8607" y="6077"/>
                </a:cubicBezTo>
                <a:cubicBezTo>
                  <a:pt x="8607" y="6158"/>
                  <a:pt x="8490" y="6365"/>
                  <a:pt x="8384" y="6325"/>
                </a:cubicBezTo>
                <a:cubicBezTo>
                  <a:pt x="8384" y="6317"/>
                  <a:pt x="8384" y="6308"/>
                  <a:pt x="8384" y="6300"/>
                </a:cubicBezTo>
              </a:path>
              <a:path w="2035" h="1539">
                <a:moveTo>
                  <a:pt x="8756" y="5631"/>
                </a:moveTo>
                <a:cubicBezTo>
                  <a:pt x="8736" y="5812"/>
                  <a:pt x="8727" y="5909"/>
                  <a:pt x="8781" y="6077"/>
                </a:cubicBezTo>
                <a:cubicBezTo>
                  <a:pt x="8942" y="6050"/>
                  <a:pt x="8955" y="5933"/>
                  <a:pt x="8905" y="5779"/>
                </a:cubicBezTo>
                <a:cubicBezTo>
                  <a:pt x="8837" y="5666"/>
                  <a:pt x="8821" y="5635"/>
                  <a:pt x="8756" y="5581"/>
                </a:cubicBezTo>
              </a:path>
              <a:path w="2035" h="1539">
                <a:moveTo>
                  <a:pt x="9227" y="5631"/>
                </a:moveTo>
                <a:cubicBezTo>
                  <a:pt x="9235" y="5631"/>
                  <a:pt x="9244" y="5631"/>
                  <a:pt x="9252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5760" y="2286000"/>
            <a:ext cx="687240" cy="706320"/>
          </a:xfrm>
          <a:custGeom>
            <a:avLst/>
            <a:gdLst/>
            <a:ahLst/>
            <a:rect l="l" t="t" r="r" b="b"/>
            <a:pathLst>
              <a:path w="1911" h="1961">
                <a:moveTo>
                  <a:pt x="1935" y="8310"/>
                </a:moveTo>
                <a:cubicBezTo>
                  <a:pt x="1897" y="8263"/>
                  <a:pt x="1873" y="8207"/>
                  <a:pt x="1836" y="8161"/>
                </a:cubicBezTo>
                <a:cubicBezTo>
                  <a:pt x="1774" y="8083"/>
                  <a:pt x="1720" y="8007"/>
                  <a:pt x="1687" y="7913"/>
                </a:cubicBezTo>
                <a:cubicBezTo>
                  <a:pt x="1687" y="7905"/>
                  <a:pt x="1687" y="7896"/>
                  <a:pt x="1687" y="7888"/>
                </a:cubicBezTo>
                <a:cubicBezTo>
                  <a:pt x="1987" y="7838"/>
                  <a:pt x="2282" y="7794"/>
                  <a:pt x="2555" y="7640"/>
                </a:cubicBezTo>
                <a:cubicBezTo>
                  <a:pt x="2871" y="7462"/>
                  <a:pt x="3300" y="7094"/>
                  <a:pt x="3175" y="6672"/>
                </a:cubicBezTo>
                <a:cubicBezTo>
                  <a:pt x="3033" y="6192"/>
                  <a:pt x="2479" y="6384"/>
                  <a:pt x="2158" y="6499"/>
                </a:cubicBezTo>
                <a:cubicBezTo>
                  <a:pt x="1799" y="6628"/>
                  <a:pt x="1282" y="6879"/>
                  <a:pt x="1265" y="7317"/>
                </a:cubicBezTo>
                <a:cubicBezTo>
                  <a:pt x="1248" y="7773"/>
                  <a:pt x="1544" y="8180"/>
                  <a:pt x="2034" y="8136"/>
                </a:cubicBezTo>
                <a:cubicBezTo>
                  <a:pt x="2166" y="8095"/>
                  <a:pt x="2299" y="8053"/>
                  <a:pt x="2431" y="80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68280" y="3178080"/>
            <a:ext cx="704880" cy="573120"/>
          </a:xfrm>
          <a:custGeom>
            <a:avLst/>
            <a:gdLst/>
            <a:ahLst/>
            <a:rect l="l" t="t" r="r" b="b"/>
            <a:pathLst>
              <a:path w="1961" h="1589">
                <a:moveTo>
                  <a:pt x="3522" y="9947"/>
                </a:moveTo>
                <a:cubicBezTo>
                  <a:pt x="3741" y="9947"/>
                  <a:pt x="3857" y="10030"/>
                  <a:pt x="4068" y="10096"/>
                </a:cubicBezTo>
                <a:cubicBezTo>
                  <a:pt x="4437" y="10211"/>
                  <a:pt x="4889" y="10206"/>
                  <a:pt x="5209" y="9947"/>
                </a:cubicBezTo>
                <a:cubicBezTo>
                  <a:pt x="5491" y="9719"/>
                  <a:pt x="5593" y="9258"/>
                  <a:pt x="5333" y="8979"/>
                </a:cubicBezTo>
                <a:cubicBezTo>
                  <a:pt x="5093" y="8721"/>
                  <a:pt x="4513" y="8807"/>
                  <a:pt x="4242" y="8954"/>
                </a:cubicBezTo>
                <a:cubicBezTo>
                  <a:pt x="3709" y="9243"/>
                  <a:pt x="3731" y="10072"/>
                  <a:pt x="4217" y="10418"/>
                </a:cubicBezTo>
                <a:cubicBezTo>
                  <a:pt x="4528" y="10418"/>
                  <a:pt x="4644" y="10389"/>
                  <a:pt x="4738" y="101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86280" y="3625920"/>
            <a:ext cx="635040" cy="27000"/>
          </a:xfrm>
          <a:custGeom>
            <a:avLst/>
            <a:gdLst/>
            <a:ahLst/>
            <a:rect l="l" t="t" r="r" b="b"/>
            <a:pathLst>
              <a:path w="1763" h="75">
                <a:moveTo>
                  <a:pt x="16073" y="10145"/>
                </a:moveTo>
                <a:cubicBezTo>
                  <a:pt x="16487" y="10133"/>
                  <a:pt x="16901" y="10122"/>
                  <a:pt x="17314" y="10096"/>
                </a:cubicBezTo>
                <a:cubicBezTo>
                  <a:pt x="17492" y="10085"/>
                  <a:pt x="17659" y="10071"/>
                  <a:pt x="17835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13720" y="2133720"/>
            <a:ext cx="1312560" cy="546120"/>
          </a:xfrm>
          <a:custGeom>
            <a:avLst/>
            <a:gdLst/>
            <a:ahLst/>
            <a:rect l="l" t="t" r="r" b="b"/>
            <a:pathLst>
              <a:path w="3647" h="1514">
                <a:moveTo>
                  <a:pt x="21084" y="6201"/>
                </a:moveTo>
                <a:cubicBezTo>
                  <a:pt x="21115" y="6427"/>
                  <a:pt x="21071" y="6704"/>
                  <a:pt x="21158" y="6921"/>
                </a:cubicBezTo>
                <a:cubicBezTo>
                  <a:pt x="21239" y="7122"/>
                  <a:pt x="21574" y="6828"/>
                  <a:pt x="21654" y="6772"/>
                </a:cubicBezTo>
              </a:path>
              <a:path w="3647" h="1514">
                <a:moveTo>
                  <a:pt x="21158" y="6623"/>
                </a:moveTo>
                <a:cubicBezTo>
                  <a:pt x="21279" y="6526"/>
                  <a:pt x="21393" y="6430"/>
                  <a:pt x="21506" y="6325"/>
                </a:cubicBezTo>
              </a:path>
              <a:path w="3647" h="1514">
                <a:moveTo>
                  <a:pt x="21183" y="6152"/>
                </a:moveTo>
                <a:cubicBezTo>
                  <a:pt x="21289" y="6079"/>
                  <a:pt x="21404" y="6005"/>
                  <a:pt x="21506" y="5928"/>
                </a:cubicBezTo>
              </a:path>
              <a:path w="3647" h="1514">
                <a:moveTo>
                  <a:pt x="21977" y="6350"/>
                </a:moveTo>
                <a:cubicBezTo>
                  <a:pt x="21806" y="6179"/>
                  <a:pt x="21686" y="6448"/>
                  <a:pt x="21654" y="6623"/>
                </a:cubicBezTo>
                <a:cubicBezTo>
                  <a:pt x="21601" y="6917"/>
                  <a:pt x="21910" y="6487"/>
                  <a:pt x="21927" y="6449"/>
                </a:cubicBezTo>
                <a:cubicBezTo>
                  <a:pt x="21927" y="6433"/>
                  <a:pt x="21927" y="6416"/>
                  <a:pt x="21927" y="6400"/>
                </a:cubicBezTo>
                <a:cubicBezTo>
                  <a:pt x="21941" y="6613"/>
                  <a:pt x="21921" y="6807"/>
                  <a:pt x="21927" y="7020"/>
                </a:cubicBezTo>
                <a:cubicBezTo>
                  <a:pt x="21934" y="7254"/>
                  <a:pt x="21929" y="7355"/>
                  <a:pt x="22101" y="7441"/>
                </a:cubicBezTo>
                <a:cubicBezTo>
                  <a:pt x="22166" y="7132"/>
                  <a:pt x="22155" y="7007"/>
                  <a:pt x="21977" y="6747"/>
                </a:cubicBezTo>
              </a:path>
              <a:path w="3647" h="1514">
                <a:moveTo>
                  <a:pt x="22101" y="6276"/>
                </a:moveTo>
                <a:cubicBezTo>
                  <a:pt x="22109" y="6321"/>
                  <a:pt x="22152" y="6789"/>
                  <a:pt x="22299" y="6648"/>
                </a:cubicBezTo>
                <a:cubicBezTo>
                  <a:pt x="22408" y="6485"/>
                  <a:pt x="22445" y="6420"/>
                  <a:pt x="22448" y="6276"/>
                </a:cubicBezTo>
                <a:cubicBezTo>
                  <a:pt x="22448" y="6001"/>
                  <a:pt x="22513" y="6519"/>
                  <a:pt x="22572" y="6648"/>
                </a:cubicBezTo>
              </a:path>
              <a:path w="3647" h="1514">
                <a:moveTo>
                  <a:pt x="18926" y="6499"/>
                </a:moveTo>
                <a:cubicBezTo>
                  <a:pt x="19253" y="6499"/>
                  <a:pt x="19515" y="6465"/>
                  <a:pt x="19844" y="6424"/>
                </a:cubicBezTo>
                <a:cubicBezTo>
                  <a:pt x="20274" y="6370"/>
                  <a:pt x="20376" y="6268"/>
                  <a:pt x="20290" y="65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02120" y="2313000"/>
            <a:ext cx="473040" cy="44280"/>
          </a:xfrm>
          <a:custGeom>
            <a:avLst/>
            <a:gdLst/>
            <a:ahLst/>
            <a:rect l="l" t="t" r="r" b="b"/>
            <a:pathLst>
              <a:path w="1315" h="125">
                <a:moveTo>
                  <a:pt x="13618" y="6424"/>
                </a:moveTo>
                <a:cubicBezTo>
                  <a:pt x="13618" y="6464"/>
                  <a:pt x="13603" y="6493"/>
                  <a:pt x="13643" y="6499"/>
                </a:cubicBezTo>
                <a:cubicBezTo>
                  <a:pt x="13998" y="6549"/>
                  <a:pt x="14377" y="6529"/>
                  <a:pt x="14734" y="6499"/>
                </a:cubicBezTo>
                <a:cubicBezTo>
                  <a:pt x="14879" y="6487"/>
                  <a:pt x="14899" y="6433"/>
                  <a:pt x="14932" y="65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38960" y="4295880"/>
            <a:ext cx="973080" cy="795240"/>
          </a:xfrm>
          <a:custGeom>
            <a:avLst/>
            <a:gdLst/>
            <a:ahLst/>
            <a:rect l="l" t="t" r="r" b="b"/>
            <a:pathLst>
              <a:path w="2705" h="2209">
                <a:moveTo>
                  <a:pt x="18579" y="12477"/>
                </a:moveTo>
                <a:cubicBezTo>
                  <a:pt x="18302" y="12573"/>
                  <a:pt x="18187" y="12754"/>
                  <a:pt x="18058" y="13022"/>
                </a:cubicBezTo>
                <a:cubicBezTo>
                  <a:pt x="18229" y="13168"/>
                  <a:pt x="18558" y="13147"/>
                  <a:pt x="18529" y="13469"/>
                </a:cubicBezTo>
                <a:cubicBezTo>
                  <a:pt x="18507" y="13712"/>
                  <a:pt x="17981" y="13958"/>
                  <a:pt x="17884" y="13643"/>
                </a:cubicBezTo>
                <a:cubicBezTo>
                  <a:pt x="17901" y="13593"/>
                  <a:pt x="17917" y="13544"/>
                  <a:pt x="17934" y="13494"/>
                </a:cubicBezTo>
              </a:path>
              <a:path w="2705" h="2209">
                <a:moveTo>
                  <a:pt x="19100" y="12750"/>
                </a:moveTo>
                <a:cubicBezTo>
                  <a:pt x="19151" y="12784"/>
                  <a:pt x="19100" y="12684"/>
                  <a:pt x="19050" y="12650"/>
                </a:cubicBezTo>
                <a:cubicBezTo>
                  <a:pt x="19025" y="12642"/>
                  <a:pt x="19001" y="12634"/>
                  <a:pt x="18976" y="12626"/>
                </a:cubicBezTo>
                <a:cubicBezTo>
                  <a:pt x="18810" y="12768"/>
                  <a:pt x="18646" y="13103"/>
                  <a:pt x="18852" y="13320"/>
                </a:cubicBezTo>
                <a:cubicBezTo>
                  <a:pt x="19034" y="13512"/>
                  <a:pt x="19368" y="12960"/>
                  <a:pt x="19422" y="12898"/>
                </a:cubicBezTo>
              </a:path>
              <a:path w="2705" h="2209">
                <a:moveTo>
                  <a:pt x="19447" y="12576"/>
                </a:moveTo>
                <a:cubicBezTo>
                  <a:pt x="19252" y="12651"/>
                  <a:pt x="19141" y="12923"/>
                  <a:pt x="19248" y="13146"/>
                </a:cubicBezTo>
                <a:cubicBezTo>
                  <a:pt x="19281" y="13163"/>
                  <a:pt x="19315" y="13179"/>
                  <a:pt x="19348" y="13196"/>
                </a:cubicBezTo>
                <a:cubicBezTo>
                  <a:pt x="19469" y="13025"/>
                  <a:pt x="19580" y="12871"/>
                  <a:pt x="19496" y="12675"/>
                </a:cubicBezTo>
                <a:cubicBezTo>
                  <a:pt x="19548" y="12836"/>
                  <a:pt x="19738" y="13133"/>
                  <a:pt x="19869" y="12774"/>
                </a:cubicBezTo>
                <a:cubicBezTo>
                  <a:pt x="19896" y="12499"/>
                  <a:pt x="19898" y="12390"/>
                  <a:pt x="19819" y="12204"/>
                </a:cubicBezTo>
              </a:path>
              <a:path w="2705" h="2209">
                <a:moveTo>
                  <a:pt x="19621" y="11931"/>
                </a:moveTo>
                <a:cubicBezTo>
                  <a:pt x="19753" y="12221"/>
                  <a:pt x="19846" y="12542"/>
                  <a:pt x="19993" y="12824"/>
                </a:cubicBezTo>
                <a:cubicBezTo>
                  <a:pt x="20009" y="12841"/>
                  <a:pt x="20026" y="12857"/>
                  <a:pt x="20042" y="12874"/>
                </a:cubicBezTo>
              </a:path>
              <a:path w="2705" h="2209">
                <a:moveTo>
                  <a:pt x="20414" y="12427"/>
                </a:moveTo>
                <a:cubicBezTo>
                  <a:pt x="20423" y="12490"/>
                  <a:pt x="20440" y="12542"/>
                  <a:pt x="20464" y="12601"/>
                </a:cubicBezTo>
              </a:path>
              <a:path w="2705" h="2209">
                <a:moveTo>
                  <a:pt x="18306" y="14139"/>
                </a:moveTo>
                <a:cubicBezTo>
                  <a:pt x="18945" y="13712"/>
                  <a:pt x="19594" y="13348"/>
                  <a:pt x="20315" y="13072"/>
                </a:cubicBezTo>
                <a:cubicBezTo>
                  <a:pt x="20492" y="13019"/>
                  <a:pt x="20522" y="13047"/>
                  <a:pt x="20588" y="129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65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15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65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15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65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15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65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115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76312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compare and classify triangles by their sides and angles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y the triangles by its sid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) 12in, 3in, 3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) 9cm, 9cm, 9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) 14m, 7m, 14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) 3in, 6in, 7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8880" y="1901880"/>
            <a:ext cx="2071800" cy="938160"/>
          </a:xfrm>
          <a:custGeom>
            <a:avLst/>
            <a:gdLst/>
            <a:ahLst/>
            <a:rect l="l" t="t" r="r" b="b"/>
            <a:pathLst>
              <a:path w="5755" h="2606">
                <a:moveTo>
                  <a:pt x="9351" y="5432"/>
                </a:moveTo>
                <a:cubicBezTo>
                  <a:pt x="9381" y="5612"/>
                  <a:pt x="9412" y="5797"/>
                  <a:pt x="9451" y="5978"/>
                </a:cubicBezTo>
                <a:cubicBezTo>
                  <a:pt x="9459" y="6014"/>
                  <a:pt x="9472" y="6133"/>
                  <a:pt x="9500" y="6077"/>
                </a:cubicBezTo>
              </a:path>
              <a:path w="5755" h="2606">
                <a:moveTo>
                  <a:pt x="8930" y="5755"/>
                </a:moveTo>
                <a:cubicBezTo>
                  <a:pt x="9168" y="5591"/>
                  <a:pt x="9413" y="5399"/>
                  <a:pt x="9674" y="5283"/>
                </a:cubicBezTo>
              </a:path>
              <a:path w="5755" h="2606">
                <a:moveTo>
                  <a:pt x="9054" y="6598"/>
                </a:moveTo>
                <a:cubicBezTo>
                  <a:pt x="9385" y="6352"/>
                  <a:pt x="9702" y="6091"/>
                  <a:pt x="10021" y="5829"/>
                </a:cubicBezTo>
              </a:path>
              <a:path w="5755" h="2606">
                <a:moveTo>
                  <a:pt x="5358" y="5655"/>
                </a:moveTo>
                <a:cubicBezTo>
                  <a:pt x="5439" y="5618"/>
                  <a:pt x="5536" y="5579"/>
                  <a:pt x="5631" y="5556"/>
                </a:cubicBezTo>
                <a:cubicBezTo>
                  <a:pt x="5810" y="5513"/>
                  <a:pt x="5971" y="5553"/>
                  <a:pt x="6152" y="5556"/>
                </a:cubicBezTo>
                <a:cubicBezTo>
                  <a:pt x="6342" y="5560"/>
                  <a:pt x="6509" y="5570"/>
                  <a:pt x="6697" y="5556"/>
                </a:cubicBezTo>
                <a:cubicBezTo>
                  <a:pt x="6838" y="5545"/>
                  <a:pt x="6980" y="5542"/>
                  <a:pt x="7119" y="5531"/>
                </a:cubicBezTo>
                <a:cubicBezTo>
                  <a:pt x="7269" y="5519"/>
                  <a:pt x="7416" y="5509"/>
                  <a:pt x="7565" y="5482"/>
                </a:cubicBezTo>
                <a:cubicBezTo>
                  <a:pt x="7723" y="5454"/>
                  <a:pt x="7881" y="5432"/>
                  <a:pt x="8037" y="5407"/>
                </a:cubicBezTo>
                <a:cubicBezTo>
                  <a:pt x="8123" y="5393"/>
                  <a:pt x="8225" y="5400"/>
                  <a:pt x="8310" y="5383"/>
                </a:cubicBezTo>
                <a:cubicBezTo>
                  <a:pt x="8338" y="5377"/>
                  <a:pt x="8400" y="5368"/>
                  <a:pt x="8434" y="5358"/>
                </a:cubicBezTo>
                <a:cubicBezTo>
                  <a:pt x="8483" y="5344"/>
                  <a:pt x="8506" y="5338"/>
                  <a:pt x="8558" y="5333"/>
                </a:cubicBezTo>
              </a:path>
              <a:path w="5755" h="2606">
                <a:moveTo>
                  <a:pt x="10468" y="7293"/>
                </a:moveTo>
                <a:cubicBezTo>
                  <a:pt x="10535" y="7448"/>
                  <a:pt x="10577" y="7582"/>
                  <a:pt x="10592" y="7764"/>
                </a:cubicBezTo>
                <a:cubicBezTo>
                  <a:pt x="10592" y="7842"/>
                  <a:pt x="10577" y="7859"/>
                  <a:pt x="10616" y="7888"/>
                </a:cubicBezTo>
                <a:cubicBezTo>
                  <a:pt x="10785" y="7832"/>
                  <a:pt x="10924" y="7734"/>
                  <a:pt x="11088" y="7665"/>
                </a:cubicBezTo>
                <a:cubicBezTo>
                  <a:pt x="11096" y="7665"/>
                  <a:pt x="11104" y="7665"/>
                  <a:pt x="11112" y="7665"/>
                </a:cubicBezTo>
              </a:path>
              <a:path w="5755" h="2606">
                <a:moveTo>
                  <a:pt x="10666" y="7689"/>
                </a:moveTo>
                <a:cubicBezTo>
                  <a:pt x="10736" y="7596"/>
                  <a:pt x="10830" y="7519"/>
                  <a:pt x="10864" y="7417"/>
                </a:cubicBezTo>
              </a:path>
              <a:path w="5755" h="2606">
                <a:moveTo>
                  <a:pt x="10517" y="7293"/>
                </a:moveTo>
                <a:cubicBezTo>
                  <a:pt x="10615" y="7210"/>
                  <a:pt x="10709" y="7143"/>
                  <a:pt x="10840" y="7119"/>
                </a:cubicBezTo>
                <a:cubicBezTo>
                  <a:pt x="10856" y="7119"/>
                  <a:pt x="10873" y="7119"/>
                  <a:pt x="10889" y="71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87840" y="3598920"/>
            <a:ext cx="322200" cy="268200"/>
          </a:xfrm>
          <a:custGeom>
            <a:avLst/>
            <a:gdLst/>
            <a:ahLst/>
            <a:rect l="l" t="t" r="r" b="b"/>
            <a:pathLst>
              <a:path w="894" h="745">
                <a:moveTo>
                  <a:pt x="10592" y="10071"/>
                </a:moveTo>
                <a:cubicBezTo>
                  <a:pt x="10620" y="10193"/>
                  <a:pt x="10665" y="10384"/>
                  <a:pt x="10740" y="10492"/>
                </a:cubicBezTo>
                <a:cubicBezTo>
                  <a:pt x="10740" y="10484"/>
                  <a:pt x="10740" y="10476"/>
                  <a:pt x="10740" y="10468"/>
                </a:cubicBezTo>
              </a:path>
              <a:path w="894" h="745">
                <a:moveTo>
                  <a:pt x="10244" y="10120"/>
                </a:moveTo>
                <a:cubicBezTo>
                  <a:pt x="10467" y="10073"/>
                  <a:pt x="10789" y="9938"/>
                  <a:pt x="11013" y="10021"/>
                </a:cubicBezTo>
                <a:cubicBezTo>
                  <a:pt x="11013" y="10080"/>
                  <a:pt x="11006" y="10121"/>
                  <a:pt x="10988" y="10170"/>
                </a:cubicBezTo>
              </a:path>
              <a:path w="894" h="745">
                <a:moveTo>
                  <a:pt x="10319" y="10740"/>
                </a:moveTo>
                <a:cubicBezTo>
                  <a:pt x="10578" y="10685"/>
                  <a:pt x="10837" y="10564"/>
                  <a:pt x="11088" y="10468"/>
                </a:cubicBezTo>
                <a:cubicBezTo>
                  <a:pt x="11104" y="10460"/>
                  <a:pt x="11121" y="10451"/>
                  <a:pt x="11137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79920" y="4500720"/>
            <a:ext cx="214200" cy="349200"/>
          </a:xfrm>
          <a:custGeom>
            <a:avLst/>
            <a:gdLst/>
            <a:ahLst/>
            <a:rect l="l" t="t" r="r" b="b"/>
            <a:pathLst>
              <a:path w="596" h="968">
                <a:moveTo>
                  <a:pt x="10492" y="12576"/>
                </a:moveTo>
                <a:cubicBezTo>
                  <a:pt x="10586" y="12545"/>
                  <a:pt x="10386" y="12498"/>
                  <a:pt x="10368" y="12502"/>
                </a:cubicBezTo>
                <a:cubicBezTo>
                  <a:pt x="10208" y="12537"/>
                  <a:pt x="10226" y="12781"/>
                  <a:pt x="10220" y="12898"/>
                </a:cubicBezTo>
                <a:cubicBezTo>
                  <a:pt x="10364" y="12942"/>
                  <a:pt x="10477" y="12853"/>
                  <a:pt x="10616" y="12874"/>
                </a:cubicBezTo>
                <a:cubicBezTo>
                  <a:pt x="10816" y="12904"/>
                  <a:pt x="10863" y="13130"/>
                  <a:pt x="10740" y="13271"/>
                </a:cubicBezTo>
                <a:cubicBezTo>
                  <a:pt x="10583" y="13451"/>
                  <a:pt x="10431" y="13452"/>
                  <a:pt x="10220" y="134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compare and classify triangles by their sides and angles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cute triangle: has 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thre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cute 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3048120"/>
            <a:ext cx="1676520" cy="1523880"/>
          </a:xfrm>
          <a:prstGeom prst="triangle">
            <a:avLst>
              <a:gd name="adj" fmla="val 7253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92640" y="5181480"/>
            <a:ext cx="214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cute 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21000" y="5116680"/>
            <a:ext cx="1036800" cy="554040"/>
          </a:xfrm>
          <a:custGeom>
            <a:avLst/>
            <a:gdLst/>
            <a:ahLst/>
            <a:rect l="l" t="t" r="r" b="b"/>
            <a:pathLst>
              <a:path w="2879" h="1539">
                <a:moveTo>
                  <a:pt x="9922" y="14734"/>
                </a:moveTo>
                <a:cubicBezTo>
                  <a:pt x="9943" y="14776"/>
                  <a:pt x="9941" y="14764"/>
                  <a:pt x="9872" y="14833"/>
                </a:cubicBezTo>
                <a:cubicBezTo>
                  <a:pt x="9672" y="15033"/>
                  <a:pt x="9536" y="15282"/>
                  <a:pt x="9327" y="15478"/>
                </a:cubicBezTo>
                <a:cubicBezTo>
                  <a:pt x="9294" y="15503"/>
                  <a:pt x="9260" y="15528"/>
                  <a:pt x="9227" y="15553"/>
                </a:cubicBezTo>
                <a:cubicBezTo>
                  <a:pt x="9282" y="15564"/>
                  <a:pt x="9590" y="15554"/>
                  <a:pt x="9674" y="15553"/>
                </a:cubicBezTo>
                <a:cubicBezTo>
                  <a:pt x="9868" y="15551"/>
                  <a:pt x="9995" y="15572"/>
                  <a:pt x="10170" y="15627"/>
                </a:cubicBezTo>
              </a:path>
              <a:path w="2879" h="1539">
                <a:moveTo>
                  <a:pt x="11038" y="14808"/>
                </a:moveTo>
                <a:cubicBezTo>
                  <a:pt x="11169" y="14744"/>
                  <a:pt x="11023" y="14550"/>
                  <a:pt x="10939" y="14436"/>
                </a:cubicBezTo>
                <a:cubicBezTo>
                  <a:pt x="10843" y="14475"/>
                  <a:pt x="10264" y="14851"/>
                  <a:pt x="10567" y="15032"/>
                </a:cubicBezTo>
                <a:cubicBezTo>
                  <a:pt x="10763" y="15149"/>
                  <a:pt x="10943" y="14790"/>
                  <a:pt x="11013" y="14684"/>
                </a:cubicBezTo>
                <a:cubicBezTo>
                  <a:pt x="11047" y="14819"/>
                  <a:pt x="11019" y="15115"/>
                  <a:pt x="10988" y="15280"/>
                </a:cubicBezTo>
                <a:cubicBezTo>
                  <a:pt x="10949" y="15485"/>
                  <a:pt x="10729" y="15800"/>
                  <a:pt x="10939" y="15652"/>
                </a:cubicBezTo>
              </a:path>
              <a:path w="2879" h="1539">
                <a:moveTo>
                  <a:pt x="11559" y="14660"/>
                </a:moveTo>
                <a:cubicBezTo>
                  <a:pt x="11424" y="14939"/>
                  <a:pt x="11217" y="15276"/>
                  <a:pt x="11286" y="15602"/>
                </a:cubicBezTo>
                <a:cubicBezTo>
                  <a:pt x="11311" y="15635"/>
                  <a:pt x="11336" y="15668"/>
                  <a:pt x="11361" y="15701"/>
                </a:cubicBezTo>
                <a:cubicBezTo>
                  <a:pt x="11732" y="15568"/>
                  <a:pt x="11835" y="15340"/>
                  <a:pt x="11733" y="14932"/>
                </a:cubicBezTo>
                <a:cubicBezTo>
                  <a:pt x="11693" y="14772"/>
                  <a:pt x="11606" y="14695"/>
                  <a:pt x="11485" y="14610"/>
                </a:cubicBezTo>
              </a:path>
              <a:path w="2879" h="1539">
                <a:moveTo>
                  <a:pt x="11981" y="14263"/>
                </a:moveTo>
                <a:cubicBezTo>
                  <a:pt x="11858" y="14370"/>
                  <a:pt x="11847" y="14440"/>
                  <a:pt x="11956" y="14536"/>
                </a:cubicBezTo>
                <a:cubicBezTo>
                  <a:pt x="12143" y="14388"/>
                  <a:pt x="12132" y="14332"/>
                  <a:pt x="11931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48160" y="2303640"/>
            <a:ext cx="1349640" cy="80640"/>
          </a:xfrm>
          <a:custGeom>
            <a:avLst/>
            <a:gdLst/>
            <a:ahLst/>
            <a:rect l="l" t="t" r="r" b="b"/>
            <a:pathLst>
              <a:path w="3747" h="224">
                <a:moveTo>
                  <a:pt x="14858" y="6424"/>
                </a:moveTo>
                <a:cubicBezTo>
                  <a:pt x="14968" y="6417"/>
                  <a:pt x="15070" y="6403"/>
                  <a:pt x="15180" y="6400"/>
                </a:cubicBezTo>
                <a:cubicBezTo>
                  <a:pt x="15324" y="6396"/>
                  <a:pt x="15461" y="6416"/>
                  <a:pt x="15602" y="6424"/>
                </a:cubicBezTo>
                <a:cubicBezTo>
                  <a:pt x="15801" y="6436"/>
                  <a:pt x="15999" y="6427"/>
                  <a:pt x="16197" y="6449"/>
                </a:cubicBezTo>
                <a:cubicBezTo>
                  <a:pt x="16387" y="6470"/>
                  <a:pt x="16579" y="6477"/>
                  <a:pt x="16768" y="6499"/>
                </a:cubicBezTo>
                <a:cubicBezTo>
                  <a:pt x="16989" y="6525"/>
                  <a:pt x="17216" y="6559"/>
                  <a:pt x="17438" y="6573"/>
                </a:cubicBezTo>
                <a:cubicBezTo>
                  <a:pt x="17653" y="6587"/>
                  <a:pt x="17867" y="6598"/>
                  <a:pt x="18083" y="6598"/>
                </a:cubicBezTo>
                <a:cubicBezTo>
                  <a:pt x="18246" y="6598"/>
                  <a:pt x="18395" y="6605"/>
                  <a:pt x="18554" y="6623"/>
                </a:cubicBezTo>
                <a:cubicBezTo>
                  <a:pt x="18571" y="6623"/>
                  <a:pt x="18587" y="6623"/>
                  <a:pt x="18604" y="66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475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ight triangle: has 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on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right 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2971800"/>
            <a:ext cx="4419360" cy="190512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449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2080" y="355680"/>
            <a:ext cx="865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compare and classify triangles by their sides and ang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0040" y="5410080"/>
            <a:ext cx="332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ight ang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62080" y="4464000"/>
            <a:ext cx="1073160" cy="501840"/>
          </a:xfrm>
          <a:custGeom>
            <a:avLst/>
            <a:gdLst/>
            <a:ahLst/>
            <a:rect l="l" t="t" r="r" b="b"/>
            <a:pathLst>
              <a:path w="2977" h="1390">
                <a:moveTo>
                  <a:pt x="7243" y="12526"/>
                </a:moveTo>
                <a:cubicBezTo>
                  <a:pt x="7297" y="12558"/>
                  <a:pt x="7347" y="12586"/>
                  <a:pt x="7417" y="12601"/>
                </a:cubicBezTo>
                <a:cubicBezTo>
                  <a:pt x="7477" y="12614"/>
                  <a:pt x="7525" y="12615"/>
                  <a:pt x="7590" y="12626"/>
                </a:cubicBezTo>
                <a:cubicBezTo>
                  <a:pt x="7662" y="12638"/>
                  <a:pt x="7756" y="12685"/>
                  <a:pt x="7838" y="12700"/>
                </a:cubicBezTo>
                <a:cubicBezTo>
                  <a:pt x="7919" y="12715"/>
                  <a:pt x="8004" y="12722"/>
                  <a:pt x="8086" y="12725"/>
                </a:cubicBezTo>
                <a:cubicBezTo>
                  <a:pt x="8217" y="12730"/>
                  <a:pt x="8336" y="12716"/>
                  <a:pt x="8458" y="12700"/>
                </a:cubicBezTo>
                <a:cubicBezTo>
                  <a:pt x="8521" y="12692"/>
                  <a:pt x="8593" y="12700"/>
                  <a:pt x="8657" y="12700"/>
                </a:cubicBezTo>
                <a:cubicBezTo>
                  <a:pt x="8515" y="12678"/>
                  <a:pt x="8380" y="12625"/>
                  <a:pt x="8235" y="12601"/>
                </a:cubicBezTo>
                <a:cubicBezTo>
                  <a:pt x="8006" y="12564"/>
                  <a:pt x="7771" y="12570"/>
                  <a:pt x="7541" y="12551"/>
                </a:cubicBezTo>
                <a:cubicBezTo>
                  <a:pt x="7824" y="12494"/>
                  <a:pt x="8096" y="12489"/>
                  <a:pt x="8384" y="12526"/>
                </a:cubicBezTo>
                <a:cubicBezTo>
                  <a:pt x="8533" y="12545"/>
                  <a:pt x="8286" y="12584"/>
                  <a:pt x="8136" y="12576"/>
                </a:cubicBezTo>
                <a:cubicBezTo>
                  <a:pt x="7919" y="12565"/>
                  <a:pt x="7708" y="12551"/>
                  <a:pt x="7491" y="12551"/>
                </a:cubicBezTo>
                <a:cubicBezTo>
                  <a:pt x="7587" y="12519"/>
                  <a:pt x="7783" y="12526"/>
                  <a:pt x="7913" y="12526"/>
                </a:cubicBezTo>
                <a:cubicBezTo>
                  <a:pt x="7952" y="12526"/>
                  <a:pt x="8659" y="12489"/>
                  <a:pt x="8657" y="12551"/>
                </a:cubicBezTo>
                <a:cubicBezTo>
                  <a:pt x="8645" y="12859"/>
                  <a:pt x="8405" y="13295"/>
                  <a:pt x="8310" y="13593"/>
                </a:cubicBezTo>
                <a:cubicBezTo>
                  <a:pt x="8274" y="13717"/>
                  <a:pt x="8258" y="13722"/>
                  <a:pt x="8260" y="13791"/>
                </a:cubicBezTo>
                <a:cubicBezTo>
                  <a:pt x="8292" y="13539"/>
                  <a:pt x="8343" y="13276"/>
                  <a:pt x="8384" y="13022"/>
                </a:cubicBezTo>
                <a:cubicBezTo>
                  <a:pt x="8409" y="12866"/>
                  <a:pt x="8471" y="12728"/>
                  <a:pt x="8483" y="12576"/>
                </a:cubicBezTo>
                <a:cubicBezTo>
                  <a:pt x="8483" y="12551"/>
                  <a:pt x="8483" y="12543"/>
                  <a:pt x="8483" y="12526"/>
                </a:cubicBezTo>
                <a:cubicBezTo>
                  <a:pt x="8473" y="12691"/>
                  <a:pt x="8306" y="13251"/>
                  <a:pt x="8384" y="13370"/>
                </a:cubicBezTo>
                <a:cubicBezTo>
                  <a:pt x="8442" y="13458"/>
                  <a:pt x="8644" y="12772"/>
                  <a:pt x="8657" y="12725"/>
                </a:cubicBezTo>
                <a:cubicBezTo>
                  <a:pt x="8673" y="12659"/>
                  <a:pt x="8690" y="12592"/>
                  <a:pt x="8706" y="12526"/>
                </a:cubicBezTo>
                <a:cubicBezTo>
                  <a:pt x="8706" y="12501"/>
                  <a:pt x="8706" y="12477"/>
                  <a:pt x="8706" y="12452"/>
                </a:cubicBezTo>
                <a:cubicBezTo>
                  <a:pt x="8666" y="12752"/>
                  <a:pt x="8607" y="13046"/>
                  <a:pt x="8558" y="13345"/>
                </a:cubicBezTo>
                <a:cubicBezTo>
                  <a:pt x="8545" y="13426"/>
                  <a:pt x="8545" y="13438"/>
                  <a:pt x="8533" y="13519"/>
                </a:cubicBezTo>
              </a:path>
              <a:path w="2977" h="1390">
                <a:moveTo>
                  <a:pt x="7193" y="12477"/>
                </a:moveTo>
                <a:cubicBezTo>
                  <a:pt x="7172" y="12499"/>
                  <a:pt x="7139" y="12499"/>
                  <a:pt x="7169" y="12502"/>
                </a:cubicBezTo>
                <a:cubicBezTo>
                  <a:pt x="7327" y="12520"/>
                  <a:pt x="7532" y="12450"/>
                  <a:pt x="7689" y="12427"/>
                </a:cubicBezTo>
                <a:cubicBezTo>
                  <a:pt x="7844" y="12405"/>
                  <a:pt x="7973" y="12406"/>
                  <a:pt x="8111" y="12427"/>
                </a:cubicBezTo>
                <a:cubicBezTo>
                  <a:pt x="7906" y="12453"/>
                  <a:pt x="7697" y="12491"/>
                  <a:pt x="7491" y="12502"/>
                </a:cubicBezTo>
                <a:cubicBezTo>
                  <a:pt x="7367" y="12509"/>
                  <a:pt x="7024" y="12507"/>
                  <a:pt x="7144" y="12477"/>
                </a:cubicBezTo>
                <a:cubicBezTo>
                  <a:pt x="7376" y="12418"/>
                  <a:pt x="7698" y="12391"/>
                  <a:pt x="7938" y="12402"/>
                </a:cubicBezTo>
                <a:cubicBezTo>
                  <a:pt x="8079" y="12408"/>
                  <a:pt x="8220" y="12459"/>
                  <a:pt x="8359" y="12477"/>
                </a:cubicBezTo>
                <a:cubicBezTo>
                  <a:pt x="8436" y="12487"/>
                  <a:pt x="8379" y="12455"/>
                  <a:pt x="8409" y="12427"/>
                </a:cubicBezTo>
                <a:cubicBezTo>
                  <a:pt x="8422" y="12415"/>
                  <a:pt x="8487" y="12378"/>
                  <a:pt x="8508" y="12402"/>
                </a:cubicBezTo>
                <a:cubicBezTo>
                  <a:pt x="8557" y="12457"/>
                  <a:pt x="8484" y="12838"/>
                  <a:pt x="8483" y="12898"/>
                </a:cubicBezTo>
                <a:cubicBezTo>
                  <a:pt x="8483" y="13006"/>
                  <a:pt x="8483" y="13014"/>
                  <a:pt x="8483" y="13072"/>
                </a:cubicBezTo>
                <a:cubicBezTo>
                  <a:pt x="8490" y="12928"/>
                  <a:pt x="8507" y="12793"/>
                  <a:pt x="8533" y="12650"/>
                </a:cubicBezTo>
                <a:cubicBezTo>
                  <a:pt x="8537" y="12630"/>
                  <a:pt x="8598" y="12298"/>
                  <a:pt x="8582" y="12502"/>
                </a:cubicBezTo>
                <a:cubicBezTo>
                  <a:pt x="8559" y="12801"/>
                  <a:pt x="8510" y="13097"/>
                  <a:pt x="8483" y="13395"/>
                </a:cubicBezTo>
                <a:cubicBezTo>
                  <a:pt x="8483" y="13411"/>
                  <a:pt x="8483" y="13428"/>
                  <a:pt x="8483" y="13444"/>
                </a:cubicBezTo>
                <a:cubicBezTo>
                  <a:pt x="8532" y="13201"/>
                  <a:pt x="8566" y="12948"/>
                  <a:pt x="8582" y="12700"/>
                </a:cubicBezTo>
                <a:cubicBezTo>
                  <a:pt x="8594" y="12518"/>
                  <a:pt x="8591" y="12816"/>
                  <a:pt x="8582" y="12998"/>
                </a:cubicBezTo>
                <a:cubicBezTo>
                  <a:pt x="8562" y="13230"/>
                  <a:pt x="8561" y="13280"/>
                  <a:pt x="8533" y="13419"/>
                </a:cubicBezTo>
                <a:cubicBezTo>
                  <a:pt x="8538" y="13382"/>
                  <a:pt x="8558" y="13040"/>
                  <a:pt x="8558" y="12898"/>
                </a:cubicBezTo>
                <a:cubicBezTo>
                  <a:pt x="8558" y="12824"/>
                  <a:pt x="8518" y="12722"/>
                  <a:pt x="8533" y="12650"/>
                </a:cubicBezTo>
                <a:cubicBezTo>
                  <a:pt x="8551" y="12567"/>
                  <a:pt x="8424" y="12539"/>
                  <a:pt x="8310" y="12526"/>
                </a:cubicBezTo>
                <a:cubicBezTo>
                  <a:pt x="8104" y="12503"/>
                  <a:pt x="7532" y="12526"/>
                  <a:pt x="7739" y="12526"/>
                </a:cubicBezTo>
                <a:cubicBezTo>
                  <a:pt x="7756" y="12526"/>
                  <a:pt x="7772" y="12526"/>
                  <a:pt x="7789" y="12526"/>
                </a:cubicBezTo>
                <a:cubicBezTo>
                  <a:pt x="7962" y="12507"/>
                  <a:pt x="8240" y="12444"/>
                  <a:pt x="8409" y="12502"/>
                </a:cubicBezTo>
                <a:cubicBezTo>
                  <a:pt x="8401" y="12510"/>
                  <a:pt x="8392" y="12518"/>
                  <a:pt x="8384" y="12526"/>
                </a:cubicBezTo>
                <a:cubicBezTo>
                  <a:pt x="8126" y="12526"/>
                  <a:pt x="7872" y="12521"/>
                  <a:pt x="7615" y="12551"/>
                </a:cubicBezTo>
                <a:cubicBezTo>
                  <a:pt x="7496" y="12565"/>
                  <a:pt x="7359" y="12578"/>
                  <a:pt x="7541" y="12551"/>
                </a:cubicBezTo>
                <a:cubicBezTo>
                  <a:pt x="7615" y="12543"/>
                  <a:pt x="7690" y="12534"/>
                  <a:pt x="7764" y="12526"/>
                </a:cubicBezTo>
                <a:cubicBezTo>
                  <a:pt x="7954" y="12526"/>
                  <a:pt x="8472" y="12561"/>
                  <a:pt x="8285" y="12526"/>
                </a:cubicBezTo>
                <a:cubicBezTo>
                  <a:pt x="8007" y="12475"/>
                  <a:pt x="7719" y="12500"/>
                  <a:pt x="7441" y="12526"/>
                </a:cubicBezTo>
                <a:cubicBezTo>
                  <a:pt x="7399" y="12530"/>
                  <a:pt x="7476" y="12515"/>
                  <a:pt x="7516" y="12502"/>
                </a:cubicBezTo>
                <a:cubicBezTo>
                  <a:pt x="7681" y="12488"/>
                  <a:pt x="8201" y="12373"/>
                  <a:pt x="8334" y="12502"/>
                </a:cubicBezTo>
                <a:cubicBezTo>
                  <a:pt x="8440" y="12605"/>
                  <a:pt x="8267" y="13018"/>
                  <a:pt x="8235" y="13146"/>
                </a:cubicBezTo>
                <a:cubicBezTo>
                  <a:pt x="8184" y="13350"/>
                  <a:pt x="8205" y="13294"/>
                  <a:pt x="8210" y="13370"/>
                </a:cubicBezTo>
              </a:path>
              <a:path w="2977" h="1390">
                <a:moveTo>
                  <a:pt x="6077" y="13122"/>
                </a:moveTo>
                <a:cubicBezTo>
                  <a:pt x="6045" y="13041"/>
                  <a:pt x="5923" y="12780"/>
                  <a:pt x="5779" y="12874"/>
                </a:cubicBezTo>
                <a:cubicBezTo>
                  <a:pt x="5644" y="12962"/>
                  <a:pt x="5751" y="13188"/>
                  <a:pt x="5779" y="13295"/>
                </a:cubicBezTo>
                <a:cubicBezTo>
                  <a:pt x="5957" y="13240"/>
                  <a:pt x="5948" y="13205"/>
                  <a:pt x="6028" y="13022"/>
                </a:cubicBezTo>
                <a:cubicBezTo>
                  <a:pt x="6028" y="13162"/>
                  <a:pt x="6095" y="13364"/>
                  <a:pt x="6127" y="13494"/>
                </a:cubicBezTo>
                <a:cubicBezTo>
                  <a:pt x="6164" y="13625"/>
                  <a:pt x="6181" y="13640"/>
                  <a:pt x="6176" y="13717"/>
                </a:cubicBezTo>
              </a:path>
              <a:path w="2977" h="1390">
                <a:moveTo>
                  <a:pt x="6226" y="12948"/>
                </a:moveTo>
                <a:cubicBezTo>
                  <a:pt x="6226" y="13165"/>
                  <a:pt x="6251" y="13305"/>
                  <a:pt x="6350" y="13494"/>
                </a:cubicBezTo>
                <a:cubicBezTo>
                  <a:pt x="6526" y="13376"/>
                  <a:pt x="6538" y="13214"/>
                  <a:pt x="6400" y="13022"/>
                </a:cubicBezTo>
                <a:cubicBezTo>
                  <a:pt x="6332" y="12927"/>
                  <a:pt x="6272" y="12948"/>
                  <a:pt x="6176" y="12948"/>
                </a:cubicBezTo>
              </a:path>
              <a:path w="2977" h="1390">
                <a:moveTo>
                  <a:pt x="6226" y="12551"/>
                </a:moveTo>
                <a:cubicBezTo>
                  <a:pt x="6227" y="12560"/>
                  <a:pt x="6272" y="12713"/>
                  <a:pt x="6300" y="12626"/>
                </a:cubicBezTo>
                <a:cubicBezTo>
                  <a:pt x="6313" y="12586"/>
                  <a:pt x="6235" y="12479"/>
                  <a:pt x="6276" y="126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13120" y="5518080"/>
            <a:ext cx="536760" cy="482760"/>
          </a:xfrm>
          <a:custGeom>
            <a:avLst/>
            <a:gdLst/>
            <a:ahLst/>
            <a:rect l="l" t="t" r="r" b="b"/>
            <a:pathLst>
              <a:path w="1489" h="1341">
                <a:moveTo>
                  <a:pt x="11088" y="15751"/>
                </a:moveTo>
                <a:cubicBezTo>
                  <a:pt x="11167" y="15636"/>
                  <a:pt x="11152" y="15622"/>
                  <a:pt x="11137" y="15478"/>
                </a:cubicBezTo>
                <a:cubicBezTo>
                  <a:pt x="10740" y="15326"/>
                  <a:pt x="10694" y="15520"/>
                  <a:pt x="10592" y="15900"/>
                </a:cubicBezTo>
                <a:cubicBezTo>
                  <a:pt x="10831" y="16028"/>
                  <a:pt x="10971" y="15808"/>
                  <a:pt x="11162" y="15577"/>
                </a:cubicBezTo>
                <a:cubicBezTo>
                  <a:pt x="11170" y="15569"/>
                  <a:pt x="11179" y="15561"/>
                  <a:pt x="11187" y="15553"/>
                </a:cubicBezTo>
                <a:cubicBezTo>
                  <a:pt x="11126" y="15885"/>
                  <a:pt x="11084" y="16218"/>
                  <a:pt x="10988" y="16545"/>
                </a:cubicBezTo>
                <a:cubicBezTo>
                  <a:pt x="10936" y="16722"/>
                  <a:pt x="10903" y="16684"/>
                  <a:pt x="11038" y="16495"/>
                </a:cubicBezTo>
              </a:path>
              <a:path w="1489" h="1341">
                <a:moveTo>
                  <a:pt x="11559" y="15751"/>
                </a:moveTo>
                <a:cubicBezTo>
                  <a:pt x="11445" y="15964"/>
                  <a:pt x="11210" y="16310"/>
                  <a:pt x="11261" y="16570"/>
                </a:cubicBezTo>
                <a:cubicBezTo>
                  <a:pt x="11286" y="16595"/>
                  <a:pt x="11311" y="16619"/>
                  <a:pt x="11336" y="16644"/>
                </a:cubicBezTo>
                <a:cubicBezTo>
                  <a:pt x="11640" y="16492"/>
                  <a:pt x="11812" y="16254"/>
                  <a:pt x="11733" y="15875"/>
                </a:cubicBezTo>
                <a:cubicBezTo>
                  <a:pt x="11695" y="15692"/>
                  <a:pt x="11566" y="15720"/>
                  <a:pt x="11435" y="15677"/>
                </a:cubicBezTo>
              </a:path>
              <a:path w="1489" h="1341">
                <a:moveTo>
                  <a:pt x="12005" y="15329"/>
                </a:moveTo>
                <a:cubicBezTo>
                  <a:pt x="11948" y="15392"/>
                  <a:pt x="11907" y="15425"/>
                  <a:pt x="11881" y="15503"/>
                </a:cubicBezTo>
                <a:cubicBezTo>
                  <a:pt x="11946" y="15490"/>
                  <a:pt x="12207" y="15339"/>
                  <a:pt x="12005" y="15354"/>
                </a:cubicBezTo>
                <a:cubicBezTo>
                  <a:pt x="11972" y="15362"/>
                  <a:pt x="11939" y="15371"/>
                  <a:pt x="11906" y="153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25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75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75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20:08:12Z</dcterms:created>
  <dc:creator>TAMMY  COON</dc:creator>
  <dc:description/>
  <dc:language>en-US</dc:language>
  <cp:lastModifiedBy>deanne elizabeth mcgrath</cp:lastModifiedBy>
  <dcterms:modified xsi:type="dcterms:W3CDTF">2011-02-04T19:14:59Z</dcterms:modified>
  <cp:revision>19</cp:revision>
  <dc:subject/>
  <dc:title>Unit 6: Geometry</dc:title>
</cp:coreProperties>
</file>